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100980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240" y="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6200" y="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781200" y="747360"/>
            <a:ext cx="5295600" cy="359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240" y="917748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6200" y="917748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B0660C4-D9E1-43E0-88A7-CFC8E7EC4180}" type="slidenum"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 m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따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달라질 수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지 않고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ull sc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는 이유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 m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oose(default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기 때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7.2.X : optimize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LTP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소량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맞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작성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COM_IDX1 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할 수도 있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7.3.X : data warehousing, batch processing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대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choose, all_rows(DWH),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결합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첫번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서 상수와 비교되어야 해당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ested loop : driving 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고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작을 수록 유리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같은 조건이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의 뒷쪽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riving 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 merge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스스로 일의 양을 줄일수 있는 경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hash join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연결고리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hash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함수로 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memor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상에서 이루어져 속도 향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대용량에 유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only 7.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순서로하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ested loop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수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80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으로 줄어든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로 인하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istinc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무의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_mode=choose(default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analy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과 그렇지 않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함께 사용될 때 일관성 있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작성하지 못함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4pag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_mode=first_rows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라고 지정하여 사용하는 것이 좋다고 되어 있으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업무의 성격에 따라 다르게 사용하는 것이 좋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(OLTP:first_rows, BATCH:all_row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 m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oos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통계정보의 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무에 따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BO/RBO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결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통계정보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nalyze table compute/estimate/delete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BO : 20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여가지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따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naly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emp tablespace si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 si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배정도 되어야 다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ppl.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영향을 주지 않는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구성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일부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나타나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일부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나타나는 경우에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는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첫번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사용하면 해당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나타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모두 결합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구성하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의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여 해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결합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5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까지는 정확하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여 찾아내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 이후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ange sc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줄이는 방법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un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기본 원리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처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tabl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해야 원하는 결과를 얻을 수 있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batch process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유리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 min, max, sum, group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처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OL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과정에서는  부분범위처리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ocu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운반단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array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주범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먼저 읽혀지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riving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범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나중에 읽혀지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ecking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이용하여 주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 조건을 변경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대한 규정을 어떻게 하느냐에 따라서 수행속도에 얼마나 많은 영향을 주는가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변형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충분히 사용못함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ull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현재 미결정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미지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없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ull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값을 다른 유일한 값으로 약속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‘X’,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st_menu_id varchar2(10)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default ‘X’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not n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주어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AR_, BOX_C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대하여 가장 최근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O_DAT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찾아 그에 해당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TOCK_Q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가져오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독립적으로 먼저 풀려 이조건에 맞는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원하는 대로가 아닌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여러 건의 레코드가 리턴됨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IO_DATE = ‘19980216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relative subqu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동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는 문제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x -&gt; sorting -&gt;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in 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 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넘겨주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수만큼 일이 많아진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hin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해당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bject(index)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환경이 제대로 준비되어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x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중복제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장 큰값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효율적인 처리를 위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분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x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 : index_desc, rownum=1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in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 : index_asc, rownum=1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97 pag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림 참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iz ru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적용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_TAB : 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EPT=:B7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조건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들어가면 안되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나중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되어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일자 정보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YY, MM, DD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나뉘어져 있으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조건 검색시 합쳐서 잘못 사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colum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변형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불가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고방식 전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any idea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기간을 연별로 나누고 월별로 나눠서 검색 조건을 주면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_TAB : 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사용하여 복잡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구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입력변수는 하나의 값이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ua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가져올 필요없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B21=‘Y’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B21 is not nul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ual 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남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: sorting 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중복 제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all : no sorting 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중복이 없으리라 예상되는 경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오늘 날짜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의 조건에 넣어 처리하고자 할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뿐만아니라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서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ysdat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많은 사용자일때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table contention(sys.du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불필요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ual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제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위의 경우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aracter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일 경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like, betwee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e type : DAT = sysdate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분초까지 비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 between trunc(sysdate) and trunc(sysdate) +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0.999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o_char(DAT, ‘yyyymmdd’) = to_char(sysdate, ‘yyyymmdd’) : no ind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간계산이 필요없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단순히 날짜만 저장하는 경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.character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유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면 의도하지 않는 방향으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수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도는 비상하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의 특성상 나쁜쪽으로 통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풀다가 안되면 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full sc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al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변환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17 page 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잘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미지수와 상수의 비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17 page 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잘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안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 :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선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query 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처리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인하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ncatenation -&gt;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같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, I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들어가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조건은 가능하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all, decod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등을 사용하게 변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특성을 잘 활용하면 보다 효율적으로 처리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ynamic 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잘 모르는 경우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rogram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최악의 경우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수행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수행 속도 이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여러번 나올 경우 가장 뒤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터 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확률이 가장 많은 조건을 뒷쪽에 기술한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에서 공통점을 찾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으로 통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(BA003DM)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면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면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loop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내에서 반복 수행되는 형태였다면 상당한 수행 속도 개선 효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동일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대하여 비슷한 유형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을 사용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을 하나로 통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f ... then ... else : decode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배 이상의 처리 속도 향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29 page DACT_MH, 0))), 0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ecode : data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조건 비교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과도하게 사용시 수행 성능 저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etch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pu, elapsed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 level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상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rogram logic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으로 해결 권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group b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의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되므로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parallel quer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하지 않으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불필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능한 많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러나 꼭 필요한 경우에만 사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ind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변수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일치하지 않으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불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생성시에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inding vari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무엇인지 모르기 때문에 정상적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(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한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생성되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bind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후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일치하지 않아 내부 변형이 일어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지 못함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실제로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ull sca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o_number(EMPNO) = :B2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형태로 내부변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MPNO = to_char(:B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rac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정보가 충분하지 않을 수도 있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modell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잘못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numbe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바꾸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시 불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mpno like ‘1%’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o_char(empno) like  ‘1%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ppl.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성향을 반영하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modell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해야하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렇지 않으면 반드시 대가를 치른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ar, varchar2 &lt; number, date &lt; lik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연산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&lt; char, varchar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자리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ar(1byte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(varchar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by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설계단계에서 원자화하지 않은 컬럼이 코딩단계에서 어떤 문제로 나타나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수행 속도에 어떠한 영향을 주는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후보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HISCODE_PK1, THISINPT_IDX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지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K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우선이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순서로 되리라 예상되나 이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존재하지 않는 연결고리 이상 발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러한 경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상대방이 먼저 풀리게 되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, A, B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순서로 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때 연결고리가되는 부분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str(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사용하였기 때문에 변형이 일어나 적절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HISCODE_PK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충분히 활용하지 못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modell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물리적 설계로 옮겨갈때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러한 원자화 부분을 어떻게 할지를 충분히 고려하지 않고 개발하였기 때문에 이러한 문제 발생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A7E27-CA48-4469-9E5B-049A7A91E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3D072-26DD-42EC-8F02-1758B3619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470E2-FE6F-4568-BF5E-A1866F322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224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9616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868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224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9616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45541-E8EF-43B6-91A6-5D54D6496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17560" y="228600"/>
            <a:ext cx="818208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0A60D-F7F8-48FD-A577-EF1FD5126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1224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9616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2868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1224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89616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1BFDA-2CF5-45E5-B57D-391E7E9CE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1E09C-E7FF-415A-BE5C-F03AF9B04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68C43-5B39-4A1B-9006-8B4F2822C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17560" y="228600"/>
            <a:ext cx="818208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B11E9-0FA6-48F6-8FE9-D96B05B79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98740-DE33-406F-BF60-81E033D83A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213E2-A69F-4718-AAB8-6EA11B563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3BE81-1D86-4B23-B0CC-4B98E9BA0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39400" y="6585120"/>
            <a:ext cx="3281400" cy="2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0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&lt;footer&gt;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대전지원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72520" y="6552720"/>
            <a:ext cx="758880" cy="3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02C9-E3B3-4BFC-9911-16C9D4AC6BB5}" type="slidenum">
              <a:rPr b="1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346040" y="838080"/>
            <a:ext cx="866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2800" y="75600"/>
            <a:ext cx="1032480" cy="83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Tu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666720" indent="-28584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3" marL="15048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4" marL="19242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5" marL="19242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6" marL="19242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52320" y="3389400"/>
            <a:ext cx="5305680" cy="3876120"/>
          </a:xfrm>
          <a:prstGeom prst="roundRect">
            <a:avLst>
              <a:gd name="adj" fmla="val 76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DISTINCT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B.CLASS, COUNT(B.CL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OL A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OM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YEAR = B.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HOUSE = B.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SERIAL_NO = B.SERIA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AMT &g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DATE &lt; '950501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CLASS IN ( 'C', 'Y', 'I', 'P'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B.CLAS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02040" y="243000"/>
            <a:ext cx="6351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"/>
              </a:rPr>
              <a:t>1. OPTIMIZER M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"/>
              </a:rPr>
              <a:t>에 따른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34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8440" y="912960"/>
            <a:ext cx="687564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8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OL  A : COL_PK1  : YEAR  + HOUSE + SERIAL_NO + HS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OM  B : COM_IX   : YEAR  + HOUSE + SERIA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COM  B : COM_IDX1 : CLASS +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8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65560" y="3951360"/>
            <a:ext cx="4789800" cy="2083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  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564   SORT (GROUP B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564    NESTED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361     TABLE ACCESS (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FULL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 OF 'COM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437     TABLE ACCESS (BY ROWID) OF 'COL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437      INDEX (RANGE SCAN) OF 'COL_PK1'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29600" y="3862440"/>
            <a:ext cx="2643120" cy="919080"/>
          </a:xfrm>
          <a:custGeom>
            <a:avLst/>
            <a:gdLst>
              <a:gd name="textAreaLeft" fmla="*/ 97560 w 2643120"/>
              <a:gd name="textAreaRight" fmla="*/ 2545560 w 2643120"/>
              <a:gd name="textAreaTop" fmla="*/ 33840 h 919080"/>
              <a:gd name="textAreaBottom" fmla="*/ 734040 h 919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861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COM Table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Full Table Scan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이유는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972280" y="4856040"/>
            <a:ext cx="6771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78E8D-0E55-4056-BEA0-DACDBE3E40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060800" y="1833480"/>
            <a:ext cx="54144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8480" y="1833480"/>
            <a:ext cx="41112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5760" y="1414440"/>
            <a:ext cx="2062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THISINPT_ID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-6480" y="5857920"/>
            <a:ext cx="17960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INPT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6000" y="184644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841400"/>
            <a:ext cx="104616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27920" y="1312920"/>
            <a:ext cx="15674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IN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5400" y="6086520"/>
            <a:ext cx="18190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+ INPTC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17400" y="1414440"/>
            <a:ext cx="21207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THISCODE_P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00560" y="1841400"/>
            <a:ext cx="108756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46040" y="1312920"/>
            <a:ext cx="16758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96960" y="5937120"/>
            <a:ext cx="194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CODEGUB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+ CODE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36920" y="2540160"/>
            <a:ext cx="1400040" cy="94608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36920" y="2606760"/>
            <a:ext cx="1379520" cy="1154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36920" y="4640040"/>
            <a:ext cx="1371600" cy="261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56600" y="1833480"/>
            <a:ext cx="40140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12040" y="1841400"/>
            <a:ext cx="100332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85880" y="1312920"/>
            <a:ext cx="16560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PB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80320" y="2881440"/>
            <a:ext cx="996840" cy="301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7780320" y="3414600"/>
            <a:ext cx="976320" cy="42408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80320" y="4772160"/>
            <a:ext cx="1006560" cy="185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60320" y="1973160"/>
            <a:ext cx="982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045120" y="2881080"/>
            <a:ext cx="1281240" cy="90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045120" y="3832200"/>
            <a:ext cx="1298520" cy="58752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045120" y="4784760"/>
            <a:ext cx="1298520" cy="239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6680" y="1414440"/>
            <a:ext cx="21009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THISPBSC_P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19760" y="5857920"/>
            <a:ext cx="17960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PBSCID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67120" y="1971720"/>
            <a:ext cx="982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42440" y="243000"/>
            <a:ext cx="56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5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인덱스 컬럼의 분리에 따른 문제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1846440"/>
            <a:ext cx="1207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32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5920" y="193500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71840" y="1846440"/>
            <a:ext cx="982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17080" y="3673440"/>
            <a:ext cx="817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7560" y="2887560"/>
            <a:ext cx="385920" cy="2038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63040" y="2967120"/>
            <a:ext cx="397440" cy="2035080"/>
            <a:chOff x="563040" y="2967120"/>
            <a:chExt cx="397440" cy="2035080"/>
          </a:xfrm>
        </p:grpSpPr>
        <p:sp>
          <p:nvSpPr>
            <p:cNvPr id="241" name=""/>
            <p:cNvSpPr/>
            <p:nvPr/>
          </p:nvSpPr>
          <p:spPr>
            <a:xfrm>
              <a:off x="628560" y="296712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60480" y="2967120"/>
              <a:ext cx="0" cy="20350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63040" y="50022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7365960" y="2836800"/>
            <a:ext cx="38268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22200" y="3198960"/>
            <a:ext cx="1038240" cy="576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222200" y="2549160"/>
            <a:ext cx="1098720" cy="41292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7520" y="4822920"/>
            <a:ext cx="1103400" cy="92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73400" y="2521080"/>
            <a:ext cx="522360" cy="512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879720" y="2600280"/>
            <a:ext cx="289080" cy="496800"/>
            <a:chOff x="3879720" y="2600280"/>
            <a:chExt cx="289080" cy="496800"/>
          </a:xfrm>
        </p:grpSpPr>
        <p:sp>
          <p:nvSpPr>
            <p:cNvPr id="250" name=""/>
            <p:cNvSpPr/>
            <p:nvPr/>
          </p:nvSpPr>
          <p:spPr>
            <a:xfrm>
              <a:off x="3924360" y="2600280"/>
              <a:ext cx="23472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68800" y="2600280"/>
              <a:ext cx="0" cy="49680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3879720" y="3097080"/>
              <a:ext cx="27936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073400" y="3409920"/>
            <a:ext cx="522360" cy="609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873240" y="3490920"/>
            <a:ext cx="309960" cy="630360"/>
            <a:chOff x="3873240" y="3490920"/>
            <a:chExt cx="309960" cy="630360"/>
          </a:xfrm>
        </p:grpSpPr>
        <p:sp>
          <p:nvSpPr>
            <p:cNvPr id="255" name=""/>
            <p:cNvSpPr/>
            <p:nvPr/>
          </p:nvSpPr>
          <p:spPr>
            <a:xfrm>
              <a:off x="3924360" y="3490920"/>
              <a:ext cx="247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83200" y="3490920"/>
              <a:ext cx="0" cy="6303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873240" y="4121280"/>
              <a:ext cx="29844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073400" y="4576680"/>
            <a:ext cx="522360" cy="319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873240" y="4638600"/>
            <a:ext cx="295560" cy="346320"/>
            <a:chOff x="3873240" y="4638600"/>
            <a:chExt cx="295560" cy="346320"/>
          </a:xfrm>
        </p:grpSpPr>
        <p:sp>
          <p:nvSpPr>
            <p:cNvPr id="260" name=""/>
            <p:cNvSpPr/>
            <p:nvPr/>
          </p:nvSpPr>
          <p:spPr>
            <a:xfrm>
              <a:off x="3919680" y="4638600"/>
              <a:ext cx="23796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68800" y="4638600"/>
              <a:ext cx="0" cy="34632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873240" y="4984920"/>
              <a:ext cx="28404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316400" y="25542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16400" y="28926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16400" y="34146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16400" y="357336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16400" y="374652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16400" y="46116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16040" y="273852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16040" y="4753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08120" y="390060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14840" y="2793960"/>
            <a:ext cx="1060560" cy="173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21320" y="4829040"/>
            <a:ext cx="1020600" cy="216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11600" y="3970440"/>
            <a:ext cx="1087560" cy="43956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65960" y="3792600"/>
            <a:ext cx="38268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65960" y="4748040"/>
            <a:ext cx="38268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942400" y="3164040"/>
            <a:ext cx="723960" cy="4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943840" y="3443400"/>
            <a:ext cx="722520" cy="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8970840" y="3630600"/>
            <a:ext cx="695520" cy="1309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C329E-34DB-41AD-A0C7-59BA4F3FE8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242440" y="243000"/>
            <a:ext cx="56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5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인덱스 컬럼의 분리에 따른 문제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600" y="1103400"/>
            <a:ext cx="9701280" cy="22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.INPTCHRS  =  SUBSTR(A.CODENAME, 1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THISINPT(C) --&gt; THISCODE(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THISCODE(A) --&gt; THISINPT(C) --&gt; THISPBSC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82680" y="3462480"/>
            <a:ext cx="7645320" cy="3062160"/>
          </a:xfrm>
          <a:prstGeom prst="roundRect">
            <a:avLst>
              <a:gd name="adj" fmla="val 5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/*+ ORDERED */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PTIDNO,INPTPKND,INPT,   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THISCODE  A, THISINPT  C, THISPBSC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.INPTCHRS  =  SUBSTR(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.CODENAM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, 1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.INPTDATE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C.INPTGUBN  IN  ('A','B')  AND  C.INPTBYBY  LIKE  '1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C.INPTIDNO  =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PBSC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.CODEGUBN  =  '11'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58CCE-7F93-43D7-B95B-144D3E77F2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-443160" y="3213000"/>
            <a:ext cx="7327440" cy="202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DE, ' '), NVL(EDSC, ' 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CODE  LIKE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SERL||'' = 'CA'  OR  SERL||'' = 'DA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ROWNUM &lt; 2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312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6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도적 인덱스 컬럼의 변형시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2600" y="1103400"/>
            <a:ext cx="9567720" cy="19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GA : SUGA_CODE_SE_PK : CODE + SE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GA : SUGA_SERL_IX    : SERL + ED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GA : SUGA_SERL_IX2   : PART_CODE + EDSC + SERL + MODE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95520" y="4921200"/>
            <a:ext cx="6351840" cy="2039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  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0   COUNT (STOPKE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0    TABLE ACCESS (BY ROWID) OF 'SUGA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6581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INDEX (RANGE SCAN) OF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'SUGA_CODE_SE_PK'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82242-FD46-4177-A84F-0136D5AABE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97000" y="1192320"/>
            <a:ext cx="9567720" cy="53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NVL(CODE, ' '), NVL(EDSC, ' 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CODE  LIKE 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AND   SERL IN ('CA' , 'DA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 ROWNUM &lt; 21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IN --&gt; OR --&gt; OR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와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ROWNUM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같이 사용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--&gt; FILTER --&gt;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전체범위 처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DE, ' '), NVL(EDSC, ' 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(SELECT  CODE, ED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S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ODE LIKE :B1 AND SERL = 'CA'     &lt;---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첫번째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UNION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DE, ED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S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ODE LIKE :B1 AND SERL = 'DA')   &lt;---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두 번째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ROWNUM &lt; 21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UGA_CODE_SE_PK : SERL +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312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6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도적 인덱스 컬럼의 변형시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2480" y="1822320"/>
            <a:ext cx="5440320" cy="14162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2480" y="3710160"/>
            <a:ext cx="7239240" cy="238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44C41-4A2D-417E-BFBE-62EDC35FFB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552600" y="3195720"/>
            <a:ext cx="7615080" cy="1891080"/>
          </a:xfrm>
          <a:prstGeom prst="roundRect">
            <a:avLst>
              <a:gd name="adj" fmla="val 1389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WG_Q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DR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WHERE  DWG1  ||  DWG2 || DWG3   &gt;  :DWG1 ||  :DWG2  ||  :DW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ROWNUM  = 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384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7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컬럼값을 연결하여 사용할 때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2600" y="1103400"/>
            <a:ext cx="9567720" cy="20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AWING : DWG_X1  : DW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AWING : DWG_X2  : DW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AWING : DWG_X3  : DW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39160" y="4844880"/>
            <a:ext cx="7455240" cy="1708200"/>
            <a:chOff x="839160" y="4844880"/>
            <a:chExt cx="7455240" cy="1708200"/>
          </a:xfrm>
        </p:grpSpPr>
        <p:sp>
          <p:nvSpPr>
            <p:cNvPr id="295" name=""/>
            <p:cNvSpPr/>
            <p:nvPr/>
          </p:nvSpPr>
          <p:spPr>
            <a:xfrm>
              <a:off x="839880" y="5624640"/>
              <a:ext cx="7454520" cy="91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4      3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 4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&gt;       4       3  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3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 2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35       &gt;       0  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2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3      2       &gt; 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1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3      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39160" y="5237280"/>
              <a:ext cx="7454520" cy="366840"/>
            </a:xfrm>
            <a:prstGeom prst="rect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DWG1   DWG2   DWG3            :DWG1   :DWG2   :DWG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31520" y="4844880"/>
              <a:ext cx="5863320" cy="366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66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800" spc="-1" strike="noStrike">
                  <a:solidFill>
                    <a:srgbClr val="000066"/>
                  </a:solidFill>
                  <a:latin typeface="굴림체"/>
                  <a:ea typeface="굴림체"/>
                </a:rPr>
                <a:t>컬럼값        크기비교        입력변수값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40120" y="4846680"/>
              <a:ext cx="0" cy="169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37040" y="4861080"/>
              <a:ext cx="0" cy="169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56BC3-17C5-446C-AAA2-196B0B18D0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83320" y="1214280"/>
            <a:ext cx="3953160" cy="14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체"/>
                <a:ea typeface="돋움체"/>
              </a:rPr>
              <a:t>컬럼값과 변수값의 길이가 동일하다는 전제조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47520" y="2620800"/>
            <a:ext cx="9685080" cy="2377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/*+ USE_CONCA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WG_Q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DR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  (DWG1 = :DWG1  AND  DWG2 = :DWG2  AND  DWG3 &gt; :DWG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(DWG1 = :DWG1  AND  DWG2 &gt; :DWG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(DWG1 &gt; :DWG1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ROWNUM  = 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384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7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컬럼값을 연결하여 사용할 때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7AB46-1E6C-4CA3-AEE8-C186645272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901880" y="243000"/>
            <a:ext cx="6168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8. LOOP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내에 사용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2600" y="1103400"/>
            <a:ext cx="956772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109 : A109_IND1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JHCOD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5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114120" y="2308320"/>
            <a:ext cx="9605520" cy="12834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SEQ   INTO  :WW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A1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JHCO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SUBSTR (JEPUM, 1, :LEN1)  =  SUBSTR (:WWJEPUM , 1, :LEN1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82520" y="3610080"/>
            <a:ext cx="7635960" cy="4354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ALL         COUNT      CPU     ELAPSED       DISK    QUERY     CURRENT     R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   ------- --------  ---------- ---------- -------- ----------- 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PARSE            1     0.00        0.00          0        0           0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EXECUTE      41722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25.29       36.67          0        0           0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ETCH        41722  3677.99     4516.42     255667 17066322           0    417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   ------- --------  ---------- ---------- -------- ----------- 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OTAL        83444  3703.28     4553.09     255667 17066322           0    417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   ---------------------------------------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  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 SELECT  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8449717     TABLE  ACCESS  (BY  ROWID)  OF  'A109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8491439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 (RANGE  SCAN)  OF 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'A109_IND1'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( NON -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C55E4-07B3-4794-9587-30CCA1D1ED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9640" y="228600"/>
            <a:ext cx="81788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8. LOOP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내에 사용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주의점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524880" cy="289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476280" algn="just">
              <a:lnSpc>
                <a:spcPct val="130000"/>
              </a:lnSpc>
              <a:buClr>
                <a:srgbClr val="ff3300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WHERE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문 수정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</a:rPr>
              <a:t>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</a:rPr>
              <a:t>SUBSTR(JEPU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, 1, :LEN1) = SUBSTR(:WWJEPUM, 1, :LEN1) 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==&gt;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</a:rPr>
              <a:t>JEPUM  LIK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 SUBSTR(:WWJEPUM, 1, :LEN1) || '%'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476280" algn="just">
              <a:lnSpc>
                <a:spcPct val="130000"/>
              </a:lnSpc>
              <a:buClr>
                <a:srgbClr val="ff3300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 수정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476280" indent="0" algn="just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A109 : A109_IND1 : JHCOD +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</a:rPr>
              <a:t>JEPUM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09" name=""/>
          <p:cNvSpPr/>
          <p:nvPr/>
        </p:nvSpPr>
        <p:spPr>
          <a:xfrm>
            <a:off x="-352800" y="4353480"/>
            <a:ext cx="8865720" cy="1808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152280" bIns="15228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 :WW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A1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JHCO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JEPUM  LIKE  SUBSTR(:WWJEPUM, 1, :LEN1) || '%'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6880" y="1822320"/>
            <a:ext cx="7424640" cy="2286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3575E-3DDA-437D-BA90-4856C76660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712880" y="27622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0       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12880" y="30574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돋움"/>
              </a:rPr>
              <a:t>A             111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12880" y="3346560"/>
            <a:ext cx="22510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2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14520" y="2422440"/>
            <a:ext cx="260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1        COL2 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72360" y="266868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64920" y="2422440"/>
            <a:ext cx="255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2       COL1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65520" y="317664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27120" y="315288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92160" y="432288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667360" y="433548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67680" y="499752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73280" y="1130400"/>
            <a:ext cx="4408560" cy="1157040"/>
          </a:xfrm>
          <a:custGeom>
            <a:avLst/>
            <a:gdLst/>
            <a:ahLst/>
            <a:rect l="l" t="t" r="r" b="b"/>
            <a:pathLst>
              <a:path w="2777" h="729">
                <a:moveTo>
                  <a:pt x="0" y="2"/>
                </a:moveTo>
                <a:lnTo>
                  <a:pt x="0" y="567"/>
                </a:lnTo>
                <a:lnTo>
                  <a:pt x="651" y="567"/>
                </a:lnTo>
                <a:lnTo>
                  <a:pt x="496" y="703"/>
                </a:lnTo>
                <a:lnTo>
                  <a:pt x="755" y="567"/>
                </a:lnTo>
                <a:lnTo>
                  <a:pt x="1591" y="567"/>
                </a:lnTo>
                <a:lnTo>
                  <a:pt x="2776" y="728"/>
                </a:lnTo>
                <a:lnTo>
                  <a:pt x="1891" y="567"/>
                </a:lnTo>
                <a:lnTo>
                  <a:pt x="2483" y="568"/>
                </a:lnTo>
                <a:lnTo>
                  <a:pt x="2483" y="0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14840" y="4659480"/>
            <a:ext cx="6955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75240" y="4925880"/>
            <a:ext cx="71136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035600" y="3478320"/>
            <a:ext cx="6919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38120" y="603252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1 + COL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45040" y="603252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2 + COL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42880" y="243000"/>
            <a:ext cx="833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처리 범위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둘 다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'='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로 쓰인 경우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284880" y="2762280"/>
            <a:ext cx="2249640" cy="3377520"/>
            <a:chOff x="6284880" y="2762280"/>
            <a:chExt cx="2249640" cy="3377520"/>
          </a:xfrm>
        </p:grpSpPr>
        <p:sp>
          <p:nvSpPr>
            <p:cNvPr id="330" name=""/>
            <p:cNvSpPr/>
            <p:nvPr/>
          </p:nvSpPr>
          <p:spPr>
            <a:xfrm>
              <a:off x="6284880" y="27622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0            A              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84880" y="30574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0            B              4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84880" y="334656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0            C              5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84880" y="364500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1            A              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84880" y="392904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1            B              3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84880" y="42292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1            C              76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84880" y="4516560"/>
              <a:ext cx="2249640" cy="2840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ff3300"/>
                  </a:solidFill>
                  <a:latin typeface="Arial"/>
                  <a:ea typeface="돋움"/>
                </a:rPr>
                <a:t>112            A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              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84880" y="481500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2            B              7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84880" y="51148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2            C              89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84880" y="5407200"/>
              <a:ext cx="2249640" cy="4755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3            A             18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84880" y="5664240"/>
              <a:ext cx="2249640" cy="4755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4            A             22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712880" y="42292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5           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12880" y="364500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3            18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12880" y="392904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4           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12880" y="4516560"/>
            <a:ext cx="224784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6           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12880" y="481500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7           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12880" y="51148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8            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12880" y="540720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0  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12880" y="568656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1   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50760" y="3506760"/>
            <a:ext cx="71136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74800" y="1166760"/>
            <a:ext cx="38491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SELECT *  FROM  TAB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WHERE  COL1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  (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분포도가 넓다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ND  COL2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=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112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(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분포도가 좁다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598960" y="467532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23840" y="3011400"/>
            <a:ext cx="114804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76560" y="3005280"/>
            <a:ext cx="468360" cy="4237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607FC-BF2C-4CB4-9C68-F0654F6E8E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824120" y="273996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0       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4120" y="3029040"/>
            <a:ext cx="226692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1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            </a:t>
            </a:r>
            <a:r>
              <a:rPr b="1" lang="ko-KR" sz="1400" spc="-1" strike="noStrike">
                <a:solidFill>
                  <a:srgbClr val="3333cc"/>
                </a:solidFill>
                <a:latin typeface="Arial"/>
                <a:ea typeface="돋움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24120" y="3346560"/>
            <a:ext cx="226692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2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4120" y="422928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5           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24120" y="3645000"/>
            <a:ext cx="226692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3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            </a:t>
            </a:r>
            <a:r>
              <a:rPr b="1" lang="ko-KR" sz="1400" spc="-1" strike="noStrike">
                <a:solidFill>
                  <a:srgbClr val="3333cc"/>
                </a:solidFill>
                <a:latin typeface="Arial"/>
                <a:ea typeface="돋움"/>
              </a:rPr>
              <a:t>18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4120" y="392904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4           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4120" y="4516560"/>
            <a:ext cx="22636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6           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24120" y="481500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7           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24120" y="511488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8            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24120" y="540720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0  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24120" y="568656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1   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25760" y="2343240"/>
            <a:ext cx="260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1       COL2  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10680" y="265284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6600" y="2343240"/>
            <a:ext cx="255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2       COL1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84760" y="368460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99760" y="329076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92160" y="312912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66240" y="540216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22200" y="404172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35160" y="2982960"/>
            <a:ext cx="98244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24400" y="1015920"/>
            <a:ext cx="4549680" cy="1154160"/>
          </a:xfrm>
          <a:custGeom>
            <a:avLst/>
            <a:gdLst/>
            <a:ahLst/>
            <a:rect l="l" t="t" r="r" b="b"/>
            <a:pathLst>
              <a:path w="2866" h="727">
                <a:moveTo>
                  <a:pt x="0" y="2"/>
                </a:moveTo>
                <a:lnTo>
                  <a:pt x="0" y="565"/>
                </a:lnTo>
                <a:lnTo>
                  <a:pt x="672" y="565"/>
                </a:lnTo>
                <a:lnTo>
                  <a:pt x="512" y="701"/>
                </a:lnTo>
                <a:lnTo>
                  <a:pt x="779" y="565"/>
                </a:lnTo>
                <a:lnTo>
                  <a:pt x="1642" y="565"/>
                </a:lnTo>
                <a:lnTo>
                  <a:pt x="2865" y="726"/>
                </a:lnTo>
                <a:lnTo>
                  <a:pt x="1952" y="565"/>
                </a:lnTo>
                <a:lnTo>
                  <a:pt x="2562" y="567"/>
                </a:lnTo>
                <a:lnTo>
                  <a:pt x="2562" y="0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14840" y="3465360"/>
            <a:ext cx="6955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8632440" y="4352400"/>
            <a:ext cx="576360" cy="180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75240" y="5791320"/>
            <a:ext cx="71136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05960" y="1055520"/>
            <a:ext cx="44006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SELECT *  FROM  TAB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WHERE  COL1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ND    COL2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BETWEEN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11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 AND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113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65200" y="601668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1 + COL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60880" y="597528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2 + COL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42880" y="243000"/>
            <a:ext cx="847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처리 범위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둘 다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'='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로 안 쓰인  경우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85960" y="3184560"/>
            <a:ext cx="0" cy="6969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177800" y="350352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177800" y="379872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177800" y="320040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84880" y="2739960"/>
            <a:ext cx="22654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10            B    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284880" y="3029040"/>
            <a:ext cx="22654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10            C              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84880" y="332748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1            A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84880" y="361152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1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B     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84880" y="391176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1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C              7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284880" y="419904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2            A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284880" y="449748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2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B              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84880" y="479736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2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C              89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284880" y="5089680"/>
            <a:ext cx="2265480" cy="47556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3            A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18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84880" y="5369040"/>
            <a:ext cx="2265480" cy="47556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3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B             44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284880" y="5664240"/>
            <a:ext cx="2265480" cy="47556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14            A             22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32160" y="347184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18360" y="3429000"/>
            <a:ext cx="0" cy="208908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8632440" y="3490920"/>
            <a:ext cx="576360" cy="144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8632440" y="5210280"/>
            <a:ext cx="576360" cy="144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20840" y="2976480"/>
            <a:ext cx="438120" cy="2271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D8BAB-EE35-4BAA-A994-DAD69CA244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9000" y="241200"/>
            <a:ext cx="81802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</a:rPr>
              <a:t>1. OPTIMIZER M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</a:rPr>
              <a:t>에 따른 인덱스 사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320" y="1143000"/>
            <a:ext cx="9526680" cy="163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DISTINCT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불필요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OPTIMIZER MODE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선택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INIT.ORA       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</a:rPr>
              <a:t>OPTIMIZED_MODE = FIRST_ROWS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SQL*PLUS, PRO*C :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SQL&gt;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</a:rPr>
              <a:t> ALTER SESSION SET OPTIMIZER_GOAL = FIRST_ROWS;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94" name=""/>
          <p:cNvSpPr/>
          <p:nvPr/>
        </p:nvSpPr>
        <p:spPr>
          <a:xfrm>
            <a:off x="1165320" y="2741760"/>
            <a:ext cx="5176800" cy="3825360"/>
          </a:xfrm>
          <a:prstGeom prst="roundRect">
            <a:avLst>
              <a:gd name="adj" fmla="val 89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Modern"/>
                <a:ea typeface="바탕체"/>
              </a:rPr>
              <a:t>--+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FIRST_ROWS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.CLASS, COUNT(B.CL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OL A, COM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YEAR = B.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HOUSE = B.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SERIAL_NO = B.SERIA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AMT &g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DATE &lt; '950501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CLASS IN ('Y', 'P', 'I', 'C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B.CLAS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FCE1E-EC66-4D63-800C-EC65DEF941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54120" y="2724120"/>
            <a:ext cx="8580240" cy="2952360"/>
          </a:xfrm>
          <a:prstGeom prst="roundRect">
            <a:avLst>
              <a:gd name="adj" fmla="val 674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ACT_CODE, PART_MODEL_CODE, PART_CHAR_CODE, PART_SPEC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PART_ROUT_CODE, ORDERNO, ITEMNO, DIN_ACT_MH, WORK_ORDER_N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_MODEL_NO, DRAW_NO, MATR_STATUS, WORK_ORDER_DATE, ROW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WORK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ORK_ORDER_DATE LIKE :B1 || '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DEPT_CODE  = :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GROUP_CODE = :B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ACT_CODE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2880" y="243000"/>
            <a:ext cx="746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9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컬럼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760" y="1103400"/>
            <a:ext cx="95677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_WORKPLAN : S_WORKPLAN_IDX : WORK_ORDER_DATE + DEPT_CODE + GROUP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9360" y="5979960"/>
            <a:ext cx="9028080" cy="57312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6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인덱스 칼럼 순서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EPT_CODE + GROUP_CODE + WORK_ORDER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7640" y="4540320"/>
            <a:ext cx="6073920" cy="1797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  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220    SORT (ORDER BY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220      TABLE ACCESS (BY ROWID) OF 'S_WORKPLAN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46026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INDEX (RANGE SCAN) OF 'S_WORKPLAN_IDX' (NON-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C2385-C41A-4511-A3D8-69220E20E1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506600" y="243000"/>
            <a:ext cx="848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9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컬럼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8520" y="1344600"/>
            <a:ext cx="5109480" cy="65772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ORK_ORDER_DATE + DEPT_CODE + GROU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%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54200" y="2355840"/>
            <a:ext cx="84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WORK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90560" y="2894040"/>
            <a:ext cx="2295720" cy="3012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228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           10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A           1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           20   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           30     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B           1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           2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           30   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           40     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           10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C           1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           20   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A           10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256080" y="2881440"/>
            <a:ext cx="2295720" cy="3012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228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0           1           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0           1           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0           1           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           2           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           2           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           2           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           2           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           3           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           3           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30           3           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30           4           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40           4           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52600" y="1344600"/>
            <a:ext cx="5109480" cy="65772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EPT_CODE + GROUP_CODE + WORK_ORDER_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LIK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%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26520" y="273204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02040" y="535932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68080" y="303696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24000" y="573264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5840" y="3646440"/>
            <a:ext cx="15969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54280" y="3049560"/>
            <a:ext cx="0" cy="24955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017960" y="403236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006800" y="526428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019040" y="3260880"/>
            <a:ext cx="54324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29680" y="3639960"/>
            <a:ext cx="515880" cy="1209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55680" y="304020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44960" y="382572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947000" y="3790800"/>
            <a:ext cx="0" cy="50004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76200" y="335592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82640" y="2355840"/>
            <a:ext cx="75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DEPT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63480" y="2355840"/>
            <a:ext cx="93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GROUP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3680" y="2355840"/>
            <a:ext cx="84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WORK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211440" y="2355840"/>
            <a:ext cx="75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DEPT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76440" y="2355840"/>
            <a:ext cx="93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GROUP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81960" y="413064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803920" y="450360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8488440" y="428940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8488440" y="404028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8488440" y="376092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A2EF8-F18A-4525-829A-9B08D7C793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-433440" y="3098880"/>
            <a:ext cx="10760760" cy="2081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SHIPPER, COUNT(*), SUM(AM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EX_SHI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DATE  BETWEE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'950101'  AND  '950430'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&lt;- 4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개월 분량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약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33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만 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HIPPER  I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('A', 'B', 'C'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 SHIPP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SUM(AMT) DESC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2880" y="243000"/>
            <a:ext cx="8645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0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간단한 결합 인덱스지만  컬럼 순서 유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3040" y="1103400"/>
            <a:ext cx="9809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_SHIPPER  : SHIP_DATE_IX  :  SDATE +  SHI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_SHIPPER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의 분포도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 SDATE : 1 / 365 , SHIPPER : 1 /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30880" y="4883040"/>
            <a:ext cx="5155920" cy="2282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 COST ESTIMATE:N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ORT ( GROUP BY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EX_SHIPPER ( 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SHIP_DATE_IX ( NU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41C72-5C30-4315-A4B1-397D357EFA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241000" y="243000"/>
            <a:ext cx="628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0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간단한 결합 인덱스지만  컬럼 순서 유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60560" y="1909800"/>
            <a:ext cx="485640" cy="3903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1120" y="1434960"/>
            <a:ext cx="2199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SHIP_DATE_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01480" y="6018120"/>
            <a:ext cx="16102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DATE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HI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89240" y="1917720"/>
            <a:ext cx="111132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58760" y="1438200"/>
            <a:ext cx="20322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EX_SHI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1555920" y="2362320"/>
            <a:ext cx="1207800" cy="519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55920" y="3054240"/>
            <a:ext cx="1126800" cy="167004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1555920" y="2971800"/>
            <a:ext cx="1207800" cy="34128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422000" y="360360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55920" y="4741920"/>
            <a:ext cx="1126800" cy="439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09960" y="2146320"/>
            <a:ext cx="542880" cy="1955880"/>
          </a:xfrm>
          <a:prstGeom prst="rect">
            <a:avLst/>
          </a:prstGeom>
          <a:solidFill>
            <a:srgbClr val="eaeaea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071880" y="2260440"/>
            <a:ext cx="793800" cy="1303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3086280" y="2881080"/>
            <a:ext cx="779400" cy="903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3013200" y="2476440"/>
            <a:ext cx="852480" cy="22082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013200" y="4021200"/>
            <a:ext cx="852480" cy="1154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92800" y="2540160"/>
            <a:ext cx="5680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92800" y="2768760"/>
            <a:ext cx="5680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2800" y="2997360"/>
            <a:ext cx="5680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32520" y="1909800"/>
            <a:ext cx="488880" cy="3903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71320" y="1471680"/>
            <a:ext cx="2199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SHIP_DATE_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53280" y="6016680"/>
            <a:ext cx="1854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HIPPER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262640" y="1917720"/>
            <a:ext cx="110988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994440" y="1438200"/>
            <a:ext cx="20322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EX_SHI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6359400" y="2362320"/>
            <a:ext cx="1457280" cy="4572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59400" y="4419720"/>
            <a:ext cx="13766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6548400" y="2971800"/>
            <a:ext cx="1187640" cy="1540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359400" y="2743200"/>
            <a:ext cx="1376640" cy="9144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39880" y="2739960"/>
            <a:ext cx="817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534000" y="3876840"/>
            <a:ext cx="1202040" cy="12286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61480" y="2438280"/>
            <a:ext cx="733320" cy="3049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8061480" y="2273040"/>
            <a:ext cx="745920" cy="469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061480" y="2971800"/>
            <a:ext cx="707760" cy="1652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8061480" y="4025520"/>
            <a:ext cx="720720" cy="469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8061480" y="3403440"/>
            <a:ext cx="707760" cy="17020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477360" y="2489040"/>
            <a:ext cx="56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477360" y="2717640"/>
            <a:ext cx="56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477360" y="2946240"/>
            <a:ext cx="56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534000" y="4756320"/>
            <a:ext cx="1041480" cy="9586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39880" y="3525840"/>
            <a:ext cx="817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39880" y="4421160"/>
            <a:ext cx="817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901000" y="2209680"/>
            <a:ext cx="542880" cy="1955880"/>
          </a:xfrm>
          <a:prstGeom prst="rect">
            <a:avLst/>
          </a:prstGeom>
          <a:solidFill>
            <a:srgbClr val="eaeaea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68480" y="2787480"/>
            <a:ext cx="466560" cy="2038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813960" y="2867040"/>
            <a:ext cx="397440" cy="2035080"/>
            <a:chOff x="813960" y="2867040"/>
            <a:chExt cx="397440" cy="2035080"/>
          </a:xfrm>
        </p:grpSpPr>
        <p:sp>
          <p:nvSpPr>
            <p:cNvPr id="485" name=""/>
            <p:cNvSpPr/>
            <p:nvPr/>
          </p:nvSpPr>
          <p:spPr>
            <a:xfrm>
              <a:off x="879480" y="286704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11400" y="2867040"/>
              <a:ext cx="0" cy="20350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813960" y="490212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6040440" y="2754360"/>
            <a:ext cx="466560" cy="399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5785920" y="2833560"/>
            <a:ext cx="397440" cy="400320"/>
            <a:chOff x="5785920" y="2833560"/>
            <a:chExt cx="397440" cy="400320"/>
          </a:xfrm>
        </p:grpSpPr>
        <p:sp>
          <p:nvSpPr>
            <p:cNvPr id="490" name=""/>
            <p:cNvSpPr/>
            <p:nvPr/>
          </p:nvSpPr>
          <p:spPr>
            <a:xfrm>
              <a:off x="5851440" y="283356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183360" y="2833560"/>
              <a:ext cx="0" cy="4003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5785920" y="323388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040440" y="3513240"/>
            <a:ext cx="466560" cy="399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785920" y="3592440"/>
            <a:ext cx="397440" cy="399960"/>
            <a:chOff x="5785920" y="3592440"/>
            <a:chExt cx="397440" cy="399960"/>
          </a:xfrm>
        </p:grpSpPr>
        <p:sp>
          <p:nvSpPr>
            <p:cNvPr id="495" name=""/>
            <p:cNvSpPr/>
            <p:nvPr/>
          </p:nvSpPr>
          <p:spPr>
            <a:xfrm>
              <a:off x="5851440" y="359244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83360" y="3592440"/>
              <a:ext cx="0" cy="3999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5785920" y="39924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040440" y="4378320"/>
            <a:ext cx="466560" cy="399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785920" y="4457880"/>
            <a:ext cx="397440" cy="399960"/>
            <a:chOff x="5785920" y="4457880"/>
            <a:chExt cx="397440" cy="399960"/>
          </a:xfrm>
        </p:grpSpPr>
        <p:sp>
          <p:nvSpPr>
            <p:cNvPr id="500" name=""/>
            <p:cNvSpPr/>
            <p:nvPr/>
          </p:nvSpPr>
          <p:spPr>
            <a:xfrm>
              <a:off x="5851440" y="445788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83360" y="4457880"/>
              <a:ext cx="0" cy="3999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5785920" y="485784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CB9F8-F775-45EE-8A0F-5F4B938C39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241000" y="243000"/>
            <a:ext cx="628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0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간단한 결합 인덱스지만  컬럼 순서 유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9080" y="1255680"/>
            <a:ext cx="4724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HIPPER IN (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C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B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A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HIP_DATE_IX1 : SHIPPER + SDATE + A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218120" y="3406680"/>
            <a:ext cx="444240" cy="262260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20920" y="3043080"/>
            <a:ext cx="2151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HIP_DATE_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78680" y="3770280"/>
            <a:ext cx="504720" cy="1986120"/>
          </a:xfrm>
          <a:prstGeom prst="rect">
            <a:avLst/>
          </a:prstGeom>
          <a:solidFill>
            <a:srgbClr val="ddddd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85280" y="3987720"/>
            <a:ext cx="102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굴림체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78800" y="3981600"/>
            <a:ext cx="102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21640" y="435276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15160" y="434484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21640" y="471636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15160" y="470844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21640" y="507996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15160" y="507204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15080" y="412128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908840" y="404820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7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615080" y="434988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908840" y="427680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7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15080" y="458136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908840" y="450864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7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94960" y="6087960"/>
            <a:ext cx="3111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SHIPPER + SDATE + A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993840" y="3687840"/>
            <a:ext cx="405000" cy="415800"/>
            <a:chOff x="3993840" y="3687840"/>
            <a:chExt cx="405000" cy="415800"/>
          </a:xfrm>
        </p:grpSpPr>
        <p:sp>
          <p:nvSpPr>
            <p:cNvPr id="524" name=""/>
            <p:cNvSpPr/>
            <p:nvPr/>
          </p:nvSpPr>
          <p:spPr>
            <a:xfrm>
              <a:off x="4016520" y="3687840"/>
              <a:ext cx="38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394160" y="369576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3993840" y="410364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4498920" y="3675240"/>
            <a:ext cx="231156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742080" y="3830760"/>
            <a:ext cx="235080" cy="145800"/>
          </a:xfrm>
          <a:custGeom>
            <a:avLst/>
            <a:gdLst/>
            <a:ahLst/>
            <a:rect l="l" t="t" r="r" b="b"/>
            <a:pathLst>
              <a:path w="148" h="92">
                <a:moveTo>
                  <a:pt x="0" y="91"/>
                </a:moveTo>
                <a:lnTo>
                  <a:pt x="22" y="48"/>
                </a:lnTo>
                <a:lnTo>
                  <a:pt x="11" y="0"/>
                </a:lnTo>
                <a:lnTo>
                  <a:pt x="147" y="63"/>
                </a:lnTo>
                <a:lnTo>
                  <a:pt x="0" y="9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538520" y="5079600"/>
            <a:ext cx="220032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672240" y="5014800"/>
            <a:ext cx="233280" cy="146160"/>
          </a:xfrm>
          <a:custGeom>
            <a:avLst/>
            <a:gdLst/>
            <a:ahLst/>
            <a:rect l="l" t="t" r="r" b="b"/>
            <a:pathLst>
              <a:path w="147" h="92">
                <a:moveTo>
                  <a:pt x="7" y="91"/>
                </a:moveTo>
                <a:lnTo>
                  <a:pt x="20" y="43"/>
                </a:lnTo>
                <a:lnTo>
                  <a:pt x="0" y="0"/>
                </a:lnTo>
                <a:lnTo>
                  <a:pt x="146" y="35"/>
                </a:lnTo>
                <a:lnTo>
                  <a:pt x="7" y="9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35640" y="4110120"/>
            <a:ext cx="2261880" cy="8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730920" y="4121280"/>
            <a:ext cx="233280" cy="147600"/>
          </a:xfrm>
          <a:custGeom>
            <a:avLst/>
            <a:gdLst/>
            <a:ahLst/>
            <a:rect l="l" t="t" r="r" b="b"/>
            <a:pathLst>
              <a:path w="147" h="93">
                <a:moveTo>
                  <a:pt x="0" y="92"/>
                </a:moveTo>
                <a:lnTo>
                  <a:pt x="20" y="46"/>
                </a:lnTo>
                <a:lnTo>
                  <a:pt x="5" y="0"/>
                </a:lnTo>
                <a:lnTo>
                  <a:pt x="146" y="50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4538520" y="4470120"/>
            <a:ext cx="227196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748560" y="439740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8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378320" y="368784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378320" y="384012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4552920" y="4765680"/>
            <a:ext cx="221292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703920" y="4699080"/>
            <a:ext cx="231840" cy="147600"/>
          </a:xfrm>
          <a:custGeom>
            <a:avLst/>
            <a:gdLst/>
            <a:ahLst/>
            <a:rect l="l" t="t" r="r" b="b"/>
            <a:pathLst>
              <a:path w="146" h="93">
                <a:moveTo>
                  <a:pt x="6" y="92"/>
                </a:moveTo>
                <a:lnTo>
                  <a:pt x="19" y="44"/>
                </a:lnTo>
                <a:lnTo>
                  <a:pt x="0" y="0"/>
                </a:lnTo>
                <a:lnTo>
                  <a:pt x="145" y="35"/>
                </a:lnTo>
                <a:lnTo>
                  <a:pt x="6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514760" y="5401800"/>
            <a:ext cx="225432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700680" y="5337000"/>
            <a:ext cx="235080" cy="146160"/>
          </a:xfrm>
          <a:custGeom>
            <a:avLst/>
            <a:gdLst/>
            <a:ahLst/>
            <a:rect l="l" t="t" r="r" b="b"/>
            <a:pathLst>
              <a:path w="148" h="92">
                <a:moveTo>
                  <a:pt x="11" y="91"/>
                </a:moveTo>
                <a:lnTo>
                  <a:pt x="21" y="43"/>
                </a:lnTo>
                <a:lnTo>
                  <a:pt x="0" y="0"/>
                </a:lnTo>
                <a:lnTo>
                  <a:pt x="147" y="28"/>
                </a:lnTo>
                <a:lnTo>
                  <a:pt x="11" y="9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46640" y="449100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46640" y="464328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67520" y="520848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367520" y="536400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073480" y="1152360"/>
            <a:ext cx="4872240" cy="1933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ORT  ( GROUP BY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ONCATE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: SHIP_DATE_IX1 ( N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: SHIP_DATE_IX1 ( N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: SHIP_DATE_IX1 ( N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2920" y="3952800"/>
            <a:ext cx="3477240" cy="1361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처리범위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SHIPPER ='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SDATE BETWEEN ...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에 의해서 결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993840" y="4518000"/>
            <a:ext cx="405000" cy="415800"/>
            <a:chOff x="3993840" y="4518000"/>
            <a:chExt cx="405000" cy="415800"/>
          </a:xfrm>
        </p:grpSpPr>
        <p:sp>
          <p:nvSpPr>
            <p:cNvPr id="548" name=""/>
            <p:cNvSpPr/>
            <p:nvPr/>
          </p:nvSpPr>
          <p:spPr>
            <a:xfrm>
              <a:off x="4016520" y="4518000"/>
              <a:ext cx="38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94160" y="452592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993840" y="493380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3993840" y="5262480"/>
            <a:ext cx="405000" cy="416160"/>
            <a:chOff x="3993840" y="5262480"/>
            <a:chExt cx="405000" cy="416160"/>
          </a:xfrm>
        </p:grpSpPr>
        <p:sp>
          <p:nvSpPr>
            <p:cNvPr id="552" name=""/>
            <p:cNvSpPr/>
            <p:nvPr/>
          </p:nvSpPr>
          <p:spPr>
            <a:xfrm>
              <a:off x="4016520" y="5262480"/>
              <a:ext cx="38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94160" y="527040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993840" y="567864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284640" y="4633920"/>
            <a:ext cx="59508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284640" y="3890880"/>
            <a:ext cx="609480" cy="72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71680" y="4651200"/>
            <a:ext cx="622440" cy="696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A8382-C300-4ED2-BFED-3BFC0142D3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3943440" y="2295360"/>
            <a:ext cx="79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21120" y="2201760"/>
            <a:ext cx="128520" cy="201600"/>
          </a:xfrm>
          <a:custGeom>
            <a:avLst/>
            <a:gdLst/>
            <a:ahLst/>
            <a:rect l="l" t="t" r="r" b="b"/>
            <a:pathLst>
              <a:path w="81" h="127">
                <a:moveTo>
                  <a:pt x="0" y="0"/>
                </a:moveTo>
                <a:lnTo>
                  <a:pt x="80" y="60"/>
                </a:lnTo>
                <a:lnTo>
                  <a:pt x="0" y="1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44680" y="1416240"/>
            <a:ext cx="1570320" cy="2290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76320" bIns="7632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GFLT9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PAR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CAR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DER_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F_HP_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98600" y="243000"/>
            <a:ext cx="6070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1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시 사용된 결합 인덱스의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26160" y="2297160"/>
            <a:ext cx="987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63080" y="1396800"/>
            <a:ext cx="1681560" cy="2162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76320" bIns="7632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GFXC1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PAR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B_F_Q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UPPER_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347920" y="1897200"/>
            <a:ext cx="155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564160" y="1892160"/>
            <a:ext cx="167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0200" y="4325760"/>
            <a:ext cx="8745480" cy="17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1 : CAR_CODE + D_DAY +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PART_COD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TEAM_CODE (P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2 : TEAM_CODE + SPUM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B : GFXC130_X1 : D_DAY + PART_CODE + TEAM_CODE (P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7424E-54D6-49C2-919B-46E3B84E53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82600" y="947880"/>
            <a:ext cx="966456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1 : CAR_CODE + D_DAY +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PART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TEAM_CODE (P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2 : TEAM_CODE + 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B : GFXC130_X1 : D_DAY + PART_CODE + TEAM_CODE (P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4280" y="2732040"/>
            <a:ext cx="6548400" cy="3822840"/>
          </a:xfrm>
          <a:prstGeom prst="roundRect">
            <a:avLst>
              <a:gd name="adj" fmla="val 9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CAR_CODE, A.D_DAY, A.PART_CODE, A.SPUM_CO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ORDER_PRT, A.HP_Q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.TEAM_CDOE, B.UPFR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T950 A,  GFXC13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A.PART_CODE = B.PART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ORDER_PRT = 1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D_DAY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TEAM_CODE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PART_CODE BETWEEN :VALUE3 AND :VALUE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98600" y="243000"/>
            <a:ext cx="6070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1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시 사용된 결합 인덱스의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2600" y="2246400"/>
            <a:ext cx="83437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4722840" y="3363840"/>
            <a:ext cx="5300640" cy="2010600"/>
            <a:chOff x="4722840" y="3363840"/>
            <a:chExt cx="5300640" cy="2010600"/>
          </a:xfrm>
        </p:grpSpPr>
        <p:sp>
          <p:nvSpPr>
            <p:cNvPr id="572" name=""/>
            <p:cNvSpPr/>
            <p:nvPr/>
          </p:nvSpPr>
          <p:spPr>
            <a:xfrm>
              <a:off x="4722840" y="3363840"/>
              <a:ext cx="5300640" cy="20106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ROWS  EXECUTION 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  ---------------------------------------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SELECT 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84    NESTED 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17718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TABLE ACCESS (FULL) OF 'GFLT950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84      TABLE ACCESS (BY ROWID) OF 'GFXC130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84        INDEX (UNIQUE SCAN) OF 'GFXC130_X1' (UNIQU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104040" y="4149720"/>
              <a:ext cx="67716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Wingdings" charset="2"/>
                <a:buChar char="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282600" y="5935680"/>
            <a:ext cx="94219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: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50_X1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PART_CODE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+ CAR_CODE + D_DAY + TEAM_CODE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C175D-5B66-442D-BF9C-DCB8AA6D39F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-477360" y="2863800"/>
            <a:ext cx="8436960" cy="2189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CAR_CODE, A.D_DAY, A.PART_CODE, A.SPUM_CO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ORDER.PRT, A.F_HP_Q, B.TEAM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T920 A,  GFXC13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A.PART_CODE = B.PART_C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A.D_DAY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PART_COD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BETWEEN  :VALUE3  AND  :VALU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TEAM_CODE = :VALUE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1328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66760" y="1103400"/>
            <a:ext cx="973620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20  A : GFLT920_X1 : CAR_CODE + D_DAY + PART_CODE + TEAM_CODE (P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20  A : GFLT920_X2 : PART_CODE + SPUM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B : GFXC130_X1 : PART_CODE + TEAM_CODE (PRIMARY 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6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392720" y="4816440"/>
            <a:ext cx="5148000" cy="205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  -----------------------------------------------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STATEMENT      HINT : CHO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3    NESTED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2      TABLE ACCESS (BY ROWID) OF 'GFXC13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3        INDEX (RANGE SCAN) OF 'GFXC130_X1' 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389      TABLE ACCESS (BY ROWID) OF 'GFLT92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390        INDEX (RANGE SCAN) OF 'GFLT920_X2'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770680" y="5562720"/>
            <a:ext cx="67716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7B633-1D77-44C5-BE1F-D56D7F3874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27700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335720" y="1231920"/>
            <a:ext cx="1055880" cy="298620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95800" y="1231920"/>
            <a:ext cx="1193760" cy="294012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77880" y="2417760"/>
            <a:ext cx="878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2960" y="2898720"/>
            <a:ext cx="912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82640" y="1219320"/>
            <a:ext cx="673200" cy="2958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06600" y="2800440"/>
            <a:ext cx="81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394000" y="2417760"/>
            <a:ext cx="85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343560" y="336564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70560" y="2417760"/>
            <a:ext cx="75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68760" y="2800440"/>
            <a:ext cx="74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369120" y="1871640"/>
            <a:ext cx="79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434440" y="2795760"/>
            <a:ext cx="849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434440" y="2332080"/>
            <a:ext cx="85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76000" y="18763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34680" y="18763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03600" y="1384200"/>
            <a:ext cx="843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6389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550000" y="17287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704840" y="18763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381480" y="4424400"/>
            <a:ext cx="103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XC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69200" y="4456080"/>
            <a:ext cx="103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LT9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81520" y="443556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XC130_X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115240" y="45115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LT920_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2440" y="5154480"/>
            <a:ext cx="92725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20  A : GFLT920_X2 :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PART_CODE + D_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18080" y="1231920"/>
            <a:ext cx="701640" cy="29671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888160" y="1871640"/>
            <a:ext cx="0" cy="15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57600" y="3635280"/>
            <a:ext cx="843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6390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2FF57-7359-456D-B6F6-B82483D50D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-11160" y="2800440"/>
            <a:ext cx="6949080" cy="2071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A.PART_CODE,A.SPUM_CODE,A.D_DAY,A.B_F_QT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TAG,B.ORDER_PRT,C.DC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GFBT400  A,  GFXC440  B,  GFXC130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SPUM_CODE =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B.SPUM_COD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A.PART_CODE =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C.PART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A.D_DAY 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AND A.TEAM_CODE = :B2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1328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3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66760" y="1103400"/>
            <a:ext cx="9820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BT400  A :  GFBT400_X3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TEAM_COD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 +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D_DA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440  B :  GFXC440_X1 : SPUM_CODE  (U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C :  GFXC130_X1 : PART_CODE  (U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686040" y="4356000"/>
            <a:ext cx="6086520" cy="3118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  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NESTED 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NESTED 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391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TABLE  ACCESS ( BY ROWID )  OF  'GFBT40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48276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INDEX ( RANGE SCAN )  OF  'GFBT400_X3' (NON-UNI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  TABLE  ACCESS ( BY ROWID )  OF  'GFXC13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    INDEX ( UNIQUE SCAN )  OF  'GFXC130_X1' (UNI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TABLE  ACCESS ( BY ROWID )  OF  'GFXC44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  INDEX  ( UNIQUE SCAN ) OF  'GFXC440_X1' (UNI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190800" y="5375160"/>
            <a:ext cx="621000" cy="11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6D3A1-7F5D-45CA-A8A6-0EE48AAA45B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499320" y="2849400"/>
            <a:ext cx="8688960" cy="18745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H14_ACNT_CODE, H14_GWANLI_CODE, H14_MAGAM_Y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H14_MAGAM_MM,  H14_GUBUN, H14_C_AMT, H14_D_AM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FH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H14_MAGAM_Y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= :B0  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H14_GUBU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ORDER BY  H14_ACNT_CODE, H14_GWANLI_COD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9720" y="243000"/>
            <a:ext cx="570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. ORDER BY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절에서도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760" y="1103400"/>
            <a:ext cx="974556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H14 : IFH14_KEY1 :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H14_ACNT_CODE + H14_GWANLI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</a:t>
            </a:r>
            <a:r>
              <a:rPr b="1" lang="ko-KR" sz="1400" spc="-1" strike="noStrike">
                <a:solidFill>
                  <a:srgbClr val="3333cc"/>
                </a:solidFill>
                <a:latin typeface="굴림체"/>
                <a:ea typeface="굴림체"/>
              </a:rPr>
              <a:t>H14_MAGAM_YY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H14_MAGAM_MM + </a:t>
            </a:r>
            <a:r>
              <a:rPr b="1" lang="ko-KR" sz="1400" spc="-1" strike="noStrike">
                <a:solidFill>
                  <a:srgbClr val="3333cc"/>
                </a:solidFill>
                <a:latin typeface="굴림체"/>
                <a:ea typeface="굴림체"/>
              </a:rPr>
              <a:t>H14_GUB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40160" y="5200560"/>
            <a:ext cx="6265800" cy="177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ROWS   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    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0    SELECT STATEMENT   HINT: CHO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5743      TABLE ACCESS (BY ROWID) OF 'FH14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68188        INDEX (RANGE SCAN) OF 'IFH14_KEY1' (UNIQ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53120" y="4334040"/>
            <a:ext cx="2578320" cy="911160"/>
          </a:xfrm>
          <a:custGeom>
            <a:avLst/>
            <a:gdLst>
              <a:gd name="textAreaLeft" fmla="*/ 95400 w 2578320"/>
              <a:gd name="textAreaRight" fmla="*/ 2482920 w 2578320"/>
              <a:gd name="textAreaTop" fmla="*/ 33480 h 911160"/>
              <a:gd name="textAreaBottom" fmla="*/ 727920 h 9111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Order B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에 의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SORT Plan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이 없는 이유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5440" y="5218200"/>
            <a:ext cx="2211120" cy="691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적어도 하나 이상의 컬럼이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NOT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E4B43-1384-4375-8A9B-A65EB79EF8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21328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3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936720" y="1833480"/>
            <a:ext cx="485640" cy="38815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47240" y="1285920"/>
            <a:ext cx="18540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BT400_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08360" y="5881680"/>
            <a:ext cx="202788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+ 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2280" y="2362320"/>
            <a:ext cx="4078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100160" y="2362320"/>
            <a:ext cx="0" cy="28954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614160" y="5257800"/>
            <a:ext cx="4856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62000" y="3213000"/>
            <a:ext cx="8874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82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165400" y="1841400"/>
            <a:ext cx="127008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30320" y="1285920"/>
            <a:ext cx="15368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BT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258920" y="2286000"/>
            <a:ext cx="1297080" cy="5335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8920" y="2895480"/>
            <a:ext cx="129708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258920" y="2819520"/>
            <a:ext cx="1297080" cy="304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258920" y="4191120"/>
            <a:ext cx="1297080" cy="7617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59080" y="3068640"/>
            <a:ext cx="40320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258920" y="4038480"/>
            <a:ext cx="1297080" cy="9907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78240" y="1833480"/>
            <a:ext cx="53820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711960" y="1285920"/>
            <a:ext cx="1864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13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6296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581800" y="1841400"/>
            <a:ext cx="117144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346000" y="1285920"/>
            <a:ext cx="1547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1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678200" y="2666880"/>
            <a:ext cx="1295640" cy="6098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78200" y="2819520"/>
            <a:ext cx="1295640" cy="1676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777920" y="375444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61000" y="4800600"/>
            <a:ext cx="1212840" cy="1522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548160" y="5781600"/>
            <a:ext cx="200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PAR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78200" y="2286000"/>
            <a:ext cx="1542960" cy="9144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878200" y="2666880"/>
            <a:ext cx="1542960" cy="11430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962440" y="2742840"/>
            <a:ext cx="1458720" cy="3049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575800" y="322092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2878200" y="3885840"/>
            <a:ext cx="1542960" cy="762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2878200" y="4800240"/>
            <a:ext cx="1542960" cy="2286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432560" y="1833480"/>
            <a:ext cx="48744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580600" y="1841400"/>
            <a:ext cx="111744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344800" y="1285920"/>
            <a:ext cx="1547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4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756560" y="2895480"/>
            <a:ext cx="129708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7756560" y="2666880"/>
            <a:ext cx="1297080" cy="6098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613280" y="344952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756560" y="4800600"/>
            <a:ext cx="1297080" cy="2286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461280" y="2971800"/>
            <a:ext cx="1054080" cy="1905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63932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539040" y="2819520"/>
            <a:ext cx="1054080" cy="17524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440" y="329724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6539040" y="3200400"/>
            <a:ext cx="1054080" cy="17524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725160" y="1285920"/>
            <a:ext cx="1864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44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642720" y="5857920"/>
            <a:ext cx="19832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45228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60464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258920" y="3504960"/>
            <a:ext cx="1297080" cy="11430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58920" y="2514600"/>
            <a:ext cx="1297080" cy="8380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378080" y="2222640"/>
            <a:ext cx="858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505360" y="314496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570040" y="6229440"/>
            <a:ext cx="4730760" cy="4953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TEAM_CODE + D_DAY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+ SHOP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D3935-6967-455D-8B16-DEC1485F77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-509760" y="3005280"/>
            <a:ext cx="9251280" cy="20703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D_DAY,  TEAM_CODE,  SPUM_CODE,  B_F_QTY,  ORDER_P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GFBT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D_DAY  BETWEE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:VALUE1 AND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TEAM_CODE =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VALU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ORDER_PR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1256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4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사용을 정확히 확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4280" y="1103400"/>
            <a:ext cx="9409320" cy="23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BT300 : GFBT300_X1 :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D_DA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SPUM_CODE + SERIAL_NO (PRIMARY 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BT300 : GFBT300_X2 : SPUM_CODE + D_DAY + ORDER_P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121280" y="4460760"/>
            <a:ext cx="5848200" cy="1797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  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STATEMENT          HINT  :  CHO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9064    SORT (ORDER B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9728      TABLE  ACCESS  (BY  ROWID)  OF  GFBT30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29729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 (RANGE  SCAN)  OF  GFBT300_X1'   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14280" y="6041880"/>
            <a:ext cx="6094440" cy="508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: TEAM_CODE  +  D_DAY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INDEX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추가 생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566AC-C82F-4CC3-932C-25DDA19A56F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-733320" y="2882880"/>
            <a:ext cx="11084040" cy="3691080"/>
          </a:xfrm>
          <a:prstGeom prst="roundRect">
            <a:avLst>
              <a:gd name="adj" fmla="val 54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0" bIns="0" anchor="t">
            <a:sp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T.D_DAY, DT.YT_CODE, DT.SHOP_CODE, DT.SLIP_NO1, DT.SLIP_NO2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T.TAX_GUBUN, SUM(DT.BP_AMOUNT1 + DT.HP_AOUNT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ST300  DT,  GFST100  HD,  GFXC250  C,  GFXC310 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600" spc="-1" strike="noStrike">
                <a:solidFill>
                  <a:srgbClr val="ff00cc"/>
                </a:solidFill>
                <a:latin typeface="굴림체"/>
                <a:ea typeface="굴림체"/>
              </a:rPr>
              <a:t>C.TEAM_CODE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= 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:B2  BETWEEN  C.NEW_FR_DATE  AND  C.NEW_TO_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D.SUSU_CHK  =  '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HD.D_DAY  =  :B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&lt;---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상수 값이므로 최초로 풀리는 부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HD.PART_CODE  BETWEEN  :B4  AND :B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D.YT_CODE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DT.YT_CODE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AND  HD.YT_CODE   =  </a:t>
            </a:r>
            <a:r>
              <a:rPr b="1" lang="ko-KR" sz="1600" spc="-1" strike="noStrike">
                <a:solidFill>
                  <a:srgbClr val="ff00cc"/>
                </a:solidFill>
                <a:latin typeface="굴림체"/>
                <a:ea typeface="굴림체"/>
              </a:rPr>
              <a:t>C.YT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D.SHOP_CODE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DT.SHOP_CODE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AND  HD.SHOP_CODE =  </a:t>
            </a:r>
            <a:r>
              <a:rPr b="1" lang="ko-KR" sz="1600" spc="-1" strike="noStrike">
                <a:solidFill>
                  <a:srgbClr val="ff00cc"/>
                </a:solidFill>
                <a:latin typeface="굴림체"/>
                <a:ea typeface="굴림체"/>
              </a:rPr>
              <a:t>C.SHO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D.D_DAY     =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T.D_DAY      AND  HD.YT_CODE   = 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D.YT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HD.SLIP_NO1  =  DT.SLIP_NO1   AND  HD.SHOP_CODE = 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D.SHO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HD.SLIP_NO2  =  DT.SLIP_NO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   DT.D_DAY, DT.YT_CODE, DT.SHOP_CODE, DT.SLIP_NO1, DT.SLIP_NO2, DT.TAX_GUBU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5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의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66760" y="1028880"/>
            <a:ext cx="8231040" cy="18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300  DT :  GFST300_X2 : </a:t>
            </a:r>
            <a:r>
              <a:rPr b="1" lang="ko-KR" sz="1400" spc="-1" strike="noStrike">
                <a:solidFill>
                  <a:srgbClr val="800000"/>
                </a:solidFill>
                <a:latin typeface="굴림체"/>
                <a:ea typeface="굴림체"/>
              </a:rPr>
              <a:t>YT_CODE + SHOP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100  HD :  GFST100_X1 : </a:t>
            </a:r>
            <a:r>
              <a:rPr b="1" lang="ko-KR" sz="1400" spc="-1" strike="noStrike">
                <a:solidFill>
                  <a:srgbClr val="3333cc"/>
                </a:solidFill>
                <a:latin typeface="굴림체"/>
                <a:ea typeface="굴림체"/>
              </a:rPr>
              <a:t>D_DAY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YT_CODE + SHOP_CODE  (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440  C  :  GFXC250_X3 : </a:t>
            </a:r>
            <a:r>
              <a:rPr b="1" lang="ko-KR" sz="1400" spc="-1" strike="noStrike">
                <a:solidFill>
                  <a:srgbClr val="ff00cc"/>
                </a:solidFill>
                <a:latin typeface="굴림체"/>
                <a:ea typeface="굴림체"/>
              </a:rPr>
              <a:t>YT_CODE + SHOP_CODE +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310  D  :  GFXC310_X1 : </a:t>
            </a:r>
            <a:r>
              <a:rPr b="1" lang="ko-KR" sz="1400" spc="-1" strike="noStrike">
                <a:solidFill>
                  <a:srgbClr val="009900"/>
                </a:solidFill>
                <a:latin typeface="굴림체"/>
                <a:ea typeface="굴림체"/>
              </a:rPr>
              <a:t>YT_CODE + SHOP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(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251840" y="3625920"/>
            <a:ext cx="2771280" cy="36180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cc"/>
                </a:solidFill>
                <a:latin typeface="굴림체"/>
                <a:ea typeface="굴림체"/>
              </a:rPr>
              <a:t>HD --&gt; D --&gt; C --&gt; 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70DAD-038E-4C2B-ACB5-9288F6389F6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5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의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606600" y="1312920"/>
            <a:ext cx="8220600" cy="6877800"/>
            <a:chOff x="606600" y="1312920"/>
            <a:chExt cx="8220600" cy="6877800"/>
          </a:xfrm>
        </p:grpSpPr>
        <p:sp>
          <p:nvSpPr>
            <p:cNvPr id="676" name=""/>
            <p:cNvSpPr/>
            <p:nvPr/>
          </p:nvSpPr>
          <p:spPr>
            <a:xfrm>
              <a:off x="606600" y="1312920"/>
              <a:ext cx="8216640" cy="68778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CALL         COUNT     CPU      ELAPSED     DISK    QUERY    CURRENT     R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---   ------- --------  ---------- -------- -------- ---------- -----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PARSE            1     0.06       0.06         0        0          0      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EXECUTE         14     0.04       0.04         0        0          0      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FETCH           61    10.60      11.35        38    58338          0       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ROWS   EXECUTION  P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--   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 SELECT   STA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8    SORT ( GROUP BY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8     NESTED  LO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8       NESTED  LO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315         NESTED  LO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20494           TABLE  ACCESS  ( BY  ROWID )  OF  'GFST10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6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20495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    INDEX  ( RANGE  SCAN )  OF  'GFST100_X1' ( 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627           TABLE  ACCESS  ( BY  ROWID )  OF  'GFXC31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627             INDEX  ( UNIQUE  SCAN )  OF  'GFXC310_X1' ( 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75         TABLE  ACCESS  ( BY  ROWID )  OF  'GFXC25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90           INDEX  ( RANGE  SCAN )  OF  'GFXC250_X3' ( NON-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407607       TABLE  ACCESS  ( BY  ROWID )  OF  'GFST30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6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407745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INDEX  ( RANGE  SCAN )  OF  'GFST300_X2' ( NON-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2240" y="4202280"/>
              <a:ext cx="804960" cy="16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H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SzPct val="120000"/>
                <a:buFont typeface="Wingdings" charset="2"/>
                <a:buChar char="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SzPct val="120000"/>
                <a:buFont typeface="Wingdings" charset="2"/>
                <a:buChar char="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SzPct val="120000"/>
                <a:buFont typeface="Wingdings" charset="2"/>
                <a:buChar char="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D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61912-EEE1-45E3-AF9B-DDC83C99305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234828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5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의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0040" y="1719360"/>
            <a:ext cx="406440" cy="30826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-16056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10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-225360" y="4873680"/>
            <a:ext cx="193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14440" y="2276640"/>
            <a:ext cx="385560" cy="21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59920" y="2332080"/>
            <a:ext cx="397440" cy="2173320"/>
            <a:chOff x="259920" y="2332080"/>
            <a:chExt cx="397440" cy="2173320"/>
          </a:xfrm>
        </p:grpSpPr>
        <p:sp>
          <p:nvSpPr>
            <p:cNvPr id="684" name=""/>
            <p:cNvSpPr/>
            <p:nvPr/>
          </p:nvSpPr>
          <p:spPr>
            <a:xfrm>
              <a:off x="325440" y="233208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7360" y="2332080"/>
              <a:ext cx="0" cy="21733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259920" y="45054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 rot="16200000">
            <a:off x="32040" y="1788480"/>
            <a:ext cx="13204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204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398600" y="1730520"/>
            <a:ext cx="843120" cy="307656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29960" y="1185840"/>
            <a:ext cx="16344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XT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H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011400" y="1719360"/>
            <a:ext cx="398520" cy="31003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26044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31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67120" y="1730520"/>
            <a:ext cx="841320" cy="311760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496680" y="1185840"/>
            <a:ext cx="16574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XC3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807320" y="1719360"/>
            <a:ext cx="411120" cy="31003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696160" y="1730520"/>
            <a:ext cx="770040" cy="307656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248320" y="1185840"/>
            <a:ext cx="16344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ST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1184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6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06104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300_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7762320" y="1877040"/>
            <a:ext cx="14335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4076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rot="16200000">
            <a:off x="508320" y="1842480"/>
            <a:ext cx="13204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204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400720" y="1719360"/>
            <a:ext cx="411120" cy="31003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62096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250_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19800" y="1730520"/>
            <a:ext cx="843120" cy="307656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804640" y="1185840"/>
            <a:ext cx="16574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XC2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57960" y="1893960"/>
            <a:ext cx="1207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10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48956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3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9290160" y="2863800"/>
            <a:ext cx="627120" cy="648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9290160" y="2980800"/>
            <a:ext cx="620640" cy="722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17280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1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14720" y="5922720"/>
            <a:ext cx="8591040" cy="6796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100 HD : GFST100_X1 :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D_DAY + 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PART_CODE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 + YT_CODE + SHO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300 DT : GFST300_X2 :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YT_CODE + SHOP_CODE + 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D_DA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 + SPUM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6924600" y="2722680"/>
            <a:ext cx="749520" cy="1355760"/>
            <a:chOff x="6924600" y="2722680"/>
            <a:chExt cx="749520" cy="1355760"/>
          </a:xfrm>
        </p:grpSpPr>
        <p:sp>
          <p:nvSpPr>
            <p:cNvPr id="712" name=""/>
            <p:cNvSpPr/>
            <p:nvPr/>
          </p:nvSpPr>
          <p:spPr>
            <a:xfrm>
              <a:off x="6924600" y="3168720"/>
              <a:ext cx="749520" cy="90972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6924600" y="2722680"/>
              <a:ext cx="736560" cy="1009440"/>
            </a:xfrm>
            <a:prstGeom prst="line">
              <a:avLst/>
            </a:prstGeom>
            <a:ln w="25560">
              <a:solidFill>
                <a:srgbClr val="cc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8234280" y="2844720"/>
            <a:ext cx="779400" cy="648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237520" y="3298680"/>
            <a:ext cx="747720" cy="4032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8234280" y="3227400"/>
            <a:ext cx="739800" cy="8668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8234280" y="2533680"/>
            <a:ext cx="720720" cy="203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234280" y="4419720"/>
            <a:ext cx="749520" cy="4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027920" y="4933800"/>
            <a:ext cx="193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4964040"/>
            <a:ext cx="193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37040" y="4979880"/>
            <a:ext cx="1930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97000" y="5894280"/>
            <a:ext cx="1863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980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1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773000" y="24004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773000" y="29894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773000" y="37782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25680" y="28018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7360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6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2017800" y="2566800"/>
            <a:ext cx="1023840" cy="284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2017800" y="3458880"/>
            <a:ext cx="1001520" cy="572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46160" y="2649600"/>
            <a:ext cx="1052640" cy="31752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417840" y="2592360"/>
            <a:ext cx="750960" cy="276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417840" y="3471840"/>
            <a:ext cx="708120" cy="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417840" y="2938320"/>
            <a:ext cx="719280" cy="33840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500720" y="2895120"/>
            <a:ext cx="777600" cy="590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500720" y="3313080"/>
            <a:ext cx="793440" cy="4334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03960" y="2890800"/>
            <a:ext cx="399960" cy="209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03960" y="3728880"/>
            <a:ext cx="3999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697440" y="27716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97440" y="39132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818480" y="2692440"/>
            <a:ext cx="395280" cy="662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819920" y="4060800"/>
            <a:ext cx="390600" cy="420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7671960" y="2757600"/>
            <a:ext cx="271800" cy="685800"/>
            <a:chOff x="7671960" y="2757600"/>
            <a:chExt cx="271800" cy="685800"/>
          </a:xfrm>
        </p:grpSpPr>
        <p:sp>
          <p:nvSpPr>
            <p:cNvPr id="744" name=""/>
            <p:cNvSpPr/>
            <p:nvPr/>
          </p:nvSpPr>
          <p:spPr>
            <a:xfrm>
              <a:off x="7715160" y="2757600"/>
              <a:ext cx="2145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943760" y="2757600"/>
              <a:ext cx="0" cy="68580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7671960" y="3443400"/>
              <a:ext cx="25740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7674120" y="4110120"/>
            <a:ext cx="269640" cy="452520"/>
            <a:chOff x="7674120" y="4110120"/>
            <a:chExt cx="269640" cy="452520"/>
          </a:xfrm>
        </p:grpSpPr>
        <p:sp>
          <p:nvSpPr>
            <p:cNvPr id="748" name=""/>
            <p:cNvSpPr/>
            <p:nvPr/>
          </p:nvSpPr>
          <p:spPr>
            <a:xfrm>
              <a:off x="7716960" y="4110120"/>
              <a:ext cx="2127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43760" y="4110120"/>
              <a:ext cx="0" cy="4525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674120" y="4562640"/>
              <a:ext cx="25560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5266800" y="2938320"/>
            <a:ext cx="255960" cy="258840"/>
            <a:chOff x="5266800" y="2938320"/>
            <a:chExt cx="255960" cy="258840"/>
          </a:xfrm>
        </p:grpSpPr>
        <p:sp>
          <p:nvSpPr>
            <p:cNvPr id="752" name=""/>
            <p:cNvSpPr/>
            <p:nvPr/>
          </p:nvSpPr>
          <p:spPr>
            <a:xfrm>
              <a:off x="5308560" y="2938320"/>
              <a:ext cx="2001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522760" y="2938320"/>
              <a:ext cx="0" cy="25884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5266800" y="3197160"/>
              <a:ext cx="2415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5253120" y="3776760"/>
            <a:ext cx="269640" cy="407880"/>
            <a:chOff x="5253120" y="3776760"/>
            <a:chExt cx="269640" cy="407880"/>
          </a:xfrm>
        </p:grpSpPr>
        <p:sp>
          <p:nvSpPr>
            <p:cNvPr id="756" name=""/>
            <p:cNvSpPr/>
            <p:nvPr/>
          </p:nvSpPr>
          <p:spPr>
            <a:xfrm>
              <a:off x="5297400" y="3776760"/>
              <a:ext cx="2113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22760" y="3776760"/>
              <a:ext cx="0" cy="4078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5253120" y="4184640"/>
              <a:ext cx="25560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9037440" y="24620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037440" y="316872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037440" y="436716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772640" y="255600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72640" y="28130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772640" y="347832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225320" y="324792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225320" y="3448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97080" y="3691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97080" y="30812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9037080" y="28036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037080" y="36622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059680" y="2855880"/>
            <a:ext cx="810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5827680" y="2804760"/>
            <a:ext cx="793800" cy="1440360"/>
            <a:chOff x="5827680" y="2804760"/>
            <a:chExt cx="793800" cy="1440360"/>
          </a:xfrm>
        </p:grpSpPr>
        <p:sp>
          <p:nvSpPr>
            <p:cNvPr id="773" name=""/>
            <p:cNvSpPr/>
            <p:nvPr/>
          </p:nvSpPr>
          <p:spPr>
            <a:xfrm flipV="1">
              <a:off x="5827680" y="2804760"/>
              <a:ext cx="719280" cy="1047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27680" y="3897360"/>
              <a:ext cx="782640" cy="7920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827680" y="3068640"/>
              <a:ext cx="719280" cy="381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827680" y="3745080"/>
              <a:ext cx="793800" cy="1440"/>
            </a:xfrm>
            <a:prstGeom prst="line">
              <a:avLst/>
            </a:prstGeom>
            <a:ln w="25560">
              <a:solidFill>
                <a:srgbClr val="cc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27680" y="4064040"/>
              <a:ext cx="773280" cy="18108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6692760" y="416556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766880" y="44528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43760" y="3075120"/>
            <a:ext cx="8175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920880" y="2446200"/>
            <a:ext cx="819000" cy="64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920880" y="3816360"/>
            <a:ext cx="807840" cy="5666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920880" y="3543480"/>
            <a:ext cx="807840" cy="677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20880" y="2297160"/>
            <a:ext cx="777600" cy="5382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920880" y="2608200"/>
            <a:ext cx="779400" cy="414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920880" y="2606760"/>
            <a:ext cx="765000" cy="2174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914400" y="4062240"/>
            <a:ext cx="814320" cy="447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21120" y="2552760"/>
            <a:ext cx="38232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021120" y="2919240"/>
            <a:ext cx="38232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021120" y="3433680"/>
            <a:ext cx="38232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7306560" y="1905120"/>
            <a:ext cx="14335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4077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05800" y="1736640"/>
            <a:ext cx="1207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13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067600" y="3946680"/>
            <a:ext cx="810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EA6FD-85F6-465E-B16C-ABA1109E128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1900080" y="243000"/>
            <a:ext cx="516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6.  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의 정확한 이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187280" y="1454040"/>
            <a:ext cx="1352880" cy="224172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692520" y="1454040"/>
            <a:ext cx="1305000" cy="224172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39880" y="190476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  AAB  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39880" y="219996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  AAC  1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39880" y="249516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  ABA  2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39880" y="278748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D  ABB  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39880" y="308268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E  ABC  1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356280" y="1904760"/>
            <a:ext cx="197460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0" bIns="0" anchor="ctr">
            <a:spAutoFit/>
          </a:bodyPr>
          <a:p>
            <a:pPr marL="285840" indent="-28584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  10   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356280" y="2199960"/>
            <a:ext cx="197460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0" bIns="0" anchor="ctr">
            <a:spAutoFit/>
          </a:bodyPr>
          <a:p>
            <a:pPr marL="285840" indent="-28584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  10   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6280" y="2495160"/>
            <a:ext cx="197460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0" bIns="0" anchor="ctr">
            <a:spAutoFit/>
          </a:bodyPr>
          <a:p>
            <a:pPr marL="285840" indent="-28584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  10   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857680" y="3159000"/>
            <a:ext cx="37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05240" y="1898640"/>
            <a:ext cx="4665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327480" y="1879560"/>
            <a:ext cx="46512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487520" y="3754440"/>
            <a:ext cx="7714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71880" y="3735360"/>
            <a:ext cx="731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78600" y="1824120"/>
            <a:ext cx="3146400" cy="1562040"/>
          </a:xfrm>
          <a:prstGeom prst="rect">
            <a:avLst/>
          </a:prstGeom>
          <a:solidFill>
            <a:srgbClr val="3c002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121440" y="1879560"/>
            <a:ext cx="3052800" cy="29232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    AAB   111    A    10    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121440" y="2170080"/>
            <a:ext cx="3052800" cy="30636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    AAC   123    B    10    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121440" y="2476440"/>
            <a:ext cx="3052800" cy="29520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    ABA   222    C    10    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121440" y="2782800"/>
            <a:ext cx="3052800" cy="27936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D    ABB   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121440" y="3073320"/>
            <a:ext cx="3052800" cy="26208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E    ABC   1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857680" y="2876400"/>
            <a:ext cx="37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857680" y="2585880"/>
            <a:ext cx="37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849400" y="2301840"/>
            <a:ext cx="3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849400" y="2013120"/>
            <a:ext cx="3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4120" y="2101680"/>
            <a:ext cx="515880" cy="9846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915240" y="3505320"/>
            <a:ext cx="1301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원하는 결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943600" y="1521000"/>
            <a:ext cx="3282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KEY   FLD1  FLD2  KEY  COL1  COL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-35280" y="4425840"/>
            <a:ext cx="51573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1 X  : TAB1_IX : FLD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2 Y  : TAB2_IX : COL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91C46-797C-4026-806F-DD7C66DE174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1900080" y="243000"/>
            <a:ext cx="516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6.  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의 정확한 이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26880" y="1098720"/>
            <a:ext cx="20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8440" y="149220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Y.COL1 = 10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5200" y="326700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Y.COL1 = 10  OR  Y.COL1 IS NULL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040" y="504180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Y.COL1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= 10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108840" y="2157480"/>
            <a:ext cx="2685960" cy="33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원하는 결과 나오지 않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108840" y="3726000"/>
            <a:ext cx="3565440" cy="822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OL1+KEY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순서이므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인덱스 사용 불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KEY+COL1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이면 인덱스 사용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108840" y="5614920"/>
            <a:ext cx="3146400" cy="57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OL1+KEY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인덱스 사용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KEY+COL1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이라도 사용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123640" y="885960"/>
            <a:ext cx="4414320" cy="55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1  X : TAB1_IX : FLD1 +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2  Y : TAB2_IX : COL1 +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174840" y="3009960"/>
            <a:ext cx="598680" cy="230040"/>
          </a:xfrm>
          <a:prstGeom prst="downArrow">
            <a:avLst>
              <a:gd name="adj1" fmla="val 50000"/>
              <a:gd name="adj2" fmla="val 3340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143160" y="4780080"/>
            <a:ext cx="598680" cy="230040"/>
          </a:xfrm>
          <a:prstGeom prst="downArrow">
            <a:avLst>
              <a:gd name="adj1" fmla="val 50000"/>
              <a:gd name="adj2" fmla="val 3340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B0816-1082-41B1-B5D8-67AE556C1A6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28440" y="271764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Y.COL1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(+) IN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10,30,50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744200" y="243000"/>
            <a:ext cx="547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7.  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IN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4000" y="1027080"/>
            <a:ext cx="9153360" cy="11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1 X : TAB1_IX : FLD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2 Y : TAB2_IX : COL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594320" y="3332160"/>
            <a:ext cx="2457360" cy="566640"/>
          </a:xfrm>
          <a:custGeom>
            <a:avLst/>
            <a:gdLst>
              <a:gd name="textAreaLeft" fmla="*/ 90720 w 2457360"/>
              <a:gd name="textAreaRight" fmla="*/ 2366640 w 2457360"/>
              <a:gd name="textAreaTop" fmla="*/ 20880 h 566640"/>
              <a:gd name="textAreaBottom" fmla="*/ 452520 h 566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92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ORA-01719 Error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발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4200" y="4824360"/>
            <a:ext cx="7446960" cy="1775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(SELECT  KEY, COL1, 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FROM  TA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WHERE  COL1 IN (10,30,50) ) 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96720" y="2274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24000" y="2305080"/>
            <a:ext cx="1569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4406760"/>
            <a:ext cx="1569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61598-C3CE-4B08-A313-8372DA5AFBA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-440280" y="2414520"/>
            <a:ext cx="9418680" cy="2485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DESCRIPTION, A.MODEL, A.DESRIPTION, NVL(B.QTY1,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B.QTY2,0), NVL(B.QTY3, 0), NVL(B.QTY4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TPO120 A, STPO096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.SA = B.SA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A.PART = B.PART(+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SA =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PART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ETWEEN :VALUE2 AND :VALU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.CENTER =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:VALUE4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571760" y="243000"/>
            <a:ext cx="7085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8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여러 개의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컬럼을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09600" y="1027080"/>
            <a:ext cx="92124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1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PO120  A : STPO120_X1 :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A +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PO096  B : STPO096_X1 : CENTER + SA + PA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17920" y="4741920"/>
            <a:ext cx="5183280" cy="2010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EXECUTE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TATEMENT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NESTED LOOP(OU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STPO12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(RANGE SCAN) OF 'STPO120_X1' 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FULL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 OF 'STPO096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08720" y="5356080"/>
            <a:ext cx="4054680" cy="3956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.CENTER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(+)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=  :VALU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76680" y="61722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107640" y="5973480"/>
            <a:ext cx="4191840" cy="395640"/>
            <a:chOff x="107640" y="5973480"/>
            <a:chExt cx="4191840" cy="395640"/>
          </a:xfrm>
        </p:grpSpPr>
        <p:sp>
          <p:nvSpPr>
            <p:cNvPr id="850" name=""/>
            <p:cNvSpPr/>
            <p:nvPr/>
          </p:nvSpPr>
          <p:spPr>
            <a:xfrm>
              <a:off x="107640" y="5973480"/>
              <a:ext cx="4191840" cy="39564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ALL_ROWS      FIRST_RO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898640" y="6089760"/>
              <a:ext cx="249120" cy="152280"/>
            </a:xfrm>
            <a:prstGeom prst="rightArrow">
              <a:avLst>
                <a:gd name="adj1" fmla="val 50000"/>
                <a:gd name="adj2" fmla="val 8180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8918280" y="5553000"/>
            <a:ext cx="677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09600" y="4987800"/>
            <a:ext cx="19731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F2126-4E2B-4CD0-AF53-C7E37857050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2058120" y="243000"/>
            <a:ext cx="67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889240" y="3463920"/>
            <a:ext cx="1396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800000"/>
                </a:solidFill>
                <a:latin typeface="Arial"/>
                <a:ea typeface="돋움"/>
              </a:rPr>
              <a:t>법인고객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017960" y="2127240"/>
            <a:ext cx="150840" cy="1522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3979440" y="4329000"/>
            <a:ext cx="149400" cy="15264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 rot="10800000">
            <a:off x="4000680" y="4549680"/>
            <a:ext cx="1358640" cy="843120"/>
          </a:xfrm>
          <a:custGeom>
            <a:avLst/>
            <a:gdLst>
              <a:gd name="textAreaLeft" fmla="*/ 50040 w 1358640"/>
              <a:gd name="textAreaRight" fmla="*/ 1308600 w 1358640"/>
              <a:gd name="textAreaTop" fmla="*/ 30960 h 843120"/>
              <a:gd name="textAreaBottom" fmla="*/ 673560 h 843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44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배타적 관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(EXCLUSIV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814920" y="2166840"/>
            <a:ext cx="1906560" cy="2286000"/>
            <a:chOff x="3814920" y="2166840"/>
            <a:chExt cx="1906560" cy="2286000"/>
          </a:xfrm>
        </p:grpSpPr>
        <p:sp>
          <p:nvSpPr>
            <p:cNvPr id="860" name=""/>
            <p:cNvSpPr/>
            <p:nvPr/>
          </p:nvSpPr>
          <p:spPr>
            <a:xfrm>
              <a:off x="4917960" y="2319480"/>
              <a:ext cx="803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814920" y="2319480"/>
              <a:ext cx="100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917960" y="4300560"/>
              <a:ext cx="803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14920" y="4300560"/>
              <a:ext cx="100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814920" y="2166840"/>
              <a:ext cx="20160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3814920" y="2319480"/>
              <a:ext cx="201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814920" y="4300560"/>
              <a:ext cx="201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3814920" y="4147920"/>
              <a:ext cx="201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2143080" y="1722600"/>
            <a:ext cx="1666800" cy="3225600"/>
          </a:xfrm>
          <a:custGeom>
            <a:avLst/>
            <a:gdLst>
              <a:gd name="textAreaLeft" fmla="*/ 60840 w 1666800"/>
              <a:gd name="textAreaRight" fmla="*/ 1605960 w 1666800"/>
              <a:gd name="textAreaTop" fmla="*/ 60840 h 3225600"/>
              <a:gd name="textAreaBottom" fmla="*/ 3164760 h 3225600"/>
            </a:gdLst>
            <a:ahLst/>
            <a:rect l="textAreaLeft" t="textAreaTop" r="textAreaRight" b="textAreaBottom"/>
            <a:pathLst>
              <a:path w="21600" h="41796">
                <a:moveTo>
                  <a:pt x="2699" y="0"/>
                </a:moveTo>
                <a:arcTo wR="2699" hR="2699" stAng="16200000" swAng="-5400000"/>
                <a:lnTo>
                  <a:pt x="0" y="39097"/>
                </a:lnTo>
                <a:arcTo wR="2699" hR="2699" stAng="10800000" swAng="-5400000"/>
                <a:lnTo>
                  <a:pt x="18901" y="41796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# *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계좌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개설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개설지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비밀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실명확인여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해지상태여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상품종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적용금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565000" y="1300320"/>
            <a:ext cx="611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800000"/>
                </a:solidFill>
                <a:latin typeface="Arial"/>
                <a:ea typeface="돋움"/>
              </a:rPr>
              <a:t>계좌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730840" y="3827520"/>
            <a:ext cx="1914480" cy="2442960"/>
          </a:xfrm>
          <a:custGeom>
            <a:avLst/>
            <a:gdLst>
              <a:gd name="textAreaLeft" fmla="*/ 69840 w 1914480"/>
              <a:gd name="textAreaRight" fmla="*/ 1844640 w 1914480"/>
              <a:gd name="textAreaTop" fmla="*/ 69840 h 2442960"/>
              <a:gd name="textAreaBottom" fmla="*/ 2373120 h 2442960"/>
            </a:gdLst>
            <a:ahLst/>
            <a:rect l="textAreaLeft" t="textAreaTop" r="textAreaRight" b="textAreaBottom"/>
            <a:pathLst>
              <a:path w="21600" h="27561">
                <a:moveTo>
                  <a:pt x="2699" y="0"/>
                </a:moveTo>
                <a:arcTo wR="2699" hR="2699" stAng="16200000" swAng="-5400000"/>
                <a:lnTo>
                  <a:pt x="0" y="24862"/>
                </a:lnTo>
                <a:arcTo wR="2699" hR="2699" stAng="10800000" swAng="-5400000"/>
                <a:lnTo>
                  <a:pt x="18901" y="27561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# *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고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법인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주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사업자등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재무상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매출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738760" y="1579680"/>
            <a:ext cx="1668600" cy="1685880"/>
          </a:xfrm>
          <a:custGeom>
            <a:avLst/>
            <a:gdLst>
              <a:gd name="textAreaLeft" fmla="*/ 60840 w 1668600"/>
              <a:gd name="textAreaRight" fmla="*/ 1607760 w 1668600"/>
              <a:gd name="textAreaTop" fmla="*/ 60840 h 1685880"/>
              <a:gd name="textAreaBottom" fmla="*/ 1625040 h 1685880"/>
            </a:gdLst>
            <a:ahLst/>
            <a:rect l="textAreaLeft" t="textAreaTop" r="textAreaRight" b="textAreaBottom"/>
            <a:pathLst>
              <a:path w="21600" h="21824">
                <a:moveTo>
                  <a:pt x="2699" y="0"/>
                </a:moveTo>
                <a:arcTo wR="2699" hR="2699" stAng="16200000" swAng="-5400000"/>
                <a:lnTo>
                  <a:pt x="0" y="19125"/>
                </a:lnTo>
                <a:arcTo wR="2699" hR="2699" stAng="10800000" swAng="-5400000"/>
                <a:lnTo>
                  <a:pt x="18901" y="21824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# *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고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성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주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주민등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074640" y="1231920"/>
            <a:ext cx="82512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800000"/>
                </a:solidFill>
                <a:latin typeface="Arial"/>
                <a:ea typeface="돋움"/>
              </a:rPr>
              <a:t>개인고객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191120" y="2319480"/>
            <a:ext cx="0" cy="198108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726000" y="2111400"/>
            <a:ext cx="895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Arial"/>
                <a:ea typeface="돋움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708360" y="4083120"/>
            <a:ext cx="895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Arial"/>
                <a:ea typeface="돋움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BA3BA-092C-488D-A230-31F3E7FFF38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20560" y="5703840"/>
            <a:ext cx="914256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1542960"/>
            <a:ext cx="4510080" cy="443160"/>
          </a:xfrm>
          <a:prstGeom prst="rect">
            <a:avLst/>
          </a:prstGeom>
          <a:solidFill>
            <a:srgbClr val="69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c0023"/>
                </a:solidFill>
                <a:latin typeface="Arial"/>
                <a:ea typeface="돋움"/>
              </a:rPr>
              <a:t>전  체  범  위  처  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51520" y="1531800"/>
            <a:ext cx="4618080" cy="44316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c0023"/>
                </a:solidFill>
                <a:latin typeface="Arial"/>
                <a:ea typeface="돋움"/>
              </a:rPr>
              <a:t>부  분  범  위  처  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9120" y="1547640"/>
            <a:ext cx="9131400" cy="485460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8200" y="1984320"/>
            <a:ext cx="911052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01920" y="2651040"/>
            <a:ext cx="546120" cy="2217960"/>
          </a:xfrm>
          <a:prstGeom prst="rect">
            <a:avLst/>
          </a:prstGeom>
          <a:solidFill>
            <a:srgbClr val="dfdcd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2725560"/>
            <a:ext cx="593640" cy="63360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10800000"/>
          </a:gra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2200" y="318924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42840" y="340200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80202"/>
                </a:solidFill>
                <a:latin typeface="Arial"/>
                <a:ea typeface="돋움"/>
              </a:rPr>
              <a:t>운반단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19360" y="269568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19360" y="286560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19360" y="306864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19360" y="327168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19360" y="345600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19360" y="367344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19360" y="387504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19360" y="404352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19360" y="444816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19360" y="463536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19360" y="4811760"/>
            <a:ext cx="62064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65320" y="3132000"/>
            <a:ext cx="6336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65320" y="2927520"/>
            <a:ext cx="6177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65320" y="2743200"/>
            <a:ext cx="6177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65320" y="4060800"/>
            <a:ext cx="6177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65320" y="4478400"/>
            <a:ext cx="6192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65320" y="4818240"/>
            <a:ext cx="6192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64240" y="4037040"/>
            <a:ext cx="329400" cy="506520"/>
            <a:chOff x="2964240" y="4037040"/>
            <a:chExt cx="329400" cy="506520"/>
          </a:xfrm>
        </p:grpSpPr>
        <p:sp>
          <p:nvSpPr>
            <p:cNvPr id="128" name=""/>
            <p:cNvSpPr/>
            <p:nvPr/>
          </p:nvSpPr>
          <p:spPr>
            <a:xfrm>
              <a:off x="2964240" y="4037040"/>
              <a:ext cx="329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cc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cc99"/>
                  </a:solidFill>
                  <a:latin typeface="Arial"/>
                  <a:ea typeface="돋움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64240" y="4176720"/>
              <a:ext cx="329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cc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cc99"/>
                  </a:solidFill>
                  <a:latin typeface="Arial"/>
                  <a:ea typeface="돋움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300560" y="2768760"/>
            <a:ext cx="61920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99120" y="2924280"/>
            <a:ext cx="61884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07040" y="3121200"/>
            <a:ext cx="62208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19160" y="2416320"/>
            <a:ext cx="625320" cy="2793960"/>
          </a:xfrm>
          <a:prstGeom prst="rect">
            <a:avLst/>
          </a:prstGeom>
          <a:gradFill rotWithShape="0">
            <a:gsLst>
              <a:gs pos="0">
                <a:srgbClr val="4b4b4b"/>
              </a:gs>
              <a:gs pos="50000">
                <a:srgbClr val="ffffff"/>
              </a:gs>
              <a:gs pos="100000">
                <a:srgbClr val="4b4b4b"/>
              </a:gs>
            </a:gsLst>
            <a:lin ang="10800000"/>
          </a:gra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880" y="2727360"/>
            <a:ext cx="438120" cy="0"/>
          </a:xfrm>
          <a:prstGeom prst="line">
            <a:avLst/>
          </a:prstGeom>
          <a:ln w="255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42040" y="4022640"/>
            <a:ext cx="3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cc99"/>
                </a:solidFill>
                <a:latin typeface="Arial"/>
                <a:ea typeface="돋움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42040" y="4165560"/>
            <a:ext cx="3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cc99"/>
                </a:solidFill>
                <a:latin typeface="Arial"/>
                <a:ea typeface="돋움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28880" y="2708280"/>
            <a:ext cx="607680" cy="2108160"/>
          </a:xfrm>
          <a:prstGeom prst="rect">
            <a:avLst/>
          </a:prstGeom>
          <a:solidFill>
            <a:srgbClr val="ddddd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6360" y="320508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7080" y="2727360"/>
            <a:ext cx="0" cy="2058840"/>
          </a:xfrm>
          <a:prstGeom prst="line">
            <a:avLst/>
          </a:prstGeom>
          <a:ln w="507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965320" y="3279600"/>
            <a:ext cx="606600" cy="44640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95880" y="3317760"/>
            <a:ext cx="62208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50160" y="2627280"/>
            <a:ext cx="509400" cy="924120"/>
          </a:xfrm>
          <a:prstGeom prst="rect">
            <a:avLst/>
          </a:prstGeom>
          <a:solidFill>
            <a:srgbClr val="dfdcd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07280" y="2701800"/>
            <a:ext cx="588960" cy="63360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10800000"/>
          </a:gra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41600" y="261468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192880" y="337824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80202"/>
                </a:solidFill>
                <a:latin typeface="Arial"/>
                <a:ea typeface="돋움"/>
              </a:rPr>
              <a:t>운반단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65800" y="267192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65800" y="284148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65800" y="304488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65800" y="324792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65800" y="343224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12120" y="3106800"/>
            <a:ext cx="631800" cy="144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12120" y="2903400"/>
            <a:ext cx="62064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12120" y="2719440"/>
            <a:ext cx="62064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850240" y="2744640"/>
            <a:ext cx="61776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848800" y="2900520"/>
            <a:ext cx="61596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54920" y="3097080"/>
            <a:ext cx="62100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65600" y="2392200"/>
            <a:ext cx="627120" cy="2794320"/>
          </a:xfrm>
          <a:prstGeom prst="rect">
            <a:avLst/>
          </a:prstGeom>
          <a:gradFill rotWithShape="0">
            <a:gsLst>
              <a:gs pos="0">
                <a:srgbClr val="4b4b4b"/>
              </a:gs>
              <a:gs pos="50000">
                <a:srgbClr val="ffffff"/>
              </a:gs>
              <a:gs pos="100000">
                <a:srgbClr val="4b4b4b"/>
              </a:gs>
            </a:gsLst>
            <a:lin ang="10800000"/>
          </a:gra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4800" y="2684520"/>
            <a:ext cx="628560" cy="826920"/>
          </a:xfrm>
          <a:prstGeom prst="rect">
            <a:avLst/>
          </a:prstGeom>
          <a:solidFill>
            <a:srgbClr val="ddddd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5120" y="265428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45320" y="2703600"/>
            <a:ext cx="0" cy="833400"/>
          </a:xfrm>
          <a:prstGeom prst="line">
            <a:avLst/>
          </a:prstGeom>
          <a:ln w="507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534440" y="3255840"/>
            <a:ext cx="587160" cy="19368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844120" y="3294000"/>
            <a:ext cx="62064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48320" y="4859280"/>
            <a:ext cx="654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35680" y="1550880"/>
            <a:ext cx="0" cy="486432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87400" y="5783400"/>
            <a:ext cx="40957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Full Range Scan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후 가공하여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Array Size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만큼 추출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94360" y="2712960"/>
            <a:ext cx="438120" cy="0"/>
          </a:xfrm>
          <a:prstGeom prst="line">
            <a:avLst/>
          </a:prstGeom>
          <a:ln w="255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15840" y="243000"/>
            <a:ext cx="5619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부분범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Partial Range Scan)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처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82680" y="1085400"/>
            <a:ext cx="9712080" cy="3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buClr>
                <a:srgbClr val="ff00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조건을 만족하는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Row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수가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Array Size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에 도달되면 멈춤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8ADE1-B789-4F56-A55B-B7736D61A9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1217520" y="4102200"/>
          <a:ext cx="8586720" cy="27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4102200"/>
                    <a:ext cx="858672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8" name=""/>
          <p:cNvSpPr/>
          <p:nvPr/>
        </p:nvSpPr>
        <p:spPr>
          <a:xfrm>
            <a:off x="2058120" y="243000"/>
            <a:ext cx="67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536280" y="982800"/>
            <a:ext cx="2983320" cy="2918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개설지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비밀번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실명확인여부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지상태여부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상품종류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적용금리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*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*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고객종류 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&lt;- 1 o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890880" y="1262160"/>
            <a:ext cx="225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A8DA9-273A-44DD-BCBE-6463DDE3B95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2058120" y="243000"/>
            <a:ext cx="67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47760" y="104292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763280" y="1192320"/>
            <a:ext cx="5517360" cy="157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763280" y="2887560"/>
            <a:ext cx="5517360" cy="157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(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OR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758600" y="5103720"/>
            <a:ext cx="5517360" cy="157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47760" y="470700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108840" y="1935000"/>
            <a:ext cx="2209680" cy="57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No Rows Se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184800" y="3652920"/>
            <a:ext cx="2210040" cy="57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(A=B)*C + (A=C)*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A90B7-35FA-4C32-BA7E-3195A3A9FBD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455480" y="241200"/>
            <a:ext cx="81788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004040" y="4576680"/>
            <a:ext cx="5540400" cy="18903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개인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법인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1991520" y="1063800"/>
            <a:ext cx="2406960" cy="2939760"/>
            <a:chOff x="1991520" y="1063800"/>
            <a:chExt cx="2406960" cy="2939760"/>
          </a:xfrm>
        </p:grpSpPr>
        <p:sp>
          <p:nvSpPr>
            <p:cNvPr id="892" name=""/>
            <p:cNvSpPr/>
            <p:nvPr/>
          </p:nvSpPr>
          <p:spPr>
            <a:xfrm>
              <a:off x="1991520" y="1063800"/>
              <a:ext cx="2406960" cy="2939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ctr">
              <a:spAutoFit/>
            </a:bodyPr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계좌정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계좌번호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개설일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개설지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비밀번호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실명확인여부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해지상태여부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상품종류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적용금리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개인고객번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법인고객번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295360" y="1352520"/>
              <a:ext cx="178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347760" y="118116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63600" y="411156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1D64B-805A-4B8D-AEF8-8C303E2029A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61960" y="1592280"/>
            <a:ext cx="5531040" cy="2710440"/>
          </a:xfrm>
          <a:prstGeom prst="roundRect">
            <a:avLst>
              <a:gd name="adj" fmla="val 939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COL1,  A.COL2,  B.COL3,  B.COL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 A,  TAB2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PK1  =  B.PK1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PK2  =  B.PK2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  A.COL5  =  'A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 A.COL5  =  'BBBB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 A.COL5  =  'CCCC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 A.COL5  =  'DDDD' 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29880" y="243000"/>
            <a:ext cx="6291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0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와 같이 사용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45960" y="1106640"/>
            <a:ext cx="15033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20760" y="4833360"/>
            <a:ext cx="6691320" cy="12535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방안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각각의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단위로 낱개의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Q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로 분리한뒤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NION AL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을 사용하여 모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070600" y="2371680"/>
            <a:ext cx="4417920" cy="2526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FULL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: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BY ROWID :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805600" y="3606840"/>
            <a:ext cx="6771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A8576-8B41-43CF-924C-F01A49DB300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604800" y="985680"/>
            <a:ext cx="3510000" cy="4221360"/>
          </a:xfrm>
          <a:custGeom>
            <a:avLst/>
            <a:gdLst>
              <a:gd name="textAreaLeft" fmla="*/ 93960 w 3510000"/>
              <a:gd name="textAreaRight" fmla="*/ 3416040 w 3510000"/>
              <a:gd name="textAreaTop" fmla="*/ 93960 h 4221360"/>
              <a:gd name="textAreaBottom" fmla="*/ 4127400 h 4221360"/>
            </a:gdLst>
            <a:ahLst/>
            <a:rect l="textAreaLeft" t="textAreaTop" r="textAreaRight" b="textAreaBottom"/>
            <a:pathLst>
              <a:path w="21600" h="25977">
                <a:moveTo>
                  <a:pt x="1975" y="0"/>
                </a:moveTo>
                <a:arcTo wR="1975" hR="1975" stAng="16200000" swAng="-5400000"/>
                <a:lnTo>
                  <a:pt x="0" y="24002"/>
                </a:lnTo>
                <a:arcTo wR="1975" hR="1975" stAng="10800000" swAng="-5400000"/>
                <a:lnTo>
                  <a:pt x="19625" y="25977"/>
                </a:lnTo>
                <a:arcTo wR="1975" hR="1975" stAng="5400000" swAng="-5400000"/>
                <a:lnTo>
                  <a:pt x="21600" y="1975"/>
                </a:lnTo>
                <a:arcTo wR="1975" hR="1975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ff0033"/>
                </a:solidFill>
                <a:latin typeface="Modern"/>
                <a:ea typeface="굴림체"/>
              </a:rPr>
              <a:t>--+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USE_CONC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.COL1,  A.COL2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.COL3,  B.COL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 A,  TAB2 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PK1  =  B.PK1 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PK2  =  B.PK2 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( A.COL5  =  'AAAA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 A.COL5  =  'BBB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 A.COL5  =  'CCC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 A.COL5  =  'DDDD' 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829880" y="243000"/>
            <a:ext cx="6291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0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와 같이 사용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246560" y="1008000"/>
            <a:ext cx="5226120" cy="7534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EXECUTE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CONCATE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712000" y="2125800"/>
            <a:ext cx="67716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2240" y="1204920"/>
            <a:ext cx="14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방안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48C74-7646-43B4-A990-3D0C0958B1F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"/>
          <p:cNvGrpSpPr/>
          <p:nvPr/>
        </p:nvGrpSpPr>
        <p:grpSpPr>
          <a:xfrm>
            <a:off x="4344840" y="1811160"/>
            <a:ext cx="1298880" cy="185760"/>
            <a:chOff x="4344840" y="1811160"/>
            <a:chExt cx="1298880" cy="185760"/>
          </a:xfrm>
        </p:grpSpPr>
        <p:sp>
          <p:nvSpPr>
            <p:cNvPr id="908" name=""/>
            <p:cNvSpPr/>
            <p:nvPr/>
          </p:nvSpPr>
          <p:spPr>
            <a:xfrm>
              <a:off x="4344840" y="190512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4987800" y="1901520"/>
              <a:ext cx="6559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468760" y="1811160"/>
              <a:ext cx="140040" cy="185760"/>
            </a:xfrm>
            <a:custGeom>
              <a:avLst/>
              <a:gdLst/>
              <a:ahLst/>
              <a:rect l="l" t="t" r="r" b="b"/>
              <a:pathLst>
                <a:path w="88" h="117">
                  <a:moveTo>
                    <a:pt x="87" y="0"/>
                  </a:moveTo>
                  <a:lnTo>
                    <a:pt x="0" y="58"/>
                  </a:lnTo>
                  <a:lnTo>
                    <a:pt x="87" y="1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394240" y="181116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2750760" y="5095800"/>
            <a:ext cx="4558680" cy="1538280"/>
            <a:chOff x="2750760" y="5095800"/>
            <a:chExt cx="4558680" cy="1538280"/>
          </a:xfrm>
        </p:grpSpPr>
        <p:sp>
          <p:nvSpPr>
            <p:cNvPr id="913" name=""/>
            <p:cNvSpPr/>
            <p:nvPr/>
          </p:nvSpPr>
          <p:spPr>
            <a:xfrm>
              <a:off x="2750760" y="5095800"/>
              <a:ext cx="455868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97080" y="5400720"/>
              <a:ext cx="38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4464000" y="4627440"/>
            <a:ext cx="996840" cy="3207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2244600" y="1059120"/>
            <a:ext cx="2111400" cy="1594800"/>
            <a:chOff x="2244600" y="1059120"/>
            <a:chExt cx="2111400" cy="1594800"/>
          </a:xfrm>
        </p:grpSpPr>
        <p:sp>
          <p:nvSpPr>
            <p:cNvPr id="918" name=""/>
            <p:cNvSpPr/>
            <p:nvPr/>
          </p:nvSpPr>
          <p:spPr>
            <a:xfrm>
              <a:off x="2260800" y="1059120"/>
              <a:ext cx="2088360" cy="15948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8160" bIns="38160" anchor="ctr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SENSOR_REA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READING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244600" y="1503360"/>
              <a:ext cx="211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5369400" y="1058760"/>
            <a:ext cx="3111120" cy="1552320"/>
            <a:chOff x="5369400" y="1058760"/>
            <a:chExt cx="3111120" cy="1552320"/>
          </a:xfrm>
        </p:grpSpPr>
        <p:sp>
          <p:nvSpPr>
            <p:cNvPr id="921" name=""/>
            <p:cNvSpPr/>
            <p:nvPr/>
          </p:nvSpPr>
          <p:spPr>
            <a:xfrm>
              <a:off x="5369400" y="1058760"/>
              <a:ext cx="3111120" cy="1552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8160" bIns="38160" anchor="ctr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ENSOR_READING_REVIS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 READING_ID ( FK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 REVISION_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592600" y="1503360"/>
              <a:ext cx="264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287640" y="1204920"/>
            <a:ext cx="121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62680" y="5016600"/>
            <a:ext cx="13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원하는 결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77200" y="3065400"/>
            <a:ext cx="13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4319640" y="3728880"/>
            <a:ext cx="1298520" cy="185760"/>
            <a:chOff x="4319640" y="3728880"/>
            <a:chExt cx="1298520" cy="185760"/>
          </a:xfrm>
        </p:grpSpPr>
        <p:sp>
          <p:nvSpPr>
            <p:cNvPr id="927" name=""/>
            <p:cNvSpPr/>
            <p:nvPr/>
          </p:nvSpPr>
          <p:spPr>
            <a:xfrm>
              <a:off x="4319640" y="382284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4962600" y="3819240"/>
              <a:ext cx="6555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43560" y="3728880"/>
              <a:ext cx="139680" cy="185760"/>
            </a:xfrm>
            <a:custGeom>
              <a:avLst/>
              <a:gdLst/>
              <a:ahLst/>
              <a:rect l="l" t="t" r="r" b="b"/>
              <a:pathLst>
                <a:path w="88" h="117">
                  <a:moveTo>
                    <a:pt x="87" y="0"/>
                  </a:moveTo>
                  <a:lnTo>
                    <a:pt x="0" y="58"/>
                  </a:lnTo>
                  <a:lnTo>
                    <a:pt x="87" y="1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69040" y="372888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1862640" y="2908440"/>
            <a:ext cx="2851920" cy="1538280"/>
            <a:chOff x="1862640" y="2908440"/>
            <a:chExt cx="2851920" cy="1538280"/>
          </a:xfrm>
        </p:grpSpPr>
        <p:sp>
          <p:nvSpPr>
            <p:cNvPr id="932" name=""/>
            <p:cNvSpPr/>
            <p:nvPr/>
          </p:nvSpPr>
          <p:spPr>
            <a:xfrm>
              <a:off x="1862640" y="2908440"/>
              <a:ext cx="2851920" cy="153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960501   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060502   1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960503   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82960" y="3224160"/>
              <a:ext cx="241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253120" y="2881440"/>
            <a:ext cx="4239000" cy="1751400"/>
            <a:chOff x="5253120" y="2881440"/>
            <a:chExt cx="4239000" cy="1751400"/>
          </a:xfrm>
        </p:grpSpPr>
        <p:sp>
          <p:nvSpPr>
            <p:cNvPr id="935" name=""/>
            <p:cNvSpPr/>
            <p:nvPr/>
          </p:nvSpPr>
          <p:spPr>
            <a:xfrm>
              <a:off x="5253120" y="2881440"/>
              <a:ext cx="4239000" cy="175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REVISION_NO   DATE   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0           1       960504   1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0           2       960506   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     3       960510   1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     1       960509   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3           1       960503   2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     2       960508   2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575320" y="3182760"/>
              <a:ext cx="359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61282-94E0-4F77-B8E6-92F3E38A6A5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-410400" y="1506600"/>
            <a:ext cx="8769240" cy="2274840"/>
          </a:xfrm>
          <a:prstGeom prst="roundRect">
            <a:avLst>
              <a:gd name="adj" fmla="val 60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READING_ID,  NVL(B.DATE, A.DATE 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 (B.VALUE, A.VALUE),  NVL(B.REVISION_NO,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  A,  SENSOR_READING_REVISION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READING_ID  =  B.READING_ID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.READING_ID  ||  B.REVISION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 (SELECT  READING_ID  ||  MAX ( REVISION_NO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_RE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READING_ID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0920" y="1027080"/>
            <a:ext cx="23781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544040" y="4359240"/>
            <a:ext cx="4558680" cy="1538280"/>
            <a:chOff x="1544040" y="4359240"/>
            <a:chExt cx="4558680" cy="1538280"/>
          </a:xfrm>
        </p:grpSpPr>
        <p:sp>
          <p:nvSpPr>
            <p:cNvPr id="941" name=""/>
            <p:cNvSpPr/>
            <p:nvPr/>
          </p:nvSpPr>
          <p:spPr>
            <a:xfrm>
              <a:off x="1544040" y="4359240"/>
              <a:ext cx="455868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890720" y="4664160"/>
              <a:ext cx="38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5213520" y="5079960"/>
            <a:ext cx="801360" cy="609480"/>
            <a:chOff x="5213520" y="5079960"/>
            <a:chExt cx="801360" cy="609480"/>
          </a:xfrm>
        </p:grpSpPr>
        <p:sp>
          <p:nvSpPr>
            <p:cNvPr id="944" name=""/>
            <p:cNvSpPr/>
            <p:nvPr/>
          </p:nvSpPr>
          <p:spPr>
            <a:xfrm>
              <a:off x="5213520" y="5079960"/>
              <a:ext cx="80136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213520" y="5689440"/>
              <a:ext cx="80136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5955480" y="492444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968440" y="552132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281640" y="5172120"/>
            <a:ext cx="2686320" cy="33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원하는 결과 나오지 않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7D78F-5406-49D8-BA8E-3D4133757AB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-360000" y="1473120"/>
            <a:ext cx="9210240" cy="2578680"/>
          </a:xfrm>
          <a:prstGeom prst="roundRect">
            <a:avLst>
              <a:gd name="adj" fmla="val 724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READING_ID, NVL(B.DATE, A.DAT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B.VALUE, A.VALUE),  NVL(B.REVISION_NO,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  A,  SENSOR_READING_REVISION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READING_ID  =  B.READING_ID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B.READING_ID  ||  B.REVISION_NO IS NULL 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.READING_ID  ||  B.REVISION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  (SELECT  READING_ID  ||  MAX ( REVISION_NO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_RE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READING_ID)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4492800" y="4057560"/>
            <a:ext cx="5514840" cy="2965320"/>
            <a:chOff x="4492800" y="4057560"/>
            <a:chExt cx="5514840" cy="2965320"/>
          </a:xfrm>
        </p:grpSpPr>
        <p:sp>
          <p:nvSpPr>
            <p:cNvPr id="952" name=""/>
            <p:cNvSpPr/>
            <p:nvPr/>
          </p:nvSpPr>
          <p:spPr>
            <a:xfrm>
              <a:off x="4492800" y="4057560"/>
              <a:ext cx="5514840" cy="29653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EXECUTION 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---------------------------------------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ELECT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FIL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MERGE JOIN 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ORT 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 FULL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: SENSOR_REA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ORT 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FULL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: SENSOR_READING_RE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FIL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ORT GROUP B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FULL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: SENSOR_READING_RE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9292680" y="5045040"/>
              <a:ext cx="580680" cy="85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8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312840" y="1050840"/>
            <a:ext cx="23778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642960" y="4486320"/>
            <a:ext cx="3782880" cy="2923560"/>
            <a:chOff x="642960" y="4486320"/>
            <a:chExt cx="3782880" cy="2923560"/>
          </a:xfrm>
        </p:grpSpPr>
        <p:sp>
          <p:nvSpPr>
            <p:cNvPr id="956" name=""/>
            <p:cNvSpPr/>
            <p:nvPr/>
          </p:nvSpPr>
          <p:spPr>
            <a:xfrm>
              <a:off x="647640" y="4486320"/>
              <a:ext cx="3772080" cy="292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42960" y="4791240"/>
              <a:ext cx="37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CE17B-659D-4BEF-B192-A4D81F6E0AA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671400" y="1636560"/>
            <a:ext cx="8909280" cy="42433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READING_ID,  NVL ( B.DATE, A.DATE 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 ( B.VALUE, A.VALUE ),  NVL ( B.REVISION_NO , 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  A,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SELECT  b1.READING_ID, B2.REVISION_NO, B1.DATE, b1.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SENSOR_READING_REVISION B1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SELECT  READING_ID, MAX(REVISION_NO) AS REVISION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SENSOR_READING_REVISION b2 GROUP BY READING_ID) 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 B1.READING_ID  = B2.READING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   B1.REVISION_NO = B2.REVISION_NO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)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.READING_ID  =  B.READING_ID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READING_ID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2882880" y="5102280"/>
            <a:ext cx="3797280" cy="2923560"/>
            <a:chOff x="2882880" y="5102280"/>
            <a:chExt cx="3797280" cy="2923560"/>
          </a:xfrm>
        </p:grpSpPr>
        <p:sp>
          <p:nvSpPr>
            <p:cNvPr id="961" name=""/>
            <p:cNvSpPr/>
            <p:nvPr/>
          </p:nvSpPr>
          <p:spPr>
            <a:xfrm>
              <a:off x="2887560" y="5102280"/>
              <a:ext cx="3786120" cy="292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882880" y="5407200"/>
              <a:ext cx="379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312840" y="1179360"/>
            <a:ext cx="23778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17C8A-957A-4227-8454-8924757241E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"/>
          <p:cNvGrpSpPr/>
          <p:nvPr/>
        </p:nvGrpSpPr>
        <p:grpSpPr>
          <a:xfrm>
            <a:off x="8155080" y="3060360"/>
            <a:ext cx="239760" cy="925920"/>
            <a:chOff x="8155080" y="3060360"/>
            <a:chExt cx="239760" cy="925920"/>
          </a:xfrm>
        </p:grpSpPr>
        <p:sp>
          <p:nvSpPr>
            <p:cNvPr id="965" name=""/>
            <p:cNvSpPr/>
            <p:nvPr/>
          </p:nvSpPr>
          <p:spPr>
            <a:xfrm>
              <a:off x="8280360" y="351936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155080" y="3828960"/>
              <a:ext cx="239760" cy="157320"/>
            </a:xfrm>
            <a:custGeom>
              <a:avLst/>
              <a:gdLst/>
              <a:ahLst/>
              <a:rect l="l" t="t" r="r" b="b"/>
              <a:pathLst>
                <a:path w="151" h="99">
                  <a:moveTo>
                    <a:pt x="0" y="98"/>
                  </a:moveTo>
                  <a:lnTo>
                    <a:pt x="76" y="0"/>
                  </a:lnTo>
                  <a:lnTo>
                    <a:pt x="150" y="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8280360" y="3060360"/>
              <a:ext cx="0" cy="4539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6039000" y="4675320"/>
            <a:ext cx="1358640" cy="222120"/>
            <a:chOff x="6039000" y="4675320"/>
            <a:chExt cx="1358640" cy="222120"/>
          </a:xfrm>
        </p:grpSpPr>
        <p:sp>
          <p:nvSpPr>
            <p:cNvPr id="970" name=""/>
            <p:cNvSpPr/>
            <p:nvPr/>
          </p:nvSpPr>
          <p:spPr>
            <a:xfrm>
              <a:off x="6713640" y="4776840"/>
              <a:ext cx="67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165800" y="4675320"/>
              <a:ext cx="231840" cy="22212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145" y="139"/>
                  </a:moveTo>
                  <a:lnTo>
                    <a:pt x="0" y="67"/>
                  </a:lnTo>
                  <a:lnTo>
                    <a:pt x="13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6039000" y="4776840"/>
              <a:ext cx="658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2879640" y="3648240"/>
            <a:ext cx="1230480" cy="201600"/>
            <a:chOff x="2879640" y="3648240"/>
            <a:chExt cx="1230480" cy="201600"/>
          </a:xfrm>
        </p:grpSpPr>
        <p:sp>
          <p:nvSpPr>
            <p:cNvPr id="974" name=""/>
            <p:cNvSpPr/>
            <p:nvPr/>
          </p:nvSpPr>
          <p:spPr>
            <a:xfrm flipH="1">
              <a:off x="2890440" y="3741840"/>
              <a:ext cx="60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879640" y="3648240"/>
              <a:ext cx="211320" cy="20160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0" y="126"/>
                  </a:moveTo>
                  <a:lnTo>
                    <a:pt x="132" y="61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511440" y="3741840"/>
              <a:ext cx="598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8235000" y="4106880"/>
            <a:ext cx="30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6135840" y="2681280"/>
            <a:ext cx="1357200" cy="222120"/>
            <a:chOff x="6135840" y="2681280"/>
            <a:chExt cx="1357200" cy="222120"/>
          </a:xfrm>
        </p:grpSpPr>
        <p:sp>
          <p:nvSpPr>
            <p:cNvPr id="979" name=""/>
            <p:cNvSpPr/>
            <p:nvPr/>
          </p:nvSpPr>
          <p:spPr>
            <a:xfrm flipH="1">
              <a:off x="6145200" y="278460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135840" y="2681280"/>
              <a:ext cx="231480" cy="22212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0" y="139"/>
                  </a:moveTo>
                  <a:lnTo>
                    <a:pt x="145" y="68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831000" y="2784600"/>
              <a:ext cx="662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2" name=""/>
          <p:cNvSpPr/>
          <p:nvPr/>
        </p:nvSpPr>
        <p:spPr>
          <a:xfrm>
            <a:off x="7345440" y="3983040"/>
            <a:ext cx="1827000" cy="27226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회사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7334280" y="4489200"/>
            <a:ext cx="1846080" cy="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302600" y="1079640"/>
            <a:ext cx="1869840" cy="20952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이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민등록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고정지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319880" y="1600200"/>
            <a:ext cx="1851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059360" y="2362320"/>
            <a:ext cx="2090520" cy="29383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076640" y="2979720"/>
            <a:ext cx="207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033560" y="2394000"/>
            <a:ext cx="1869840" cy="32943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114480" bIns="1144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예정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소요비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완료여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047600" y="3049560"/>
            <a:ext cx="183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2C692-045B-4CD9-B6AE-69E56E217DA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76920" y="3135240"/>
            <a:ext cx="355464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주 범위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Driving 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넓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넓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09920" y="3135240"/>
            <a:ext cx="328500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부 범위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(Checking 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넓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넓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565440" y="3048120"/>
            <a:ext cx="3002040" cy="2422440"/>
            <a:chOff x="3565440" y="3048120"/>
            <a:chExt cx="3002040" cy="2422440"/>
          </a:xfrm>
        </p:grpSpPr>
        <p:sp>
          <p:nvSpPr>
            <p:cNvPr id="172" name=""/>
            <p:cNvSpPr/>
            <p:nvPr/>
          </p:nvSpPr>
          <p:spPr>
            <a:xfrm>
              <a:off x="3565440" y="3048120"/>
              <a:ext cx="0" cy="24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67480" y="3048120"/>
              <a:ext cx="0" cy="24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632280" y="3135240"/>
            <a:ext cx="114984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성 능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Arial"/>
                <a:ea typeface="돋움"/>
              </a:rPr>
              <a:t>양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돋움"/>
              </a:rPr>
              <a:t>불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Arial"/>
                <a:ea typeface="돋움"/>
              </a:rPr>
              <a:t>양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Arial"/>
                <a:ea typeface="돋움"/>
              </a:rPr>
              <a:t>양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6560" y="3054240"/>
            <a:ext cx="7012080" cy="24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30080" y="3594240"/>
            <a:ext cx="7024680" cy="1385640"/>
            <a:chOff x="730080" y="3594240"/>
            <a:chExt cx="7024680" cy="1385640"/>
          </a:xfrm>
        </p:grpSpPr>
        <p:sp>
          <p:nvSpPr>
            <p:cNvPr id="177" name=""/>
            <p:cNvSpPr/>
            <p:nvPr/>
          </p:nvSpPr>
          <p:spPr>
            <a:xfrm>
              <a:off x="730080" y="3594240"/>
              <a:ext cx="70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730080" y="4030560"/>
              <a:ext cx="7010640" cy="949320"/>
              <a:chOff x="730080" y="4030560"/>
              <a:chExt cx="7010640" cy="949320"/>
            </a:xfrm>
          </p:grpSpPr>
          <p:sp>
            <p:nvSpPr>
              <p:cNvPr id="179" name=""/>
              <p:cNvSpPr/>
              <p:nvPr/>
            </p:nvSpPr>
            <p:spPr>
              <a:xfrm>
                <a:off x="730080" y="4030560"/>
                <a:ext cx="701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0080" y="4505400"/>
                <a:ext cx="701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0080" y="4979880"/>
                <a:ext cx="701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7655040" y="3487680"/>
            <a:ext cx="1652400" cy="760320"/>
          </a:xfrm>
          <a:custGeom>
            <a:avLst/>
            <a:gdLst>
              <a:gd name="textAreaLeft" fmla="*/ 61200 w 1652400"/>
              <a:gd name="textAreaRight" fmla="*/ 1591200 w 1652400"/>
              <a:gd name="textAreaTop" fmla="*/ 28080 h 760320"/>
              <a:gd name="textAreaBottom" fmla="*/ 607320 h 7603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주 </a:t>
            </a: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/ </a:t>
            </a: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부 조건의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변경 가능  </a:t>
            </a: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9920" y="1209600"/>
            <a:ext cx="23911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부분범위 처리의 성능 결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22200" y="2104920"/>
            <a:ext cx="2259360" cy="968400"/>
          </a:xfrm>
          <a:custGeom>
            <a:avLst/>
            <a:gdLst>
              <a:gd name="textAreaLeft" fmla="*/ 83520 w 2259360"/>
              <a:gd name="textAreaRight" fmla="*/ 2175840 w 2259360"/>
              <a:gd name="textAreaTop" fmla="*/ 35640 h 968400"/>
              <a:gd name="textAreaBottom" fmla="*/ 773640 h 968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사용 된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INDEX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의해서 결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15840" y="243000"/>
            <a:ext cx="5619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부분범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Partial Range Scan)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처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36BB2-F634-4B7D-BFA8-A89889BEF9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66760" y="976320"/>
            <a:ext cx="982008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A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    : 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주문번호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+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부서번호</a:t>
            </a:r>
            <a:r>
              <a:rPr b="1" lang="ko-KR" sz="1500" spc="-1" strike="noStrike">
                <a:solidFill>
                  <a:srgbClr val="00cc99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직원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        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B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        : </a:t>
            </a:r>
            <a:r>
              <a:rPr b="1" lang="ko-KR" sz="1500" spc="-1" strike="noStrike">
                <a:solidFill>
                  <a:srgbClr val="009900"/>
                </a:solidFill>
                <a:latin typeface="굴림체"/>
                <a:ea typeface="굴림체"/>
              </a:rPr>
              <a:t>주문번호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C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: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회사번호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부서번호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고객        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D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고객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        : </a:t>
            </a:r>
            <a:r>
              <a:rPr b="1" lang="ko-KR" sz="1500" spc="-1" strike="noStrike">
                <a:solidFill>
                  <a:srgbClr val="ff3300"/>
                </a:solidFill>
                <a:latin typeface="굴림체"/>
                <a:ea typeface="굴림체"/>
              </a:rPr>
              <a:t>고객번호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84280" y="2462040"/>
            <a:ext cx="8163000" cy="4059720"/>
          </a:xfrm>
          <a:prstGeom prst="roundRect">
            <a:avLst>
              <a:gd name="adj" fmla="val 404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00cc99"/>
                </a:solidFill>
                <a:latin typeface="굴림체"/>
                <a:ea typeface="굴림체"/>
              </a:rPr>
              <a:t>DISTINCT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고중지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납품실행계획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A</a:t>
            </a:r>
            <a:r>
              <a:rPr b="1" lang="ko-KR" sz="1600" spc="-1" strike="noStrike">
                <a:solidFill>
                  <a:srgbClr val="00cc99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주문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B 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수주진행현황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C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고객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부서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B.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D.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회사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완료여부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S NULL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4294080" y="3713040"/>
            <a:ext cx="5743800" cy="3012840"/>
            <a:chOff x="4294080" y="3713040"/>
            <a:chExt cx="5743800" cy="3012840"/>
          </a:xfrm>
        </p:grpSpPr>
        <p:sp>
          <p:nvSpPr>
            <p:cNvPr id="994" name=""/>
            <p:cNvSpPr/>
            <p:nvPr/>
          </p:nvSpPr>
          <p:spPr>
            <a:xfrm>
              <a:off x="4294080" y="3713040"/>
              <a:ext cx="5743800" cy="30128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ROWS  EXECUTION 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  -----------------------------------------------------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SELECT STAT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7   </a:t>
              </a:r>
              <a:r>
                <a:rPr b="1" lang="ko-KR" sz="1200" spc="-1" strike="noStrike">
                  <a:solidFill>
                    <a:srgbClr val="00cc99"/>
                  </a:solidFill>
                  <a:latin typeface="굴림체"/>
                  <a:ea typeface="굴림체"/>
                </a:rPr>
                <a:t>SORT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7     NESTED LO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43       NESTED LO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NESTED LO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수주진행현황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6            INDEX (RANG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수주진행현황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고객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 INDEX (UNIQU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고객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43         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주문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INDEX (UNIQU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주문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2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20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납품실행계획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263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INDEX (RANG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납품실행계획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364680" y="4925880"/>
              <a:ext cx="654120" cy="14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45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5000"/>
                </a:lnSpc>
                <a:buClr>
                  <a:srgbClr val="000000"/>
                </a:buClr>
                <a:buSzPct val="120000"/>
                <a:buFont typeface="Wingdings" charset="2"/>
                <a:buChar char="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buClr>
                  <a:srgbClr val="000000"/>
                </a:buClr>
                <a:buSzPct val="120000"/>
                <a:buFont typeface="Wingdings" charset="2"/>
                <a:buChar char="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buClr>
                  <a:srgbClr val="000000"/>
                </a:buClr>
                <a:buSzPct val="120000"/>
                <a:buFont typeface="Wingdings" charset="2"/>
                <a:buChar char="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28D48-6C9F-473F-870D-C33317F0CC5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1720" y="1766880"/>
            <a:ext cx="274680" cy="39355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16200000">
            <a:off x="69840" y="193356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12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278000" y="1776240"/>
            <a:ext cx="923760" cy="39355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94240" y="123048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957400" y="1766880"/>
            <a:ext cx="285840" cy="3957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728880" y="1776240"/>
            <a:ext cx="924120" cy="39913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819920" y="1766880"/>
            <a:ext cx="298440" cy="3957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8597880" y="1776240"/>
            <a:ext cx="927000" cy="39355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372280" y="1766880"/>
            <a:ext cx="285480" cy="3957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153120" y="1776240"/>
            <a:ext cx="927000" cy="39355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651840" y="125424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983920" y="125424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279280" y="123048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4172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rot="16200000">
            <a:off x="2539800" y="19303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91168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34700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32008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rot="16200000">
            <a:off x="7375320" y="193356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12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882920" y="192564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8136000" y="3629160"/>
            <a:ext cx="750960" cy="923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8136000" y="3036600"/>
            <a:ext cx="765000" cy="13856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352760" y="2887560"/>
            <a:ext cx="971640" cy="1467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4352760" y="5072040"/>
            <a:ext cx="970200" cy="6048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352760" y="3598920"/>
            <a:ext cx="984240" cy="260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4352760" y="2734920"/>
            <a:ext cx="854280" cy="1482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9193320" y="2900520"/>
            <a:ext cx="590400" cy="666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9190080" y="3051000"/>
            <a:ext cx="592200" cy="16164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786720" y="2676600"/>
            <a:ext cx="873000" cy="279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6786720" y="2749680"/>
            <a:ext cx="931680" cy="1892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6786720" y="4437000"/>
            <a:ext cx="931680" cy="6890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8136000" y="4682880"/>
            <a:ext cx="750960" cy="142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41440" y="2697120"/>
            <a:ext cx="261720" cy="2617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9318600" y="1925640"/>
            <a:ext cx="8830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5654520" y="2935080"/>
            <a:ext cx="800280" cy="5634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654520" y="5054760"/>
            <a:ext cx="873360" cy="7776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654520" y="4354560"/>
            <a:ext cx="851040" cy="309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3255840" y="2892600"/>
            <a:ext cx="839880" cy="72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259080" y="4913280"/>
            <a:ext cx="804960" cy="2192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3255840" y="3571560"/>
            <a:ext cx="811440" cy="228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255840" y="4127400"/>
            <a:ext cx="811440" cy="795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806400" y="2813040"/>
            <a:ext cx="679680" cy="184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806400" y="4538520"/>
            <a:ext cx="663480" cy="5270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806400" y="5029200"/>
            <a:ext cx="663480" cy="1872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806400" y="2805120"/>
            <a:ext cx="695520" cy="471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887480" y="2827440"/>
            <a:ext cx="1042920" cy="998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1887480" y="2965320"/>
            <a:ext cx="1036800" cy="285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1873080" y="4127040"/>
            <a:ext cx="1051200" cy="9018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916280" y="4552920"/>
            <a:ext cx="1014120" cy="34596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824960" y="4387680"/>
            <a:ext cx="284040" cy="466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221760" y="2752560"/>
            <a:ext cx="397440" cy="2659320"/>
            <a:chOff x="221760" y="2752560"/>
            <a:chExt cx="397440" cy="2659320"/>
          </a:xfrm>
        </p:grpSpPr>
        <p:sp>
          <p:nvSpPr>
            <p:cNvPr id="1048" name=""/>
            <p:cNvSpPr/>
            <p:nvPr/>
          </p:nvSpPr>
          <p:spPr>
            <a:xfrm>
              <a:off x="287280" y="275256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19200" y="2752560"/>
              <a:ext cx="0" cy="26593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221760" y="541188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7631280" y="4452840"/>
            <a:ext cx="293400" cy="505080"/>
            <a:chOff x="7631280" y="4452840"/>
            <a:chExt cx="293400" cy="505080"/>
          </a:xfrm>
        </p:grpSpPr>
        <p:sp>
          <p:nvSpPr>
            <p:cNvPr id="1052" name=""/>
            <p:cNvSpPr/>
            <p:nvPr/>
          </p:nvSpPr>
          <p:spPr>
            <a:xfrm>
              <a:off x="7680240" y="4452840"/>
              <a:ext cx="2332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924680" y="4452840"/>
              <a:ext cx="0" cy="5050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7631280" y="4957920"/>
              <a:ext cx="28224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8986680" y="29494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8986320" y="35384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986320" y="46418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963880" y="29336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963880" y="377820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963880" y="41180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963880" y="487692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81640" y="348948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381640" y="43052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81640" y="503568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27840" y="3592440"/>
            <a:ext cx="8175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813720" y="194796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931520" y="437508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7669080" y="2517840"/>
            <a:ext cx="347760" cy="290520"/>
            <a:chOff x="7669080" y="2517840"/>
            <a:chExt cx="347760" cy="290520"/>
          </a:xfrm>
        </p:grpSpPr>
        <p:sp>
          <p:nvSpPr>
            <p:cNvPr id="1069" name=""/>
            <p:cNvSpPr/>
            <p:nvPr/>
          </p:nvSpPr>
          <p:spPr>
            <a:xfrm>
              <a:off x="7669080" y="2517840"/>
              <a:ext cx="347760" cy="2905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750080" y="2597040"/>
              <a:ext cx="236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33"/>
                  </a:solidFill>
                  <a:latin typeface="Arial"/>
                  <a:ea typeface="굴림체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5210280" y="2517840"/>
            <a:ext cx="347400" cy="290520"/>
            <a:chOff x="5210280" y="2517840"/>
            <a:chExt cx="347400" cy="290520"/>
          </a:xfrm>
        </p:grpSpPr>
        <p:sp>
          <p:nvSpPr>
            <p:cNvPr id="1072" name=""/>
            <p:cNvSpPr/>
            <p:nvPr/>
          </p:nvSpPr>
          <p:spPr>
            <a:xfrm>
              <a:off x="5210280" y="2517840"/>
              <a:ext cx="347400" cy="2905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91280" y="2597040"/>
              <a:ext cx="236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33"/>
                  </a:solidFill>
                  <a:latin typeface="Arial"/>
                  <a:ea typeface="굴림체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801720" y="3143160"/>
            <a:ext cx="725400" cy="573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1844640" y="3289320"/>
            <a:ext cx="1089000" cy="426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963880" y="32432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265560" y="3289320"/>
            <a:ext cx="815760" cy="65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375080" y="3343320"/>
            <a:ext cx="961920" cy="169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381640" y="382896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662440" y="3838680"/>
            <a:ext cx="857520" cy="6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6765840" y="3552840"/>
            <a:ext cx="892440" cy="277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824960" y="3502080"/>
            <a:ext cx="284040" cy="320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7631280" y="3552840"/>
            <a:ext cx="293400" cy="342720"/>
            <a:chOff x="7631280" y="3552840"/>
            <a:chExt cx="293400" cy="342720"/>
          </a:xfrm>
        </p:grpSpPr>
        <p:sp>
          <p:nvSpPr>
            <p:cNvPr id="1084" name=""/>
            <p:cNvSpPr/>
            <p:nvPr/>
          </p:nvSpPr>
          <p:spPr>
            <a:xfrm>
              <a:off x="7680240" y="3552840"/>
              <a:ext cx="23328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924680" y="3552840"/>
              <a:ext cx="0" cy="34272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7631280" y="3895560"/>
              <a:ext cx="28224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 flipV="1">
            <a:off x="8129520" y="2690640"/>
            <a:ext cx="728640" cy="903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994600" y="26416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896600" y="343044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rot="16200000">
            <a:off x="4943520" y="191448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919520" y="19051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0708E-7FEC-427C-8C3C-D5A54CE3D1C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239840" y="1581120"/>
            <a:ext cx="6226200" cy="4558680"/>
          </a:xfrm>
          <a:prstGeom prst="roundRect">
            <a:avLst>
              <a:gd name="adj" fmla="val 6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/*+ ORDERE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ISTINCT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D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고중지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수주진행현황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,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납품실행계획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고객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D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주문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주문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B.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주문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D.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회사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완료여부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S NULL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F4910-AE72-45A7-A740-8FD0DB9E887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47560" y="1936800"/>
            <a:ext cx="277920" cy="39956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6440" y="20527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59000" y="1940040"/>
            <a:ext cx="936360" cy="40082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78480" y="139212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046320" y="1936800"/>
            <a:ext cx="308160" cy="401796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816360" y="1940040"/>
            <a:ext cx="939960" cy="40640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732800" y="1936800"/>
            <a:ext cx="288720" cy="401796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507520" y="1940040"/>
            <a:ext cx="939600" cy="40082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345280" y="1936800"/>
            <a:ext cx="277560" cy="401796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119640" y="1940040"/>
            <a:ext cx="938520" cy="40082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057000" y="140328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508240" y="139392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543840" y="140328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198800" y="20383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543760" y="2052720"/>
            <a:ext cx="1262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12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735360" y="2052720"/>
            <a:ext cx="1009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0148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08904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38432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47656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3362400" y="2951280"/>
            <a:ext cx="747720" cy="4586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3354480" y="3429000"/>
            <a:ext cx="755640" cy="923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3344760" y="4770000"/>
            <a:ext cx="750960" cy="572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1946160" y="2460240"/>
            <a:ext cx="936720" cy="276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960560" y="2532240"/>
            <a:ext cx="879480" cy="4060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1932120" y="2575080"/>
            <a:ext cx="966600" cy="652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1946160" y="4333680"/>
            <a:ext cx="920880" cy="206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1933560" y="2677680"/>
            <a:ext cx="979560" cy="1220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841320" y="2715840"/>
            <a:ext cx="876240" cy="314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841320" y="2949480"/>
            <a:ext cx="876240" cy="317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841320" y="4554360"/>
            <a:ext cx="830160" cy="517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841320" y="3905280"/>
            <a:ext cx="816120" cy="8920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841320" y="2639880"/>
            <a:ext cx="876240" cy="627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55480" y="2583000"/>
            <a:ext cx="263520" cy="2657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9254880" y="2035080"/>
            <a:ext cx="8830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221760" y="2638440"/>
            <a:ext cx="397440" cy="2658960"/>
            <a:chOff x="221760" y="2638440"/>
            <a:chExt cx="397440" cy="2658960"/>
          </a:xfrm>
        </p:grpSpPr>
        <p:sp>
          <p:nvSpPr>
            <p:cNvPr id="1131" name=""/>
            <p:cNvSpPr/>
            <p:nvPr/>
          </p:nvSpPr>
          <p:spPr>
            <a:xfrm>
              <a:off x="287280" y="263844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19200" y="2638440"/>
              <a:ext cx="0" cy="26589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221760" y="52974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3054240" y="4273560"/>
            <a:ext cx="293760" cy="596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2855880" y="4334040"/>
            <a:ext cx="289080" cy="637920"/>
            <a:chOff x="2855880" y="4334040"/>
            <a:chExt cx="289080" cy="637920"/>
          </a:xfrm>
        </p:grpSpPr>
        <p:sp>
          <p:nvSpPr>
            <p:cNvPr id="1136" name=""/>
            <p:cNvSpPr/>
            <p:nvPr/>
          </p:nvSpPr>
          <p:spPr>
            <a:xfrm>
              <a:off x="2903400" y="4334040"/>
              <a:ext cx="23184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144960" y="4334040"/>
              <a:ext cx="0" cy="6379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2855880" y="4971960"/>
              <a:ext cx="2793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5351400" y="3159000"/>
            <a:ext cx="260280" cy="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351400" y="3830760"/>
            <a:ext cx="260280" cy="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351400" y="4416480"/>
            <a:ext cx="260280" cy="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737480" y="3159000"/>
            <a:ext cx="276120" cy="82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737480" y="3830760"/>
            <a:ext cx="276120" cy="82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737480" y="4416480"/>
            <a:ext cx="276120" cy="82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5661000" y="2936880"/>
            <a:ext cx="816120" cy="264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5661000" y="3397320"/>
            <a:ext cx="801720" cy="480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640480" y="4465800"/>
            <a:ext cx="865080" cy="345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737400" y="2951280"/>
            <a:ext cx="923760" cy="2188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721560" y="3411360"/>
            <a:ext cx="988920" cy="455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6751800" y="4444560"/>
            <a:ext cx="958680" cy="338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8037360" y="2930040"/>
            <a:ext cx="816120" cy="265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8037360" y="3390840"/>
            <a:ext cx="801720" cy="480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016840" y="4459320"/>
            <a:ext cx="865080" cy="345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4334040" y="2957400"/>
            <a:ext cx="988920" cy="1831680"/>
            <a:chOff x="4334040" y="2957400"/>
            <a:chExt cx="988920" cy="1831680"/>
          </a:xfrm>
        </p:grpSpPr>
        <p:sp>
          <p:nvSpPr>
            <p:cNvPr id="1155" name=""/>
            <p:cNvSpPr/>
            <p:nvPr/>
          </p:nvSpPr>
          <p:spPr>
            <a:xfrm>
              <a:off x="4349880" y="2957400"/>
              <a:ext cx="923760" cy="21924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334040" y="3417840"/>
              <a:ext cx="988920" cy="4557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4363920" y="4451040"/>
              <a:ext cx="959040" cy="33804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8" name=""/>
          <p:cNvSpPr/>
          <p:nvPr/>
        </p:nvSpPr>
        <p:spPr>
          <a:xfrm flipV="1">
            <a:off x="9136080" y="3414600"/>
            <a:ext cx="660240" cy="64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910720" y="28954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910720" y="47354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910000" y="3394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41320" y="3441600"/>
            <a:ext cx="873360" cy="18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1932120" y="3400200"/>
            <a:ext cx="966600" cy="42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906640" y="2409840"/>
            <a:ext cx="347760" cy="290520"/>
            <a:chOff x="2906640" y="2409840"/>
            <a:chExt cx="347760" cy="290520"/>
          </a:xfrm>
        </p:grpSpPr>
        <p:sp>
          <p:nvSpPr>
            <p:cNvPr id="1165" name=""/>
            <p:cNvSpPr/>
            <p:nvPr/>
          </p:nvSpPr>
          <p:spPr>
            <a:xfrm>
              <a:off x="2906640" y="2409840"/>
              <a:ext cx="347760" cy="2905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987640" y="2489040"/>
              <a:ext cx="236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33"/>
                  </a:solidFill>
                  <a:latin typeface="Arial"/>
                  <a:ea typeface="굴림체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3054240" y="3344760"/>
            <a:ext cx="284400" cy="320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2855520" y="3381480"/>
            <a:ext cx="294120" cy="342720"/>
            <a:chOff x="2855520" y="3381480"/>
            <a:chExt cx="294120" cy="342720"/>
          </a:xfrm>
        </p:grpSpPr>
        <p:sp>
          <p:nvSpPr>
            <p:cNvPr id="1169" name=""/>
            <p:cNvSpPr/>
            <p:nvPr/>
          </p:nvSpPr>
          <p:spPr>
            <a:xfrm>
              <a:off x="2905200" y="3381480"/>
              <a:ext cx="23328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149640" y="3381480"/>
              <a:ext cx="0" cy="34272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2855520" y="3724200"/>
              <a:ext cx="28260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3111840" y="332424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105720" y="439884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27840" y="3652920"/>
            <a:ext cx="8175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150720" y="206388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1ACAE-328F-41E0-BDD9-E8DD6668D82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-350640" y="2625840"/>
            <a:ext cx="7567200" cy="1538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ETL,  PGM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01003M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MENU_I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NVL(MAST_MENU_ID, ' ')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= NVL(:B2, ' '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746720" y="243000"/>
            <a:ext cx="667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3.  NULL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처리를 위해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EFAULT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50920" y="1103400"/>
            <a:ext cx="98200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6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01003M20  :  A01003M20_U2 : MENU_ID + MAST_MENU_ID  (U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27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768840" y="2289240"/>
            <a:ext cx="5900760" cy="1584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   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 SELECT  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     TABLE  ACCESS ( BY ROWID )  OF  'A01003M2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2321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( RANGE SCAN )  OF  'A01003M20_U2' (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-166320" y="4914000"/>
            <a:ext cx="6469920" cy="15386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ETL,  PGM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01003M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MENU_I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MAST_MENU_ID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=  NVL(:B2, 'X'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93760" y="4454640"/>
            <a:ext cx="181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F1887-52FB-4266-A130-85CC0C050A2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-350280" y="2475000"/>
            <a:ext cx="7538400" cy="1729800"/>
          </a:xfrm>
          <a:prstGeom prst="roundRect">
            <a:avLst>
              <a:gd name="adj" fmla="val 8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TOCK_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IO_DAT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= (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MAX(IO_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AR_CODE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OX_CODE = :VALUE2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671840" y="243000"/>
            <a:ext cx="364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4. 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값의 처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50920" y="1103400"/>
            <a:ext cx="934884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M600 : GFLM600_PK : CAR_CODE + BOX_CODE + IO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916680" y="1774800"/>
            <a:ext cx="2720880" cy="758880"/>
          </a:xfrm>
          <a:custGeom>
            <a:avLst/>
            <a:gdLst>
              <a:gd name="textAreaLeft" fmla="*/ 100440 w 2720880"/>
              <a:gd name="textAreaRight" fmla="*/ 2620440 w 2720880"/>
              <a:gd name="textAreaTop" fmla="*/ 28080 h 758880"/>
              <a:gd name="textAreaBottom" fmla="*/ 606240 h 758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2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두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SUB-Quer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의 차이는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-80640" y="4410000"/>
            <a:ext cx="7730640" cy="2151720"/>
          </a:xfrm>
          <a:prstGeom prst="roundRect">
            <a:avLst>
              <a:gd name="adj" fmla="val 110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TOCK_Q  FROM  GFLM600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IO_DATE = (SELECT  MAX(IO_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.CAR_CODE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BOX_CODE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A.CAR_CODE = B.CAR_C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A.BOX_CODE = B.BOX_CODE 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746680" y="2978280"/>
            <a:ext cx="3214800" cy="33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원하는 대로 결과 나오지 않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A806A-E8A0-48A5-BE10-F6109FAEF90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>
            <a:off x="-42120" y="1987560"/>
            <a:ext cx="8129520" cy="17269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/*+ INDEX_DESC(A GFLM600_PK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OCK_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AR_CODE = :VALUE1  AND  BOX_CODE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ROWNUM =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-47520" y="4656240"/>
            <a:ext cx="8223480" cy="11350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BSTR (MAX (IO_DATE || STOCK_Q), 9,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AR_CODE = :VALUE1  AND  BOX_CODE = :VALUE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439640" y="254160"/>
            <a:ext cx="81788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4. 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값의 처리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66760" y="1082520"/>
            <a:ext cx="4797360" cy="365004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1)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역순 인덱스 사용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-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효율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2) SUBSTR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사용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 없을 때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B9CA5-0E1D-4C2E-B460-A12E1215E19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1601640" y="243000"/>
            <a:ext cx="5817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5.  MAX / MIN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분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66760" y="1103400"/>
            <a:ext cx="736740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EQPM : THISEQPM_X1 :  EQPMDEPT + EQPMPART + EQPM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-427680" y="4237200"/>
            <a:ext cx="9234720" cy="2353680"/>
          </a:xfrm>
          <a:prstGeom prst="roundRect">
            <a:avLst>
              <a:gd name="adj" fmla="val 974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/*+ INDEX_ASC(A THISEQPM_X1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V.MAX_ROOM - A.EQPMROOM + 1  INTO  :NEXT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(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SELECT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/*+ INDEX_DESC(THISEQPM THISEQPM_X1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EQPMROOM  AS  MAX_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FROM    THISEQ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WHERE   EQPMDEPT = :VALUE1  AND  EQPMPART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ROWNUM  = 1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INV ,  THISEQPM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EQPMDEPT = :VALUE1  AND  EQPMPART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ROWNUM = 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-447120" y="2676600"/>
            <a:ext cx="9214560" cy="946080"/>
          </a:xfrm>
          <a:prstGeom prst="roundRect">
            <a:avLst>
              <a:gd name="adj" fmla="val 205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(MAX(EQPMROOM) - MIN(EQPMROOM)) + 1  INTO  :NEXT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HISEQ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EQPMDEPT = :VALUE1  AND  EQPMPART = :VALUE2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09600" y="3811680"/>
            <a:ext cx="181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88E08-70EC-453A-9535-75799F95075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1886760" y="243000"/>
            <a:ext cx="60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6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서브쿼리 사용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MIN /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30120" y="1103400"/>
            <a:ext cx="936324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_TAB : A_TAB_IX1 : ID + S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-741600" y="2611440"/>
            <a:ext cx="11730960" cy="3517920"/>
          </a:xfrm>
          <a:prstGeom prst="roundRect">
            <a:avLst>
              <a:gd name="adj" fmla="val 784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UNT(*), 0) INTO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&gt;= :B2  AND  SDATE &lt;= :B3   AND  PATH =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 (SELECT  ID, S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BETWEEN :B2 AND :B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DEPT = :B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, SERL) IN (SELECT  ID, SDATE, MIN(SER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BETWEEN :B2 AND :B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ID, SDATE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E3927-A27F-4609-9A5A-FDD8961AA41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1886760" y="243000"/>
            <a:ext cx="60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6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서브쿼리 사용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MIN /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22440" y="1514520"/>
            <a:ext cx="8080200" cy="3059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UNT(*), 0) INTO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 BETWEEN :B2 AND :B3   AND   PATH =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) IN (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ID, SUBSTR(MIN(SDATE || SERL),1,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BETWEEN :B2 AND :B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DEPT = :B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ID, SDAT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78000" y="4437000"/>
            <a:ext cx="44384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9900cc"/>
                </a:solidFill>
                <a:latin typeface="굴림체"/>
                <a:ea typeface="굴림체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(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원래 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과 결과 다름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= 20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인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원래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③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이 선택되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에서 걸러져 결과가 나오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않지만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이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①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 로우가 나온다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182920" y="4675320"/>
            <a:ext cx="4299840" cy="162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ID      SDATE    SERL   DEPT</a:t>
            </a: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00   19970310     3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100   19970310     4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100   19970310     1 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100   19970310     2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994800" y="4253040"/>
            <a:ext cx="94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764600" y="5141880"/>
            <a:ext cx="107244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504040" y="5084640"/>
            <a:ext cx="36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00640" y="5506920"/>
            <a:ext cx="450720" cy="441360"/>
          </a:xfrm>
          <a:prstGeom prst="rightArrow">
            <a:avLst>
              <a:gd name="adj1" fmla="val 75009"/>
              <a:gd name="adj2" fmla="val 35747"/>
            </a:avLst>
          </a:prstGeom>
          <a:solidFill>
            <a:srgbClr val="00cc99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78000" y="985680"/>
            <a:ext cx="4275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9900cc"/>
                </a:solidFill>
                <a:latin typeface="굴림체"/>
                <a:ea typeface="굴림체"/>
              </a:rPr>
              <a:t>중간 </a:t>
            </a:r>
            <a:r>
              <a:rPr b="1" lang="ko-KR" sz="1800" spc="-1" strike="noStrike">
                <a:solidFill>
                  <a:srgbClr val="99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8E9AC-D04F-426D-AAA2-40B4F294DE8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14360" y="243000"/>
            <a:ext cx="571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/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월이 분리된 경우에도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2600" y="1103400"/>
            <a:ext cx="85582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_A : TAB_A_X1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YY + M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DD + SALE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217800" y="2933640"/>
            <a:ext cx="7428600" cy="1519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YY || A.MM, DEPT, SUM(SALE_Q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_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A.YY || A.M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ETWEEN '9410' AND '9504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A.YY || A.MM, DEP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E8ECF-78C2-4C26-B20A-79D13A1878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-318240" y="1712880"/>
            <a:ext cx="10888920" cy="2703960"/>
          </a:xfrm>
          <a:prstGeom prst="roundRect">
            <a:avLst>
              <a:gd name="adj" fmla="val 90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UNT(*), 0) INTO :B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 BETWEEN :B2 AND :B3   AND   PATH =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) IN (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V.ID, DECODE(V.DEPT, :B7, V.SDATE,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(SELECT ID, SDAT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BSTR(MIN(SERL || DEPT),4,2) AS D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SDATE BETWEEN :B2 AND :B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ID, SDATE ) V 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886760" y="243000"/>
            <a:ext cx="60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6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서브쿼리 사용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MIN /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66760" y="1246320"/>
            <a:ext cx="98200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212240" y="4556160"/>
            <a:ext cx="94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946760" y="1386000"/>
            <a:ext cx="4514760" cy="915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*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전제조건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: SERL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3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자리 숫자이며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ID + SDATE + SERL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이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PK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를 구성한다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5293080" y="5005440"/>
            <a:ext cx="4718160" cy="1532520"/>
            <a:chOff x="5293080" y="5005440"/>
            <a:chExt cx="4718160" cy="1532520"/>
          </a:xfrm>
        </p:grpSpPr>
        <p:sp>
          <p:nvSpPr>
            <p:cNvPr id="1215" name=""/>
            <p:cNvSpPr/>
            <p:nvPr/>
          </p:nvSpPr>
          <p:spPr>
            <a:xfrm>
              <a:off x="5711400" y="5005440"/>
              <a:ext cx="4299840" cy="153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ID      SDATE    SERL   DEPT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100   19970310     3     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339933"/>
                  </a:solidFill>
                  <a:latin typeface="굴림체"/>
                  <a:ea typeface="굴림체"/>
                </a:rPr>
                <a:t>100   19970310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800" spc="-1" strike="noStrike">
                  <a:solidFill>
                    <a:srgbClr val="339933"/>
                  </a:solidFill>
                  <a:latin typeface="굴림체"/>
                  <a:ea typeface="굴림체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100   19970310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</a:t>
              </a: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    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100   19970310     2   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93080" y="5345280"/>
              <a:ext cx="10724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④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43680" y="5369040"/>
              <a:ext cx="36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399960" y="4656240"/>
            <a:ext cx="45608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SERL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에 중복이 발생할 때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문제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= 20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인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여기서는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③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 로우가 선택되었다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에서 걸러져 아무 로우도 선택되지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않으나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원래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②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 로우가 선택된다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010120" y="5433840"/>
            <a:ext cx="450720" cy="441360"/>
          </a:xfrm>
          <a:prstGeom prst="rightArrow">
            <a:avLst>
              <a:gd name="adj1" fmla="val 75009"/>
              <a:gd name="adj2" fmla="val 35747"/>
            </a:avLst>
          </a:prstGeom>
          <a:solidFill>
            <a:srgbClr val="00cc99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2DDE6-4FBF-48C4-A89B-4D8101D832C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1899360" y="243000"/>
            <a:ext cx="382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7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불필요한 상수 조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66760" y="1103400"/>
            <a:ext cx="982008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PNW : CPNU_PK : DLT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946440" y="4673520"/>
            <a:ext cx="8146440" cy="19656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PDATE  CPN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DLTF = :B1, SYSF = :B2, RTDT = :B3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RITM = :B4, USER = :B5, VALUE = :B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LTF = :B11  AND  SYSF = :B12  AND  RTDT = :B13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RITM = :B14  AND  USER = :B15  AND  VALUE = :B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AND  (:B19 != 'Y' OR :B19 IS NUL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AND   :B21  = 'Y'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66760" y="4595760"/>
            <a:ext cx="1303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480" y="2063880"/>
            <a:ext cx="8715600" cy="22467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PDATE  CPN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DLTF = :B1, SYSF = :B2, RTDT = :B3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RITM = :B4, USER = :B5, VALUE = :B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(DLTF, SYSF, RTDT, RITM, USER, VALUE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SELECT  :B11, :B12, :B13, :B14, :B15, :B1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 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(:B19 != 'Y' OR :B19 IS NUL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:B21 = 'Y'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:B21 IS NOT NUL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155A6-11B6-468B-B5B2-147E9F67CD4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1688040" y="243000"/>
            <a:ext cx="716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8.  UNION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UNION A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명확한 구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66760" y="947880"/>
            <a:ext cx="766764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SNO A : HSNO_PK  : HSNO + SERIAL_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OL  B : COL_PK1  : YEAR + HOUSE + SERIAL_NO + HSNO + SERIAL_NO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OM  C : COM_IX   : YEAR + HOUSE + SERIAL_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OM  C : COM_IDX1 : CLASS + D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82520" y="2655720"/>
            <a:ext cx="4884840" cy="3956040"/>
          </a:xfrm>
          <a:prstGeom prst="roundRect">
            <a:avLst>
              <a:gd name="adj" fmla="val 66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no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.CODE, C.HSNO, A.DESCR, SUM(B.AM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HSNO A, COL B, COM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HSNO = B.HSNO AND B.YEAR = C.YE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B.HOUSE = C.HOUSE AND C.CODE LIKE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DAT BETWEEN :B2 AND :B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CLASS &lt;&gt; '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C.CODE, C.HSNO, A.DE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.CODE, C.HSNO, A.DESCR, SUM(B.AM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HSNO A, COL B, COM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HSNO = B.HSNO AND B.YEAR = C.YE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B.HOUSE = C.HOUSE AND C.CODE LIKE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DAT BETWEEN :B2 AND :B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CLASS = '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C.CODE, C.HSNO, A.DESCR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024520" y="2532240"/>
            <a:ext cx="4952880" cy="485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ROWS  EXECU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----  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RO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    </a:t>
            </a:r>
            <a:r>
              <a:rPr b="1" lang="ko-KR" sz="1200" spc="-1" strike="noStrike">
                <a:solidFill>
                  <a:srgbClr val="ff0033"/>
                </a:solidFill>
                <a:latin typeface="굴림체"/>
                <a:ea typeface="굴림체"/>
              </a:rPr>
              <a:t>SORT 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</a:t>
            </a:r>
            <a:r>
              <a:rPr b="1" lang="ko-KR" sz="1200" spc="-1" strike="noStrike">
                <a:solidFill>
                  <a:srgbClr val="3333cc"/>
                </a:solidFill>
                <a:latin typeface="굴림체"/>
                <a:ea typeface="굴림체"/>
              </a:rPr>
              <a:t>      UNION-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33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SORT (GROUP B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33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20  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678      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COM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738             INDEX (RANGE SCAN) OF 'COM_IX' (NON-UN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20      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COL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498             INDEX (RANGE SCAN) OF 'COL_PK' 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33    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HSNO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20           INDEX (RANGE SCAN) OF 'HSNO_PK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SORT (GROUP B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391            TABLE ACCESS (BY ROWID) OF 'COM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6359             INDEX (RANGE SCAN) OF 'COM_IX' (NON-UN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829            TABLE ACCESS (BY ROWID) OF 'COL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220             INDEX (RANGE SCAN) OF 'COL_PK1' 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  TABLE ACCESS (BY ROWID) OF 'HSNO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   INDEX (RANGE SCAN) OF 'HSNO_PK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919680" y="2066760"/>
            <a:ext cx="1585800" cy="594000"/>
          </a:xfrm>
          <a:custGeom>
            <a:avLst/>
            <a:gdLst>
              <a:gd name="textAreaLeft" fmla="*/ 58680 w 1585800"/>
              <a:gd name="textAreaRight" fmla="*/ 1527120 w 1585800"/>
              <a:gd name="textAreaTop" fmla="*/ 21960 h 594000"/>
              <a:gd name="textAreaBottom" fmla="*/ 474480 h 594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72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굴림체"/>
              </a:rPr>
              <a:t>Query</a:t>
            </a: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굴림체"/>
              </a:rPr>
              <a:t>의 목적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굴림체"/>
              </a:rPr>
              <a:t>따라 효율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E2356-9861-4AF0-A440-E7FB77AB305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/>
          <p:nvPr/>
        </p:nvSpPr>
        <p:spPr>
          <a:xfrm>
            <a:off x="1629360" y="243000"/>
            <a:ext cx="382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9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불필요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66760" y="1166760"/>
            <a:ext cx="13669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41160" y="4652280"/>
            <a:ext cx="8818920" cy="17758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ID, DEPT, WARD, 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:B1, :B2, :B3,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PA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WARD = :C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NVL(DAT,'999999') &gt;=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TO_CHAR(SYSDATE, 'YYYYMMD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DEPT, ROOM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28000" y="1684440"/>
            <a:ext cx="9251640" cy="2071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ID, DEPT, WARD, 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:B1, :B2, :B3,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PA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WARD = :C1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DAT, '999999') &gt;= 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ELECT  TO_CHAR(SYSDATE, 'YYMMD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FROM  SYS.DUA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DEPT, ROOM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66760" y="4121280"/>
            <a:ext cx="2012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1C90-A7F7-4003-A2DB-48727723243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66760" y="1103400"/>
            <a:ext cx="9820080" cy="22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GOT : CHULGOT_IX     : CHULDATE + ITEM (CASE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GOT : CH_STATUS_ITEM : STATUS + ITEM (CASE 3,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GOT : CH_CHULNO      : CHULNO (CASE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(CASE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13160" y="4159080"/>
            <a:ext cx="8868600" cy="24670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UM(C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(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:SW = 1  AND  CHULDATE  =  '94113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:SW = 2  AND  CHULDATE+0  LIKE  '96%'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144080" y="2682720"/>
            <a:ext cx="7129440" cy="11840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:SW =  1  AND  CHULDATE  =  '941130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:SW  = 2  AND 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CHULDATE+0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LIKE  '96%'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66760" y="4103640"/>
            <a:ext cx="1303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6A623-A7D4-4A40-98A6-6BC14C5069E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281960" y="1593720"/>
            <a:ext cx="5360760" cy="13842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HULNO = '254'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:FILED1 + :FILED2 )  &gt;  0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191600" y="3571920"/>
            <a:ext cx="6553080" cy="26866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UM(C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( 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CHULNO = '254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:FILED1 + :FILED2) &gt; 0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66760" y="1103400"/>
            <a:ext cx="27860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(CASE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66760" y="3693960"/>
            <a:ext cx="1303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19BA9-0CC5-4F39-938F-860B16920F0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487520" y="5299200"/>
            <a:ext cx="7818480" cy="1845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STATUS  LIKE  DECODE( :SW, 1, '2%')           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&lt;---- 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OR  STATUS  LIKE  DECODE( :SW, 1, '1%' , '3%') ;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&lt;---- 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114200" y="3306600"/>
            <a:ext cx="5196600" cy="1845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(:SW = 1 AND (STATUS  LIKE '1%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OR  (:SW = 1 AND (STATUS  LIKE '2%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OR  (:SW = 2 AND (STATUS  LIKE '3%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STATUS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533600" y="1378080"/>
            <a:ext cx="7419960" cy="2064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(:SW = 1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STATUS  LIKE '1%'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ATUS LIKE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2%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  (:SW = 2 AND (STATUS  LIKE '3%'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STATU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6760" y="976320"/>
            <a:ext cx="27860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(CASE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66760" y="3233880"/>
            <a:ext cx="1303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942240" y="5189400"/>
            <a:ext cx="2273040" cy="501840"/>
          </a:xfrm>
          <a:custGeom>
            <a:avLst/>
            <a:gdLst>
              <a:gd name="textAreaLeft" fmla="*/ 83880 w 2273040"/>
              <a:gd name="textAreaRight" fmla="*/ 2189160 w 2273040"/>
              <a:gd name="textAreaTop" fmla="*/ 18360 h 501840"/>
              <a:gd name="textAreaBottom" fmla="*/ 401040 h 5018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302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ORDER B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절 없음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66760" y="5291280"/>
            <a:ext cx="1303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B6A3A-1993-4409-A988-A2597A0C2B3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461520" y="1598760"/>
            <a:ext cx="7865640" cy="18745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 :SW = 1 AND  STATUS = 1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 :SW = 2 AND  STATUS  BETWEEN  20  AND  40 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2800" y="4270320"/>
            <a:ext cx="8150760" cy="202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STATUS BETWEEN  DECODE ( :SW , 1 , 10 , 2, 2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DECODE ( :SW , 1 , 10 , 2, 40 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66760" y="1119240"/>
            <a:ext cx="27860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(CASE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66760" y="3852720"/>
            <a:ext cx="24066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A2E98-37E2-4E22-8634-04DDC9467A3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/>
          <p:nvPr/>
        </p:nvSpPr>
        <p:spPr>
          <a:xfrm>
            <a:off x="1599480" y="243000"/>
            <a:ext cx="307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1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69720" y="1135080"/>
            <a:ext cx="6551640" cy="1193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W_NO           VARCHAR2(16)  PRIMARY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ESIGN_ID        VARCHAR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REVISION_DATE    VARCHAR2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rot="5400000">
            <a:off x="5879520" y="2212560"/>
            <a:ext cx="5245200" cy="2899080"/>
          </a:xfrm>
          <a:custGeom>
            <a:avLst/>
            <a:gdLst>
              <a:gd name="textAreaLeft" fmla="*/ 194040 w 5245200"/>
              <a:gd name="textAreaRight" fmla="*/ 5051160 w 5245200"/>
              <a:gd name="textAreaTop" fmla="*/ 107280 h 2899080"/>
              <a:gd name="textAreaBottom" fmla="*/ 2315520 h 2899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113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W_NO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구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69-730-347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69-730-34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47760" y="2717640"/>
            <a:ext cx="6805440" cy="363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&lt;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프로그램 코딩으로 해결한  방법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F D1 =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45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DRW_NO = :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F NOT 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DRW_NO = SUSTR(:D1,1,15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F NOT 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DRW_NO = SUSTR(:D1,1,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A2037-41FB-4F45-BE05-ABC75BDB7EF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1599480" y="243000"/>
            <a:ext cx="307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1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97000" y="2163600"/>
            <a:ext cx="4300560" cy="414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2480" y="2290680"/>
            <a:ext cx="445536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SELECT   *  FROM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도면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WHERE   ( DRW_NO = SUBSTR( :d1 , 1, 8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9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0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1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2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3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4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5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                 :d1  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돋움"/>
              </a:rPr>
              <a:t>AND          ROWNUM  =  1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395960" y="1123920"/>
            <a:ext cx="6090840" cy="554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ONCATE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4202280" y="2733840"/>
            <a:ext cx="1511280" cy="3340080"/>
            <a:chOff x="4202280" y="2733840"/>
            <a:chExt cx="1511280" cy="3340080"/>
          </a:xfrm>
        </p:grpSpPr>
        <p:sp>
          <p:nvSpPr>
            <p:cNvPr id="1267" name=""/>
            <p:cNvSpPr/>
            <p:nvPr/>
          </p:nvSpPr>
          <p:spPr>
            <a:xfrm flipV="1">
              <a:off x="4229280" y="2733840"/>
              <a:ext cx="1469880" cy="299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214880" y="2824200"/>
              <a:ext cx="1484280" cy="324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14880" y="3201840"/>
              <a:ext cx="1484280" cy="195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4202280" y="3656160"/>
              <a:ext cx="1511280" cy="170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1" name=""/>
          <p:cNvSpPr/>
          <p:nvPr/>
        </p:nvSpPr>
        <p:spPr>
          <a:xfrm>
            <a:off x="3992040" y="3952800"/>
            <a:ext cx="817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901920" y="4064040"/>
            <a:ext cx="817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D9505-52E9-412D-BFEC-1AECCACF470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0080" y="1330200"/>
            <a:ext cx="1735560" cy="479160"/>
          </a:xfrm>
          <a:prstGeom prst="roundRect">
            <a:avLst>
              <a:gd name="adj" fmla="val 108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14360" y="243000"/>
            <a:ext cx="571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/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월이 분리된 경우에도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20" y="1892160"/>
            <a:ext cx="7739280" cy="202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YY || A.MM, DEPT, SUM(SALE_Q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_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(A.YY = '94' AND A.MM BETWEEN '10'  AND '12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OR  (A.YY = '95' AND A.MM BETWEEN '01'  AND '04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A.YY || A.MM, DEP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6C859-538D-460D-809B-4CED6E0EB4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1843560" y="243000"/>
            <a:ext cx="6402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두 개의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UPDATE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문을 하나로 통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66760" y="1103400"/>
            <a:ext cx="9820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-206640" y="1606680"/>
            <a:ext cx="10555560" cy="4619880"/>
          </a:xfrm>
          <a:prstGeom prst="roundRect">
            <a:avLst>
              <a:gd name="adj" fmla="val 3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EC SQL UPDAT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( DC_STUS_ID, INACT_RSN, TOT_AMT_OF_WON, TOT_AMT_OF_DLR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US_DUTY_TOT_AMT, CONSUM_TAX_TOT_AMT, HOLD_DATE) 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 SELECT  'Z', 'A', SUM(AMT_OF_WON), SUM(AMT_OF_DLR)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CUS_DUTY_AMT), SUM(CONSUM_TAX_AMT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O_DATE(:SYS_DATE, 'YYYYMMD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BA004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 = :BRK_CD  AND  DCL_YEAR = :DCL_Y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YEAR =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:DCL_YEAR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EC SQL UPDAT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DUTY_TOT_AM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US_DUTY_TOT_AMT + CONSUM_TAX_TOT_AMT 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LATE_F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 = :BRK_CD  AND  DCL_YEAR = :DCL_Y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CD =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:DCL_YEAR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68AD1-9E20-4EAF-964B-08AED4857F2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1843560" y="243000"/>
            <a:ext cx="6402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두 개의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UPDATE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문을 하나로 통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31720" y="236520"/>
            <a:ext cx="9082080" cy="7228440"/>
          </a:xfrm>
          <a:prstGeom prst="roundRect">
            <a:avLst>
              <a:gd name="adj" fmla="val 5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EC SQ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PDAT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(DC_STUS_ID, INACT_RSN, TOT_AMT_OF_WON, TOT_AMT_OF_DL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US_DUTY_TOT_AMT, CONSUM_TAX_TOT_AMT, HOLD_DATE,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UTY_TOT_AMT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SELECT  'Z', 'A', TOT_AMT_OF_WON, TOT_AMT_OF_DL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US_DUTY_TOT_AMT, CONSUM_TAX_TOT_AM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O_DATE(:SYS_DATE, 'YYYYMMDD'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CUS_DUTY_TOT_AMT + CONSUM_TAX_TOT_AMT + A.LATE_F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(SELECT  SUM(AMT_OF_WON) AS TOT_AMT_OF_W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SUM(AMT_OF_DIR) AS TOT_AMT_OF_DL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SUM(CUS_DUTY_AMT) AS CUS_DUTY_TOT_AMT,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SUM(CONSUM_TAX_AMT) AS CONSUM_TAX_TOT_AM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FROM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4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WHERE  BRK_CD = :BRK_C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AND  DCL_YEAR = :DCL_YEAR )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V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BA003DM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YEAR =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:DCL_YEAR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CD =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:DCL_YEAR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99543-C598-46B8-A1B4-F3EC782EE54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/>
          <p:nvPr/>
        </p:nvSpPr>
        <p:spPr>
          <a:xfrm>
            <a:off x="1673640" y="243000"/>
            <a:ext cx="5910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3.  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를 활용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통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43080" y="1103400"/>
            <a:ext cx="18475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85800" y="1635120"/>
            <a:ext cx="6330960" cy="6025680"/>
          </a:xfrm>
          <a:prstGeom prst="roundRect">
            <a:avLst>
              <a:gd name="adj" fmla="val 5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NVL(SUM(DACT_MH),0), NVL(SUM(DACT_AMT)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NVL(SUM(DACT_MH),0), NVL(SUM(DACT_AMT)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CON_CODE IS NOT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NVL(SUM(DACT_MH),0), NVL(SUM(DACT_AMT)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(CON_CODE IS NULL OR LENGTH(CON_CODE) = 1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B2D1B-B442-40AC-B7D7-8296B039C90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3.  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를 활용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통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-133200" y="1941480"/>
            <a:ext cx="10631160" cy="3844440"/>
          </a:xfrm>
          <a:prstGeom prst="roundRect">
            <a:avLst>
              <a:gd name="adj" fmla="val 7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NVL(SUM(DACT_MH ),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SUM(DACT_AMT),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CON_CODE, NULL, 0, DACT_MH )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CON_CODE, NULL, 0, DACT_AMT)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CON_CODE, NULL, DACT_MH,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DECODE(LENGTH(CON_CODE), 1, DACT_MH,  0)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CON_CODE, NULL, DACT_AMT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DECODE(LENGTH(CON_CODE), 1, DACT_AMT, 0)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92040" y="1281240"/>
            <a:ext cx="18478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4036B-8106-40ED-92DC-40C744EFE10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/>
          <p:nvPr/>
        </p:nvSpPr>
        <p:spPr>
          <a:xfrm>
            <a:off x="1672920" y="243000"/>
            <a:ext cx="508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4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과도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66760" y="1027080"/>
            <a:ext cx="2089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-220680" y="1407960"/>
            <a:ext cx="9406440" cy="5156280"/>
          </a:xfrm>
          <a:prstGeom prst="roundRect">
            <a:avLst>
              <a:gd name="adj" fmla="val 5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B.TM, M.TAX, M.PUMMOK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SSU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KUMEK1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SUM(DECODE(NAPBAN, '1', DECODE(B.BOKWAN, '1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SUM(DECODE(NAPBAN, '1', DECODE(B.BOKWAN, '2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SUM(DECODE(NAPBAN, '1', DECODE(B.BOKWAN, '3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SSU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KUMEK1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DECODE(B.BOKWAN, '1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DECODE(B.BOKWAN, '2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DECODE(B.BOKWAN, '3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SSU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KUMEK1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DECODE(B.BOKWAN, '1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DECODE(B.BOKWAN, '2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DECODE(B.BOKWAN, '3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FROM  GGB M, GPM P, MJ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.YT = P.YT AND  B.MAEJANG = P.MAEJANG AND  M.CODE = P.PUMMO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AND  P.DATE BETWEEN :B1 AND :B2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GROUP BY  B.TM, M.TAX, M.PUMMO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cc99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00cc99"/>
                </a:solidFill>
                <a:latin typeface="굴림체"/>
                <a:ea typeface="굴림체"/>
              </a:rPr>
              <a:t>ORDER BY  B.TM, M.TAX, M.PUMMOK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3D6C5-286C-4A38-8B8A-50141EE1CA1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1672920" y="243000"/>
            <a:ext cx="508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4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과도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11360" y="1473120"/>
            <a:ext cx="8523000" cy="5296320"/>
          </a:xfrm>
          <a:prstGeom prst="roundRect">
            <a:avLst>
              <a:gd name="adj" fmla="val 37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B.TM, M.TAX, M.PUMMOK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SSU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KUMEK1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NAPBAN||B.BOKWAN, '11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NAPBAN||B.BOKWAN, '12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NAPBAN||B.BOKWAN, '13', P.KUMEK2, 0)),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SSU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KUMEK1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21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22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23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SSU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KUMEK1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31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32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33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GB M, GPM P, MJ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.YT = P.YT AND  B.MAEJANG = P.MAEJANG AND  M.CODE = P.PUMM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P.DATE BETWEEN :B1 AND :B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GROUP BY  B.TM, M.TAX, M.PUMMOK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20760" y="1012680"/>
            <a:ext cx="18478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284FE-DC76-443D-86BA-8619DC0BA76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31640" y="4714920"/>
            <a:ext cx="4011840" cy="1637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 (DEPTNO, ' 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E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EMPNO  =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:B2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9000" y="243000"/>
            <a:ext cx="576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4. BINDING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변수의 인덱스 사용 확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0000" y="1103400"/>
            <a:ext cx="409716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테이블 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 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MP :  EMP_EMPNO_PK :  EMP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84680" y="4886280"/>
            <a:ext cx="5859360" cy="177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  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0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SELECT 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13148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TABLE ACCESS (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BY ROWI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 OF 'EMP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13149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INDEX (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RANGE SCAN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 OF 'EMP_EMPNO_PK' (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UNIQUE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02360" y="3998880"/>
            <a:ext cx="3268800" cy="951120"/>
          </a:xfrm>
          <a:custGeom>
            <a:avLst/>
            <a:gdLst>
              <a:gd name="textAreaLeft" fmla="*/ 120960 w 3268800"/>
              <a:gd name="textAreaRight" fmla="*/ 3147840 w 3268800"/>
              <a:gd name="textAreaTop" fmla="*/ 34920 h 951120"/>
              <a:gd name="textAreaBottom" fmla="*/ 759600 h 951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51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1) Dynamic 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에서 주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2)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HOST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변수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선언에서 주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576080" y="1147680"/>
            <a:ext cx="4117320" cy="1962360"/>
            <a:chOff x="1576080" y="1147680"/>
            <a:chExt cx="4117320" cy="1962360"/>
          </a:xfrm>
        </p:grpSpPr>
        <p:sp>
          <p:nvSpPr>
            <p:cNvPr id="198" name=""/>
            <p:cNvSpPr/>
            <p:nvPr/>
          </p:nvSpPr>
          <p:spPr>
            <a:xfrm>
              <a:off x="1576080" y="1147680"/>
              <a:ext cx="4117320" cy="1962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>
              <a:spAutoFit/>
            </a:bodyPr>
            <a:p>
              <a:pPr marL="343080" indent="-343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       </a:t>
              </a:r>
              <a:r>
                <a:rPr b="1" lang="ko-KR" sz="20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E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EMPNO    </a:t>
              </a:r>
              <a:r>
                <a:rPr b="1" lang="ko-KR" sz="16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VARCHAR2(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ENAME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RCHAR2(2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DEPTNO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RCHAR2(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(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총 로우 수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:13,148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89160" y="1571760"/>
              <a:ext cx="28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3DE54-9CAE-4C34-8894-7572C7407D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-695160" y="2751120"/>
            <a:ext cx="11445840" cy="3714840"/>
          </a:xfrm>
          <a:prstGeom prst="roundRect">
            <a:avLst>
              <a:gd name="adj" fmla="val 69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INPTIDNO,INPTPKND,INPT,INPTLEVL,INPTMNDR,INPTDEPT,INPTCHRS,PBSCPN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LOOR(MONTH_BETWEEN(SYSDATE,TO_DATE(PBSCBIRT,'YYMMDD'))/12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PBSCRSEX,PBSCPHNI,CODEDE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HISCODE  A,  THISPBSC  B,  THISINPT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C.INPTCHRS =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BSTR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.CODENAM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, 1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 u="sng">
                <a:solidFill>
                  <a:srgbClr val="3333cc"/>
                </a:solidFill>
                <a:uFillTx/>
                <a:latin typeface="굴림체"/>
                <a:ea typeface="굴림체"/>
              </a:rPr>
              <a:t>C.INPTDATE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C.INPTGUBN IN  ('A', 'B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C.INPTBYBY LIKE  '1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C.INPTIDNO = B.PBSC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 u="sng">
                <a:solidFill>
                  <a:srgbClr val="00cc99"/>
                </a:solidFill>
                <a:uFillTx/>
                <a:latin typeface="굴림체"/>
                <a:ea typeface="굴림체"/>
              </a:rPr>
              <a:t>A.CODEGUBN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 = '11'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42440" y="243000"/>
            <a:ext cx="56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5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인덱스 컬럼의 분리에 따른 문제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760" y="988920"/>
            <a:ext cx="9728280" cy="17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CODE  A : THISCODE_PK1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CODEGUBN + COD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PBSC  B : THISPBSC_PK1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PBSC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INPT  C : THISINPT_IDX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INPTDATE + INPTC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91080" y="4662360"/>
            <a:ext cx="5226120" cy="283032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------ 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NESTED 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 NESTED 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0      TABLE  ACCESS (BY ROWID)  OF  'THISINPT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1       INDEX (RANGE SCAN) OF 'THISINPT_IDX1'(NON-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ff0033"/>
                </a:solidFill>
                <a:latin typeface="굴림체"/>
                <a:ea typeface="굴림체"/>
              </a:rPr>
              <a:t>40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TABLE  ACCESS (BY ROWID)  OF  'THISCOD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33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ff3300"/>
                </a:solidFill>
                <a:latin typeface="굴림체"/>
                <a:ea typeface="굴림체"/>
              </a:rPr>
              <a:t>3290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(</a:t>
            </a:r>
            <a:r>
              <a:rPr b="1" lang="ko-KR" sz="1200" spc="-1" strike="noStrike">
                <a:solidFill>
                  <a:srgbClr val="ff0033"/>
                </a:solidFill>
                <a:latin typeface="굴림체"/>
                <a:ea typeface="굴림체"/>
              </a:rPr>
              <a:t>RANGE SCAN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) OF 'THISCODE_PK1'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 TABLE  ACCESS (BY ROWID)  OF  'THISPBSC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   INDEX (UNIQUE SCAN) OF 'THISPBSC_PK1'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35600" y="3848040"/>
            <a:ext cx="2343240" cy="749520"/>
          </a:xfrm>
          <a:custGeom>
            <a:avLst/>
            <a:gdLst>
              <a:gd name="textAreaLeft" fmla="*/ 86760 w 2343240"/>
              <a:gd name="textAreaRight" fmla="*/ 2256480 w 2343240"/>
              <a:gd name="textAreaTop" fmla="*/ 27720 h 749520"/>
              <a:gd name="textAreaBottom" fmla="*/ 598680 h 7495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Access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비 효율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발생 부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74600" y="5465880"/>
            <a:ext cx="678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1D851-0E33-40B9-A84D-D7AF8F061B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어진수</dc:creator>
  <dc:description/>
  <dc:language>en-US</dc:language>
  <cp:lastModifiedBy>kssong</cp:lastModifiedBy>
  <cp:lastPrinted>1997-11-14T05:28:08Z</cp:lastPrinted>
  <dcterms:modified xsi:type="dcterms:W3CDTF">2001-04-13T00:24:03Z</dcterms:modified>
  <cp:revision>251</cp:revision>
  <dc:subject/>
  <dc:title>슬라이드 제목 없음</dc:title>
</cp:coreProperties>
</file>