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3.xml.rels" ContentType="application/vnd.openxmlformats-package.relationships+xml"/>
  <Override PartName="/ppt/notesSlides/notesSlide1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F2D3A2-86A1-4D6A-9883-E8C779C76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ç·Ê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¿Â¶óÀÎÀ¸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´ë·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µ¥ÀÌÅÍ¸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Á¶È¸ÇÏ¿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¸°íÀ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ÇÏ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æ¿ì¿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üÃ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¹üÀ§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³¸®ÇÏ±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¶§¹®¿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­¸é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³ª¿À±â±îÁö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¸¹À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½Ã°£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É¸®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ÎºÐÀ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Îº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¹üÀ§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³¸®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¯µµÇÔ¿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µû¶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­¸é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³ª¿À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¼Óµµ¸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ñ¾àÀûÀ¸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Çâ»ó½ÃÄÑ¼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À´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¼Óµµ¸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³¼±ÇÑ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æ¿ìÀÌ´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1473120" y="863640"/>
            <a:ext cx="8344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366840" y="88920"/>
            <a:ext cx="1055520" cy="863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496880" y="243000"/>
            <a:ext cx="8012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79360" y="1117440"/>
            <a:ext cx="8945640" cy="30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Àý¿¡ OR¿Í ROWNUM °°ÀÌ »ç¿ë½Ã ¹ß»ýÇÏ´Â ÀüÃ¼¹üÀ§ Ã³¸® ¹æ¹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SUGA : THISSUGA_PK1   :  SUGA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SUGA : THISSUGA_IDX1  :  SUGAED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SUGA : THISSUGA_IDX4  :  SUGAS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46040" y="3898800"/>
            <a:ext cx="3870360" cy="2301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NVL (SUGAEDSC , 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 SUGASERL LIKE  'E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OR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SUGASERL LIKE  'F%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&lt; 2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59160" y="3481560"/>
            <a:ext cx="5440320" cy="3213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a50021"/>
                </a:solidFill>
                <a:latin typeface="XXXXXX"/>
                <a:ea typeface="XXXXXX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----  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0  SELECT 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COUNT (STOP 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0      CONCATE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4593        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6025          TABLE ACCESS (BY ROWID) OF 'THISSUGA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602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INDEX (RANGE SCAN) OF 'THISSUGA_IDX4' (NU)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091        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821          TABLE ACCESS (BY ROWID) OF 'THISSUGA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82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INDEX (RANGE SCAN) OF 'THISSUGA_IDX4' (N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76440" y="1116000"/>
            <a:ext cx="7997760" cy="2509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JOB_CLSS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0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0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02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12¿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QUA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JOB_CLSS, SE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512720" y="243000"/>
            <a:ext cx="80535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.  DECODE¿Í GROUP BYÀÇ È¿À²ÀûÀ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296120" y="3097080"/>
            <a:ext cx="1378080" cy="447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ºÐ 24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8520" y="3751200"/>
            <a:ext cx="7832880" cy="4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º´·Ä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19280" y="4137120"/>
            <a:ext cx="7697880" cy="2509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/*+ FULL(QUALIFIER) PARALLEL(QUALIFIER,2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JOB_CLSS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0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QUA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JOB_CLSS, 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ORDER BY  1, 2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054920" y="6095880"/>
            <a:ext cx="1352520" cy="447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ºÐ 13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 txBox="1"/>
          <p:nvPr/>
        </p:nvSpPr>
        <p:spPr>
          <a:xfrm>
            <a:off x="1690560" y="1047600"/>
            <a:ext cx="6754680" cy="6067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ÃÖÁ¾Ä«µå±¸ºÐ, 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ÃÖÁ¾Ä«µå±¸ºÐ, :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Ä«µå¹øÈ£ = :INPUT_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:º»ÀÎÄ«µå¹øÈ£ != NULL)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/*  ÀÔ·ÂµÈ Ä«µå°¡ °¡Á·Ä«µåÀÓ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:INPUT_Ä«µå¹øÈ£ = :º»ÀÎ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ÃÖÁ¾Ä«µå±¸ºÐ != '1') 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 /* ÃÖÁ¾ Ä«µå°¡ ¾Æ´Ô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OR( ; ;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ÃÖÁ¾Ä«µå±¸ºÐ, 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ÃÖÁ¾Ä«µå±¸ºÐ,  :´ÙÀ½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ÀÌÀüÄ«µå¹øÈ£ = :INPUT_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:INPUT_Ä«µå¹øÈ£ = :´ÙÀ½Ä«µå¹øÈ£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ÃÖÁ¾Ä«µå±¸ºÐ = '1') 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/* ÃÖÁ¾Ä«µåÀÓ  */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°í°´¹øÈ£, °áÁ¦ÀÏÀÚ, À¯È¿±â°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°í°´¹øÈ£ , :°áÁ¦ÀÏÀÚ, :À¯È¿±â°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Ä«µå¹øÈ£ = :INPUT_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1500120" y="243000"/>
            <a:ext cx="8802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  <a:ea typeface="Arial Narrow"/>
              </a:rPr>
              <a:t>»ç·Ê 26. º¹ÀâÇÑ RECURSIVE °ü°è¸¦ CONNECT BY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322200" y="1219320"/>
            <a:ext cx="1044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 txBox="1"/>
          <p:nvPr/>
        </p:nvSpPr>
        <p:spPr>
          <a:xfrm>
            <a:off x="291960" y="988920"/>
            <a:ext cx="873108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 QUERY ¹æ½ÄÀ¸·Î ¼öÇàµÇ¾î ½Ã°£ÀÌ ¸¹ÀÌ °É¸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1500120" y="243000"/>
            <a:ext cx="8802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  <a:ea typeface="Arial Narrow"/>
              </a:rPr>
              <a:t>»ç·Ê 26. º¹ÀâÇÑ RECURSIVE °ü°è¸¦ CONNECT BY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639720" y="2930400"/>
            <a:ext cx="8109000" cy="3357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Ä«µå¹øÈ£, °í°´¹øÈ£, °áÁ¦ÀÏÀÚ, À¯È¿±â°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ÃÖÁ¾Ä«µå±¸ºÐ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ART WITH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=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Ä«µå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º»ÀÎÄ«µå¹øÈ£ IS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START WITH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= :INPUT_Ä«µå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CONNECT BY  PRIOR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º»ÀÎÄ«µå¹øÈ£ = Ä«µå¹øÈ£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ONNECT BY  PRIOR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= ÀÌÀüÄ«µå¹øÈ£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8102520" y="4338720"/>
            <a:ext cx="1569960" cy="981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Ã£¾Æ ¿Ã¶ó°¡±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5092560" y="6022800"/>
            <a:ext cx="3063960" cy="58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ÃÖÁ¾ Ä«µå ¹øÈ£ Ã£¾Æ ³»·Á°¡±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279360" y="1117440"/>
            <a:ext cx="8786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ý°èÅ×ÀÌºíÀº Áö³­´ÞÀº ¸¶Áö¸· ³¯Â¥¿¡, ÇöÀç¿ù¿¡´Â ¾îÁ¦±îÁöÀÇ ÇÕ°è ±â·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1511280" y="266760"/>
            <a:ext cx="82929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7. BATCH Áý°èÅ×ÀÌºíÀ» ÀÌ¿ëÇÑ ¿Â¶óÀÎ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1201680" y="2058840"/>
            <a:ext cx="4184640" cy="2549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Áý°èÀÏÀÚ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COL1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CO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1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23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1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BC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2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228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3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5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3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BC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55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4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27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42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344520" y="4791240"/>
            <a:ext cx="885204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4¿ù 28ÀÏ Áý°èÅ×ÀÌºíÀ» °»½ÅÇÏÁö ¸øÇÑ »óÈ²¿¡¼­ 4¿ù 29ÀÏ ÇöÀç±îÁöÀÇ SUM(COL2)¸¦ COL1º°·Î GROUP BYÇÏ¿© º¸°í¼­ ÀÛ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193760" y="254016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193760" y="318276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193760" y="410040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193760" y="354348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 txBox="1"/>
          <p:nvPr/>
        </p:nvSpPr>
        <p:spPr>
          <a:xfrm>
            <a:off x="1517760" y="228600"/>
            <a:ext cx="82486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7. BATCH Áý°èÅ×ÀÌºíÀ» ÀÌ¿ëÇÑ ¿Â¶óÀÎ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279360" y="1117440"/>
            <a:ext cx="916308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4¿ù Áý°è´Â Áý°èÅ×ÀÌºíÀ» ÀÌ¿ë¸øÇÏ°í ¿Â¶óÀÎ Å×ÀÌºí¿¡¼­ Ã³¸®ÇÏ¿© ¼öÇà¼Óµµ Àú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: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ÃÖ´ëÇÑ Áý°èÅ×ÀÌºíÀ» ÀÌ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2935440" y="2368440"/>
            <a:ext cx="115560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60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4146480" y="2368440"/>
            <a:ext cx="119232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602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5392800" y="2368440"/>
            <a:ext cx="115560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60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6622920" y="2368440"/>
            <a:ext cx="111744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a0404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a0404"/>
                </a:solidFill>
                <a:latin typeface="Arial"/>
                <a:ea typeface="Arial"/>
              </a:rPr>
              <a:t>9604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935440" y="349236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88832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30080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2952720" y="3416400"/>
            <a:ext cx="4311720" cy="590400"/>
          </a:xfrm>
          <a:prstGeom prst="rect">
            <a:avLst/>
          </a:prstGeom>
          <a:solidFill>
            <a:srgbClr val="dfdcd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7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¿ù                    2  ¿ù                3  ¿ù          4/2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12740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5608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656748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7888320" y="3435480"/>
            <a:ext cx="950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/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ÇöÀçÀ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822240" y="4079880"/>
            <a:ext cx="5923080" cy="3071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SELECT  COL1, SUM(COL2), . . .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FROM  (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SELECT  COL1, COL2, . . .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Áý°èÅ×ÀÌº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WHERE  Áý°èÀÏÀÚ BETWEEN 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960101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AND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9604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9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SELECT  FLD1 AS COL1, FLD2 AS COL2. . .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ÇöÇàÅ×ÀÌº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WHERE  Ã³¸®ÀÏÀÚ BETWEEN 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9604028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AND 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9504029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)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GROUP BY  COL1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021360" y="3997440"/>
            <a:ext cx="1094040" cy="975240"/>
          </a:xfrm>
          <a:custGeom>
            <a:avLst/>
            <a:gdLst/>
            <a:ahLst/>
            <a:rect l="0" t="0" r="r" b="b"/>
            <a:pathLst>
              <a:path w="3039" h="2709">
                <a:moveTo>
                  <a:pt x="2444" y="522"/>
                </a:moveTo>
                <a:lnTo>
                  <a:pt x="2316" y="492"/>
                </a:lnTo>
                <a:lnTo>
                  <a:pt x="2853" y="0"/>
                </a:lnTo>
                <a:lnTo>
                  <a:pt x="3039" y="686"/>
                </a:lnTo>
                <a:lnTo>
                  <a:pt x="2902" y="644"/>
                </a:lnTo>
                <a:lnTo>
                  <a:pt x="2874" y="741"/>
                </a:lnTo>
                <a:lnTo>
                  <a:pt x="2839" y="878"/>
                </a:lnTo>
                <a:lnTo>
                  <a:pt x="2787" y="1000"/>
                </a:lnTo>
                <a:lnTo>
                  <a:pt x="2737" y="1122"/>
                </a:lnTo>
                <a:lnTo>
                  <a:pt x="2669" y="1244"/>
                </a:lnTo>
                <a:lnTo>
                  <a:pt x="2598" y="1358"/>
                </a:lnTo>
                <a:lnTo>
                  <a:pt x="2524" y="1475"/>
                </a:lnTo>
                <a:lnTo>
                  <a:pt x="2447" y="1579"/>
                </a:lnTo>
                <a:lnTo>
                  <a:pt x="2387" y="1678"/>
                </a:lnTo>
                <a:lnTo>
                  <a:pt x="2305" y="1772"/>
                </a:lnTo>
                <a:lnTo>
                  <a:pt x="2236" y="1853"/>
                </a:lnTo>
                <a:lnTo>
                  <a:pt x="2148" y="1934"/>
                </a:lnTo>
                <a:lnTo>
                  <a:pt x="2072" y="2008"/>
                </a:lnTo>
                <a:lnTo>
                  <a:pt x="1990" y="2082"/>
                </a:lnTo>
                <a:lnTo>
                  <a:pt x="1896" y="2158"/>
                </a:lnTo>
                <a:lnTo>
                  <a:pt x="1798" y="2229"/>
                </a:lnTo>
                <a:lnTo>
                  <a:pt x="1705" y="2290"/>
                </a:lnTo>
                <a:lnTo>
                  <a:pt x="1614" y="2351"/>
                </a:lnTo>
                <a:lnTo>
                  <a:pt x="1506" y="2415"/>
                </a:lnTo>
                <a:lnTo>
                  <a:pt x="1361" y="2483"/>
                </a:lnTo>
                <a:lnTo>
                  <a:pt x="1241" y="2542"/>
                </a:lnTo>
                <a:lnTo>
                  <a:pt x="1128" y="2580"/>
                </a:lnTo>
                <a:lnTo>
                  <a:pt x="1027" y="2613"/>
                </a:lnTo>
                <a:lnTo>
                  <a:pt x="936" y="2638"/>
                </a:lnTo>
                <a:lnTo>
                  <a:pt x="846" y="2661"/>
                </a:lnTo>
                <a:lnTo>
                  <a:pt x="756" y="2676"/>
                </a:lnTo>
                <a:lnTo>
                  <a:pt x="663" y="2691"/>
                </a:lnTo>
                <a:lnTo>
                  <a:pt x="578" y="2699"/>
                </a:lnTo>
                <a:lnTo>
                  <a:pt x="432" y="2709"/>
                </a:lnTo>
                <a:lnTo>
                  <a:pt x="263" y="2709"/>
                </a:lnTo>
                <a:lnTo>
                  <a:pt x="0" y="2696"/>
                </a:lnTo>
                <a:lnTo>
                  <a:pt x="391" y="2666"/>
                </a:lnTo>
                <a:lnTo>
                  <a:pt x="506" y="2646"/>
                </a:lnTo>
                <a:lnTo>
                  <a:pt x="597" y="2618"/>
                </a:lnTo>
                <a:lnTo>
                  <a:pt x="695" y="2590"/>
                </a:lnTo>
                <a:lnTo>
                  <a:pt x="789" y="2554"/>
                </a:lnTo>
                <a:lnTo>
                  <a:pt x="972" y="2473"/>
                </a:lnTo>
                <a:lnTo>
                  <a:pt x="1131" y="2382"/>
                </a:lnTo>
                <a:lnTo>
                  <a:pt x="1282" y="2283"/>
                </a:lnTo>
                <a:lnTo>
                  <a:pt x="1413" y="2163"/>
                </a:lnTo>
                <a:lnTo>
                  <a:pt x="1532" y="2057"/>
                </a:lnTo>
                <a:lnTo>
                  <a:pt x="1683" y="1906"/>
                </a:lnTo>
                <a:lnTo>
                  <a:pt x="1809" y="1767"/>
                </a:lnTo>
                <a:lnTo>
                  <a:pt x="1924" y="1612"/>
                </a:lnTo>
                <a:lnTo>
                  <a:pt x="2017" y="1477"/>
                </a:lnTo>
                <a:lnTo>
                  <a:pt x="2110" y="1317"/>
                </a:lnTo>
                <a:lnTo>
                  <a:pt x="2192" y="1158"/>
                </a:lnTo>
                <a:lnTo>
                  <a:pt x="2261" y="1033"/>
                </a:lnTo>
                <a:lnTo>
                  <a:pt x="2329" y="871"/>
                </a:lnTo>
                <a:lnTo>
                  <a:pt x="2400" y="693"/>
                </a:lnTo>
                <a:lnTo>
                  <a:pt x="2444" y="522"/>
                </a:lnTo>
                <a:close/>
              </a:path>
            </a:pathLst>
          </a:custGeom>
          <a:solidFill>
            <a:srgbClr val="ff8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497640" y="4006800"/>
            <a:ext cx="1332360" cy="2005200"/>
          </a:xfrm>
          <a:custGeom>
            <a:avLst/>
            <a:gdLst/>
            <a:ahLst/>
            <a:rect l="0" t="0" r="r" b="b"/>
            <a:pathLst>
              <a:path w="3701" h="5570">
                <a:moveTo>
                  <a:pt x="2690" y="1068"/>
                </a:moveTo>
                <a:lnTo>
                  <a:pt x="2478" y="968"/>
                </a:lnTo>
                <a:lnTo>
                  <a:pt x="3053" y="0"/>
                </a:lnTo>
                <a:lnTo>
                  <a:pt x="3701" y="1529"/>
                </a:lnTo>
                <a:lnTo>
                  <a:pt x="3487" y="1425"/>
                </a:lnTo>
                <a:lnTo>
                  <a:pt x="3507" y="1683"/>
                </a:lnTo>
                <a:lnTo>
                  <a:pt x="3497" y="1965"/>
                </a:lnTo>
                <a:lnTo>
                  <a:pt x="3474" y="2136"/>
                </a:lnTo>
                <a:lnTo>
                  <a:pt x="3457" y="2348"/>
                </a:lnTo>
                <a:lnTo>
                  <a:pt x="3425" y="2585"/>
                </a:lnTo>
                <a:lnTo>
                  <a:pt x="3391" y="2823"/>
                </a:lnTo>
                <a:lnTo>
                  <a:pt x="3341" y="3060"/>
                </a:lnTo>
                <a:lnTo>
                  <a:pt x="3299" y="3238"/>
                </a:lnTo>
                <a:lnTo>
                  <a:pt x="3243" y="3450"/>
                </a:lnTo>
                <a:lnTo>
                  <a:pt x="3186" y="3666"/>
                </a:lnTo>
                <a:lnTo>
                  <a:pt x="3127" y="3808"/>
                </a:lnTo>
                <a:lnTo>
                  <a:pt x="3060" y="3991"/>
                </a:lnTo>
                <a:lnTo>
                  <a:pt x="2982" y="4132"/>
                </a:lnTo>
                <a:lnTo>
                  <a:pt x="2883" y="4302"/>
                </a:lnTo>
                <a:lnTo>
                  <a:pt x="2784" y="4460"/>
                </a:lnTo>
                <a:lnTo>
                  <a:pt x="2631" y="4635"/>
                </a:lnTo>
                <a:lnTo>
                  <a:pt x="2483" y="4809"/>
                </a:lnTo>
                <a:lnTo>
                  <a:pt x="2345" y="4955"/>
                </a:lnTo>
                <a:lnTo>
                  <a:pt x="2204" y="5075"/>
                </a:lnTo>
                <a:lnTo>
                  <a:pt x="2081" y="5183"/>
                </a:lnTo>
                <a:lnTo>
                  <a:pt x="1950" y="5258"/>
                </a:lnTo>
                <a:lnTo>
                  <a:pt x="1790" y="5350"/>
                </a:lnTo>
                <a:lnTo>
                  <a:pt x="1649" y="5404"/>
                </a:lnTo>
                <a:lnTo>
                  <a:pt x="1462" y="5466"/>
                </a:lnTo>
                <a:lnTo>
                  <a:pt x="1255" y="5508"/>
                </a:lnTo>
                <a:lnTo>
                  <a:pt x="1095" y="5537"/>
                </a:lnTo>
                <a:lnTo>
                  <a:pt x="884" y="5562"/>
                </a:lnTo>
                <a:lnTo>
                  <a:pt x="732" y="5570"/>
                </a:lnTo>
                <a:lnTo>
                  <a:pt x="608" y="5553"/>
                </a:lnTo>
                <a:lnTo>
                  <a:pt x="399" y="5537"/>
                </a:lnTo>
                <a:lnTo>
                  <a:pt x="0" y="5445"/>
                </a:lnTo>
                <a:lnTo>
                  <a:pt x="443" y="5437"/>
                </a:lnTo>
                <a:lnTo>
                  <a:pt x="633" y="5416"/>
                </a:lnTo>
                <a:lnTo>
                  <a:pt x="810" y="5395"/>
                </a:lnTo>
                <a:lnTo>
                  <a:pt x="977" y="5346"/>
                </a:lnTo>
                <a:lnTo>
                  <a:pt x="1122" y="5275"/>
                </a:lnTo>
                <a:lnTo>
                  <a:pt x="1265" y="5200"/>
                </a:lnTo>
                <a:lnTo>
                  <a:pt x="1410" y="5109"/>
                </a:lnTo>
                <a:lnTo>
                  <a:pt x="1521" y="5026"/>
                </a:lnTo>
                <a:lnTo>
                  <a:pt x="1645" y="4926"/>
                </a:lnTo>
                <a:lnTo>
                  <a:pt x="1755" y="4797"/>
                </a:lnTo>
                <a:lnTo>
                  <a:pt x="1852" y="4668"/>
                </a:lnTo>
                <a:lnTo>
                  <a:pt x="1933" y="4568"/>
                </a:lnTo>
                <a:lnTo>
                  <a:pt x="2024" y="4406"/>
                </a:lnTo>
                <a:lnTo>
                  <a:pt x="2123" y="4248"/>
                </a:lnTo>
                <a:lnTo>
                  <a:pt x="2189" y="4099"/>
                </a:lnTo>
                <a:lnTo>
                  <a:pt x="2263" y="3932"/>
                </a:lnTo>
                <a:lnTo>
                  <a:pt x="2354" y="3720"/>
                </a:lnTo>
                <a:lnTo>
                  <a:pt x="2423" y="3475"/>
                </a:lnTo>
                <a:lnTo>
                  <a:pt x="2485" y="3251"/>
                </a:lnTo>
                <a:lnTo>
                  <a:pt x="2537" y="3047"/>
                </a:lnTo>
                <a:lnTo>
                  <a:pt x="2591" y="2806"/>
                </a:lnTo>
                <a:lnTo>
                  <a:pt x="2623" y="2601"/>
                </a:lnTo>
                <a:lnTo>
                  <a:pt x="2648" y="2381"/>
                </a:lnTo>
                <a:lnTo>
                  <a:pt x="2682" y="2136"/>
                </a:lnTo>
                <a:lnTo>
                  <a:pt x="2704" y="1924"/>
                </a:lnTo>
                <a:lnTo>
                  <a:pt x="2714" y="1645"/>
                </a:lnTo>
                <a:lnTo>
                  <a:pt x="2717" y="1429"/>
                </a:lnTo>
                <a:lnTo>
                  <a:pt x="2690" y="1068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3057480" y="284472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¿ù 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4210200" y="286380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¿ù 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5457960" y="284472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¿ù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6676920" y="2863800"/>
            <a:ext cx="1104840" cy="4572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  <a:ea typeface="Arial"/>
              </a:rPr>
              <a:t>ÇöÀç¿ù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362720" y="3502080"/>
            <a:ext cx="486000" cy="438480"/>
          </a:xfrm>
          <a:custGeom>
            <a:avLst/>
            <a:gdLst/>
            <a:ahLst/>
            <a:rect l="0" t="0" r="r" b="b"/>
            <a:pathLst>
              <a:path w="1350" h="1218">
                <a:moveTo>
                  <a:pt x="0" y="405"/>
                </a:moveTo>
                <a:lnTo>
                  <a:pt x="0" y="811"/>
                </a:lnTo>
                <a:lnTo>
                  <a:pt x="945" y="811"/>
                </a:lnTo>
                <a:lnTo>
                  <a:pt x="945" y="1218"/>
                </a:lnTo>
                <a:lnTo>
                  <a:pt x="1350" y="608"/>
                </a:lnTo>
                <a:lnTo>
                  <a:pt x="945" y="0"/>
                </a:lnTo>
                <a:lnTo>
                  <a:pt x="945" y="405"/>
                </a:lnTo>
                <a:lnTo>
                  <a:pt x="0" y="405"/>
                </a:lnTo>
                <a:close/>
              </a:path>
            </a:pathLst>
          </a:custGeom>
          <a:solidFill>
            <a:srgbClr val="fa0404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 txBox="1"/>
          <p:nvPr/>
        </p:nvSpPr>
        <p:spPr>
          <a:xfrm>
            <a:off x="1501920" y="228600"/>
            <a:ext cx="835344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7. BATCH Áý°èÅ×ÀÌºíÀ» ÀÌ¿ëÇÑ ¿Â¶óÀÎ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546120" y="1633680"/>
            <a:ext cx="9148680" cy="52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COL1, SUM(COL2), . . .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COL1, COL2, .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Áý°è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Áý°èÀÏÀÚ BETWEEN :BEGIN_DATE AND TO_CHAR(SYSDATE,'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FLD1 AS COL1, FLD2 AS COL2.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ÇöÇà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Ã³¸®ÀÏÀÚ &gt;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/*+ INDEX_DESC(S Áý°èÀÏÀÚ_IX) */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ý°èÀÏÀ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Áý°èÅ×ÀÌºí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= 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Ã³¸®ÀÏÀÚ &lt;= TO_CHAR(SYSDATE,'YYMMDD')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COL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293760" y="1117440"/>
            <a:ext cx="878688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  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Ïº°Åë°èÁ¤º¸ Å×ÀÌºí°ú ¿ùº°Åë°è Å×ÀÌºíÀ» µ¿½Ã¿¡ ÀÌ¿ëÇÏ¿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ùº° Æò°¡ ±Ý¾× ÇÕ°è¸¦ ¿Â¶óÀÎÀ¸·Î Á¶È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³º° Å×ÀÌºí¿¡¼­ ÀÐ¾î¿Ã °æ¿ì ¿Â¶óÀÎ Ã³¸® °ï¶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15238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</a:t>
            </a: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28. ÀÏº° Áý°è Å×ÀÌºí¿¡¼­ Á÷Á¢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0" name="" descr=""/>
          <p:cNvPicPr/>
          <p:nvPr/>
        </p:nvPicPr>
        <p:blipFill>
          <a:blip r:embed="rId1"/>
          <a:stretch/>
        </p:blipFill>
        <p:spPr>
          <a:xfrm>
            <a:off x="1469880" y="2387520"/>
            <a:ext cx="660096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8. ÀÏº° Áý°è Å×ÀÌºí¿¡¼­ Á÷Á¢ ¿Â¶óÀÎ Á¶È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123920" y="3394080"/>
            <a:ext cx="7601040" cy="9064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141640" y="3387600"/>
            <a:ext cx="0" cy="916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816680" y="3387600"/>
            <a:ext cx="0" cy="916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163600" y="3416400"/>
            <a:ext cx="5626080" cy="86364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984480" y="3398760"/>
            <a:ext cx="0" cy="905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985000" y="3398760"/>
            <a:ext cx="0" cy="893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1335240" y="3022560"/>
            <a:ext cx="5461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13508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777" y="0"/>
                </a:moveTo>
                <a:lnTo>
                  <a:pt x="680" y="243"/>
                </a:lnTo>
                <a:lnTo>
                  <a:pt x="777" y="482"/>
                </a:lnTo>
                <a:lnTo>
                  <a:pt x="0" y="243"/>
                </a:lnTo>
                <a:lnTo>
                  <a:pt x="7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806480" y="2935440"/>
            <a:ext cx="278280" cy="173520"/>
          </a:xfrm>
          <a:custGeom>
            <a:avLst/>
            <a:gdLst/>
            <a:ahLst/>
            <a:rect l="0" t="0" r="r" b="b"/>
            <a:pathLst>
              <a:path w="773" h="482">
                <a:moveTo>
                  <a:pt x="0" y="482"/>
                </a:moveTo>
                <a:lnTo>
                  <a:pt x="92" y="243"/>
                </a:lnTo>
                <a:lnTo>
                  <a:pt x="0" y="0"/>
                </a:lnTo>
                <a:lnTo>
                  <a:pt x="773" y="243"/>
                </a:lnTo>
                <a:lnTo>
                  <a:pt x="0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427120" y="3022560"/>
            <a:ext cx="5137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24316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777" y="0"/>
                </a:moveTo>
                <a:lnTo>
                  <a:pt x="680" y="243"/>
                </a:lnTo>
                <a:lnTo>
                  <a:pt x="777" y="482"/>
                </a:lnTo>
                <a:lnTo>
                  <a:pt x="0" y="243"/>
                </a:lnTo>
                <a:lnTo>
                  <a:pt x="7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7481880" y="2935440"/>
            <a:ext cx="278280" cy="173520"/>
          </a:xfrm>
          <a:custGeom>
            <a:avLst/>
            <a:gdLst/>
            <a:ahLst/>
            <a:rect l="0" t="0" r="r" b="b"/>
            <a:pathLst>
              <a:path w="773" h="482">
                <a:moveTo>
                  <a:pt x="0" y="482"/>
                </a:moveTo>
                <a:lnTo>
                  <a:pt x="92" y="243"/>
                </a:lnTo>
                <a:lnTo>
                  <a:pt x="0" y="0"/>
                </a:lnTo>
                <a:lnTo>
                  <a:pt x="773" y="243"/>
                </a:lnTo>
                <a:lnTo>
                  <a:pt x="0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8028000" y="3022560"/>
            <a:ext cx="4222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82784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777" y="0"/>
                </a:moveTo>
                <a:lnTo>
                  <a:pt x="680" y="243"/>
                </a:lnTo>
                <a:lnTo>
                  <a:pt x="777" y="482"/>
                </a:lnTo>
                <a:lnTo>
                  <a:pt x="0" y="243"/>
                </a:lnTo>
                <a:lnTo>
                  <a:pt x="7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837396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0" y="482"/>
                </a:moveTo>
                <a:lnTo>
                  <a:pt x="97" y="243"/>
                </a:lnTo>
                <a:lnTo>
                  <a:pt x="0" y="0"/>
                </a:lnTo>
                <a:lnTo>
                  <a:pt x="777" y="243"/>
                </a:lnTo>
                <a:lnTo>
                  <a:pt x="0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425600" y="2025720"/>
            <a:ext cx="1922760" cy="851400"/>
          </a:xfrm>
          <a:custGeom>
            <a:avLst/>
            <a:gdLst/>
            <a:ahLst/>
            <a:rect l="0" t="0" r="r" b="b"/>
            <a:pathLst>
              <a:path w="5341" h="2365">
                <a:moveTo>
                  <a:pt x="4459" y="1977"/>
                </a:moveTo>
                <a:lnTo>
                  <a:pt x="4626" y="1968"/>
                </a:lnTo>
                <a:lnTo>
                  <a:pt x="4785" y="1946"/>
                </a:lnTo>
                <a:lnTo>
                  <a:pt x="4939" y="1902"/>
                </a:lnTo>
                <a:lnTo>
                  <a:pt x="5076" y="1862"/>
                </a:lnTo>
                <a:lnTo>
                  <a:pt x="5191" y="1801"/>
                </a:lnTo>
                <a:lnTo>
                  <a:pt x="5266" y="1725"/>
                </a:lnTo>
                <a:lnTo>
                  <a:pt x="5319" y="1654"/>
                </a:lnTo>
                <a:lnTo>
                  <a:pt x="5341" y="1579"/>
                </a:lnTo>
                <a:lnTo>
                  <a:pt x="5341" y="388"/>
                </a:lnTo>
                <a:lnTo>
                  <a:pt x="5319" y="317"/>
                </a:lnTo>
                <a:lnTo>
                  <a:pt x="5266" y="251"/>
                </a:lnTo>
                <a:lnTo>
                  <a:pt x="5191" y="180"/>
                </a:lnTo>
                <a:lnTo>
                  <a:pt x="5076" y="119"/>
                </a:lnTo>
                <a:lnTo>
                  <a:pt x="4939" y="66"/>
                </a:lnTo>
                <a:lnTo>
                  <a:pt x="4785" y="35"/>
                </a:lnTo>
                <a:lnTo>
                  <a:pt x="4626" y="13"/>
                </a:lnTo>
                <a:lnTo>
                  <a:pt x="4459" y="0"/>
                </a:lnTo>
                <a:lnTo>
                  <a:pt x="890" y="0"/>
                </a:lnTo>
                <a:lnTo>
                  <a:pt x="709" y="13"/>
                </a:lnTo>
                <a:lnTo>
                  <a:pt x="555" y="35"/>
                </a:lnTo>
                <a:lnTo>
                  <a:pt x="396" y="66"/>
                </a:lnTo>
                <a:lnTo>
                  <a:pt x="260" y="119"/>
                </a:lnTo>
                <a:lnTo>
                  <a:pt x="145" y="180"/>
                </a:lnTo>
                <a:lnTo>
                  <a:pt x="70" y="251"/>
                </a:lnTo>
                <a:lnTo>
                  <a:pt x="22" y="317"/>
                </a:lnTo>
                <a:lnTo>
                  <a:pt x="0" y="388"/>
                </a:lnTo>
                <a:lnTo>
                  <a:pt x="0" y="1579"/>
                </a:lnTo>
                <a:lnTo>
                  <a:pt x="22" y="1654"/>
                </a:lnTo>
                <a:lnTo>
                  <a:pt x="70" y="1725"/>
                </a:lnTo>
                <a:lnTo>
                  <a:pt x="145" y="1801"/>
                </a:lnTo>
                <a:lnTo>
                  <a:pt x="260" y="1862"/>
                </a:lnTo>
                <a:lnTo>
                  <a:pt x="396" y="1902"/>
                </a:lnTo>
                <a:lnTo>
                  <a:pt x="555" y="1946"/>
                </a:lnTo>
                <a:lnTo>
                  <a:pt x="709" y="1968"/>
                </a:lnTo>
                <a:lnTo>
                  <a:pt x="890" y="1977"/>
                </a:lnTo>
                <a:lnTo>
                  <a:pt x="449" y="2365"/>
                </a:lnTo>
                <a:lnTo>
                  <a:pt x="1327" y="1977"/>
                </a:lnTo>
                <a:lnTo>
                  <a:pt x="4459" y="1977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1668600" y="208764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1657440" y="207648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2090880" y="234000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2079720" y="232740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6524640" y="2049480"/>
            <a:ext cx="1921320" cy="849600"/>
          </a:xfrm>
          <a:custGeom>
            <a:avLst/>
            <a:gdLst/>
            <a:ahLst/>
            <a:rect l="0" t="0" r="r" b="b"/>
            <a:pathLst>
              <a:path w="5337" h="2360">
                <a:moveTo>
                  <a:pt x="3996" y="1972"/>
                </a:moveTo>
                <a:lnTo>
                  <a:pt x="4887" y="2360"/>
                </a:lnTo>
                <a:lnTo>
                  <a:pt x="4451" y="1972"/>
                </a:lnTo>
                <a:lnTo>
                  <a:pt x="4627" y="1972"/>
                </a:lnTo>
                <a:lnTo>
                  <a:pt x="4786" y="1941"/>
                </a:lnTo>
                <a:lnTo>
                  <a:pt x="4940" y="1910"/>
                </a:lnTo>
                <a:lnTo>
                  <a:pt x="5068" y="1857"/>
                </a:lnTo>
                <a:lnTo>
                  <a:pt x="5183" y="1795"/>
                </a:lnTo>
                <a:lnTo>
                  <a:pt x="5267" y="1734"/>
                </a:lnTo>
                <a:lnTo>
                  <a:pt x="5320" y="1659"/>
                </a:lnTo>
                <a:lnTo>
                  <a:pt x="5337" y="1575"/>
                </a:lnTo>
                <a:lnTo>
                  <a:pt x="5337" y="396"/>
                </a:lnTo>
                <a:lnTo>
                  <a:pt x="5320" y="313"/>
                </a:lnTo>
                <a:lnTo>
                  <a:pt x="5267" y="251"/>
                </a:lnTo>
                <a:lnTo>
                  <a:pt x="5183" y="176"/>
                </a:lnTo>
                <a:lnTo>
                  <a:pt x="5068" y="123"/>
                </a:lnTo>
                <a:lnTo>
                  <a:pt x="4940" y="70"/>
                </a:lnTo>
                <a:lnTo>
                  <a:pt x="4786" y="30"/>
                </a:lnTo>
                <a:lnTo>
                  <a:pt x="4627" y="8"/>
                </a:lnTo>
                <a:lnTo>
                  <a:pt x="4451" y="0"/>
                </a:lnTo>
                <a:lnTo>
                  <a:pt x="877" y="0"/>
                </a:lnTo>
                <a:lnTo>
                  <a:pt x="701" y="8"/>
                </a:lnTo>
                <a:lnTo>
                  <a:pt x="542" y="30"/>
                </a:lnTo>
                <a:lnTo>
                  <a:pt x="396" y="70"/>
                </a:lnTo>
                <a:lnTo>
                  <a:pt x="260" y="123"/>
                </a:lnTo>
                <a:lnTo>
                  <a:pt x="145" y="176"/>
                </a:lnTo>
                <a:lnTo>
                  <a:pt x="61" y="251"/>
                </a:lnTo>
                <a:lnTo>
                  <a:pt x="8" y="313"/>
                </a:lnTo>
                <a:lnTo>
                  <a:pt x="0" y="396"/>
                </a:lnTo>
                <a:lnTo>
                  <a:pt x="0" y="1575"/>
                </a:lnTo>
                <a:lnTo>
                  <a:pt x="8" y="1659"/>
                </a:lnTo>
                <a:lnTo>
                  <a:pt x="61" y="1734"/>
                </a:lnTo>
                <a:lnTo>
                  <a:pt x="145" y="1795"/>
                </a:lnTo>
                <a:lnTo>
                  <a:pt x="260" y="1857"/>
                </a:lnTo>
                <a:lnTo>
                  <a:pt x="396" y="1910"/>
                </a:lnTo>
                <a:lnTo>
                  <a:pt x="542" y="1941"/>
                </a:lnTo>
                <a:lnTo>
                  <a:pt x="701" y="1972"/>
                </a:lnTo>
                <a:lnTo>
                  <a:pt x="877" y="1972"/>
                </a:lnTo>
                <a:lnTo>
                  <a:pt x="3996" y="1972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 txBox="1"/>
          <p:nvPr/>
        </p:nvSpPr>
        <p:spPr>
          <a:xfrm>
            <a:off x="6770520" y="211788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6759720" y="210672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7192800" y="236844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7182000" y="235728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894120" y="2071800"/>
            <a:ext cx="1937160" cy="864000"/>
          </a:xfrm>
          <a:custGeom>
            <a:avLst/>
            <a:gdLst/>
            <a:ahLst/>
            <a:rect l="0" t="0" r="r" b="b"/>
            <a:pathLst>
              <a:path w="5381" h="2400">
                <a:moveTo>
                  <a:pt x="4482" y="2004"/>
                </a:moveTo>
                <a:lnTo>
                  <a:pt x="4658" y="1995"/>
                </a:lnTo>
                <a:lnTo>
                  <a:pt x="4826" y="1964"/>
                </a:lnTo>
                <a:lnTo>
                  <a:pt x="4984" y="1942"/>
                </a:lnTo>
                <a:lnTo>
                  <a:pt x="5121" y="1889"/>
                </a:lnTo>
                <a:lnTo>
                  <a:pt x="5223" y="1827"/>
                </a:lnTo>
                <a:lnTo>
                  <a:pt x="5306" y="1756"/>
                </a:lnTo>
                <a:lnTo>
                  <a:pt x="5359" y="1681"/>
                </a:lnTo>
                <a:lnTo>
                  <a:pt x="5381" y="1610"/>
                </a:lnTo>
                <a:lnTo>
                  <a:pt x="5381" y="405"/>
                </a:lnTo>
                <a:lnTo>
                  <a:pt x="5359" y="321"/>
                </a:lnTo>
                <a:lnTo>
                  <a:pt x="5306" y="238"/>
                </a:lnTo>
                <a:lnTo>
                  <a:pt x="5223" y="176"/>
                </a:lnTo>
                <a:lnTo>
                  <a:pt x="5121" y="123"/>
                </a:lnTo>
                <a:lnTo>
                  <a:pt x="4984" y="70"/>
                </a:lnTo>
                <a:lnTo>
                  <a:pt x="4826" y="30"/>
                </a:lnTo>
                <a:lnTo>
                  <a:pt x="4658" y="8"/>
                </a:lnTo>
                <a:lnTo>
                  <a:pt x="4482" y="0"/>
                </a:lnTo>
                <a:lnTo>
                  <a:pt x="899" y="0"/>
                </a:lnTo>
                <a:lnTo>
                  <a:pt x="723" y="8"/>
                </a:lnTo>
                <a:lnTo>
                  <a:pt x="555" y="30"/>
                </a:lnTo>
                <a:lnTo>
                  <a:pt x="396" y="70"/>
                </a:lnTo>
                <a:lnTo>
                  <a:pt x="260" y="123"/>
                </a:lnTo>
                <a:lnTo>
                  <a:pt x="154" y="176"/>
                </a:lnTo>
                <a:lnTo>
                  <a:pt x="70" y="238"/>
                </a:lnTo>
                <a:lnTo>
                  <a:pt x="17" y="321"/>
                </a:lnTo>
                <a:lnTo>
                  <a:pt x="0" y="405"/>
                </a:lnTo>
                <a:lnTo>
                  <a:pt x="0" y="1610"/>
                </a:lnTo>
                <a:lnTo>
                  <a:pt x="17" y="1681"/>
                </a:lnTo>
                <a:lnTo>
                  <a:pt x="70" y="1756"/>
                </a:lnTo>
                <a:lnTo>
                  <a:pt x="154" y="1827"/>
                </a:lnTo>
                <a:lnTo>
                  <a:pt x="260" y="1889"/>
                </a:lnTo>
                <a:lnTo>
                  <a:pt x="396" y="1942"/>
                </a:lnTo>
                <a:lnTo>
                  <a:pt x="555" y="1964"/>
                </a:lnTo>
                <a:lnTo>
                  <a:pt x="723" y="1995"/>
                </a:lnTo>
                <a:lnTo>
                  <a:pt x="899" y="2004"/>
                </a:lnTo>
                <a:lnTo>
                  <a:pt x="1120" y="2400"/>
                </a:lnTo>
                <a:lnTo>
                  <a:pt x="1340" y="2004"/>
                </a:lnTo>
                <a:lnTo>
                  <a:pt x="4482" y="2004"/>
                </a:lnTo>
                <a:close/>
              </a:path>
            </a:pathLst>
          </a:custGeom>
          <a:solidFill>
            <a:srgbClr val="99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133880" y="212868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¿ù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4554360" y="238140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1314360" y="348948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1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1306440" y="348156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1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1432080" y="370368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1424160" y="369576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1314360" y="392112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1.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1306440" y="391320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1.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8040600" y="3478320"/>
            <a:ext cx="458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8034480" y="3470400"/>
            <a:ext cx="458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8105760" y="369252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8097840" y="368460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7988400" y="390996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5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7980480" y="390204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5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2757600" y="368316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2746440" y="367020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3009960" y="368316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2998800" y="367020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4668840" y="368316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3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4657680" y="367020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3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4921200" y="368316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910040" y="367020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6616800" y="368316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6605640" y="367020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6869160" y="368316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6858000" y="367020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1565280" y="5356080"/>
            <a:ext cx="1212840" cy="3430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1619280" y="5375160"/>
            <a:ext cx="1082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LAST_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03360" y="4680000"/>
            <a:ext cx="998640" cy="3430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625320" y="4699080"/>
            <a:ext cx="94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:S_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770440" y="5097600"/>
            <a:ext cx="2682720" cy="3412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5764320" y="5116680"/>
            <a:ext cx="2340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SUBSTR(:E_DATE,1,4)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 txBox="1"/>
          <p:nvPr/>
        </p:nvSpPr>
        <p:spPr>
          <a:xfrm>
            <a:off x="7958160" y="5116680"/>
            <a:ext cx="23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8010360" y="5116680"/>
            <a:ext cx="392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8221680" y="5116680"/>
            <a:ext cx="23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8280360" y="5592600"/>
            <a:ext cx="998640" cy="3430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8300880" y="5611680"/>
            <a:ext cx="94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:E_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1135080" y="4413240"/>
            <a:ext cx="0" cy="285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071720" y="4308480"/>
            <a:ext cx="127440" cy="149760"/>
          </a:xfrm>
          <a:custGeom>
            <a:avLst/>
            <a:gdLst/>
            <a:ahLst/>
            <a:rect l="0" t="0" r="r" b="b"/>
            <a:pathLst>
              <a:path w="354" h="416">
                <a:moveTo>
                  <a:pt x="354" y="416"/>
                </a:moveTo>
                <a:lnTo>
                  <a:pt x="177" y="354"/>
                </a:lnTo>
                <a:lnTo>
                  <a:pt x="0" y="416"/>
                </a:lnTo>
                <a:lnTo>
                  <a:pt x="177" y="0"/>
                </a:lnTo>
                <a:lnTo>
                  <a:pt x="354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2141640" y="4402080"/>
            <a:ext cx="0" cy="961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077920" y="4297320"/>
            <a:ext cx="127440" cy="149760"/>
          </a:xfrm>
          <a:custGeom>
            <a:avLst/>
            <a:gdLst/>
            <a:ahLst/>
            <a:rect l="0" t="0" r="r" b="b"/>
            <a:pathLst>
              <a:path w="354" h="416">
                <a:moveTo>
                  <a:pt x="354" y="416"/>
                </a:moveTo>
                <a:lnTo>
                  <a:pt x="177" y="354"/>
                </a:lnTo>
                <a:lnTo>
                  <a:pt x="0" y="416"/>
                </a:lnTo>
                <a:lnTo>
                  <a:pt x="177" y="0"/>
                </a:lnTo>
                <a:lnTo>
                  <a:pt x="354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7816680" y="4390920"/>
            <a:ext cx="0" cy="714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7753320" y="4284720"/>
            <a:ext cx="127440" cy="151200"/>
          </a:xfrm>
          <a:custGeom>
            <a:avLst/>
            <a:gdLst/>
            <a:ahLst/>
            <a:rect l="0" t="0" r="r" b="b"/>
            <a:pathLst>
              <a:path w="354" h="420">
                <a:moveTo>
                  <a:pt x="354" y="420"/>
                </a:moveTo>
                <a:lnTo>
                  <a:pt x="177" y="359"/>
                </a:lnTo>
                <a:lnTo>
                  <a:pt x="0" y="420"/>
                </a:lnTo>
                <a:lnTo>
                  <a:pt x="177" y="0"/>
                </a:lnTo>
                <a:lnTo>
                  <a:pt x="354" y="4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8709120" y="4413240"/>
            <a:ext cx="0" cy="1198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8645400" y="4308480"/>
            <a:ext cx="128880" cy="149760"/>
          </a:xfrm>
          <a:custGeom>
            <a:avLst/>
            <a:gdLst/>
            <a:ahLst/>
            <a:rect l="0" t="0" r="r" b="b"/>
            <a:pathLst>
              <a:path w="358" h="416">
                <a:moveTo>
                  <a:pt x="358" y="416"/>
                </a:moveTo>
                <a:lnTo>
                  <a:pt x="176" y="354"/>
                </a:lnTo>
                <a:lnTo>
                  <a:pt x="0" y="416"/>
                </a:lnTo>
                <a:lnTo>
                  <a:pt x="176" y="0"/>
                </a:lnTo>
                <a:lnTo>
                  <a:pt x="358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2344680" y="4600440"/>
            <a:ext cx="1971720" cy="343080"/>
          </a:xfrm>
          <a:prstGeom prst="roundRect">
            <a:avLst/>
          </a:prstGeom>
          <a:solidFill>
            <a:srgbClr val="99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2411280" y="462744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XXXX"/>
                <a:ea typeface="XXXX"/>
              </a:rPr>
              <a:t>ADD_MONTHS  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2403360" y="461952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ADD_MONTHS  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5724360" y="4567320"/>
            <a:ext cx="1892160" cy="341280"/>
          </a:xfrm>
          <a:prstGeom prst="roundRect">
            <a:avLst/>
          </a:prstGeom>
          <a:solidFill>
            <a:srgbClr val="99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5753160" y="459432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XXXX"/>
                <a:ea typeface="XXXX"/>
              </a:rPr>
              <a:t>ADD_MONTHS  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5746680" y="458640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ADD_MONTHS  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3203640" y="4402080"/>
            <a:ext cx="0" cy="206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3139920" y="4297320"/>
            <a:ext cx="128880" cy="149760"/>
          </a:xfrm>
          <a:custGeom>
            <a:avLst/>
            <a:gdLst/>
            <a:ahLst/>
            <a:rect l="0" t="0" r="r" b="b"/>
            <a:pathLst>
              <a:path w="358" h="416">
                <a:moveTo>
                  <a:pt x="358" y="416"/>
                </a:moveTo>
                <a:lnTo>
                  <a:pt x="176" y="354"/>
                </a:lnTo>
                <a:lnTo>
                  <a:pt x="0" y="416"/>
                </a:lnTo>
                <a:lnTo>
                  <a:pt x="176" y="0"/>
                </a:lnTo>
                <a:lnTo>
                  <a:pt x="358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6912000" y="4390920"/>
            <a:ext cx="0" cy="195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848640" y="4284720"/>
            <a:ext cx="128880" cy="151200"/>
          </a:xfrm>
          <a:custGeom>
            <a:avLst/>
            <a:gdLst/>
            <a:ahLst/>
            <a:rect l="0" t="0" r="r" b="b"/>
            <a:pathLst>
              <a:path w="358" h="420">
                <a:moveTo>
                  <a:pt x="358" y="420"/>
                </a:moveTo>
                <a:lnTo>
                  <a:pt x="176" y="359"/>
                </a:lnTo>
                <a:lnTo>
                  <a:pt x="0" y="420"/>
                </a:lnTo>
                <a:lnTo>
                  <a:pt x="176" y="0"/>
                </a:lnTo>
                <a:lnTo>
                  <a:pt x="358" y="4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8. ÀÏº° Áý°è Å×ÀÌºí¿¡¼­ Á÷Á¢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447840" y="1662120"/>
            <a:ext cx="9375840" cy="5320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V.¿µ¾÷¿ù,  V.Æò°¡±Ý¾×Ç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SUBSTR(¿µ¾÷ÀÏ,1,4) AS ¿µ¾÷¿ù, SUM(Æò°¡±Ý¾×) AS Æò°¡±Ý¾×Ç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ÁöÁ¡¹øÈ£ = :B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700" spc="-1" strike="noStrike">
                <a:solidFill>
                  <a:srgbClr val="6600cc"/>
                </a:solidFill>
                <a:latin typeface="XXXXXX"/>
                <a:ea typeface="XXXXXX"/>
              </a:rPr>
              <a:t>(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(¿µ¾÷ÀÏ BETWEEN :S_D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O_CHAR(LAST_DAY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O_DATE(:S_DATE,'YYMMDD')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'YYMMDD')</a:t>
            </a:r>
            <a:r>
              <a:rPr b="1" lang="en-US" sz="1600" spc="-1" strike="noStrike">
                <a:solidFill>
                  <a:srgbClr val="6600cc"/>
                </a:solidFill>
                <a:latin typeface="XXXXXX"/>
                <a:ea typeface="XXXXXX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ff3300"/>
                </a:solidFill>
                <a:latin typeface="XXXXXX"/>
                <a:ea typeface="XXXXXX"/>
              </a:rPr>
              <a:t>                </a:t>
            </a:r>
            <a:r>
              <a:rPr b="1" lang="en-US" sz="1700" spc="-1" strike="noStrike">
                <a:solidFill>
                  <a:srgbClr val="990000"/>
                </a:solidFill>
                <a:latin typeface="XXXXXX"/>
                <a:ea typeface="XXXXXX"/>
              </a:rPr>
              <a:t>OR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(¿µ¾÷ÀÏ BETWEEN  SUBSTR(:E_DATE,1,4) || '01'  AND :E_DATE)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GROUP  BY  SUBSTR(¿µ¾÷ÀÏ,1,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¿µ¾÷¿ù,  Æò°¡±Ý¾×  AS  Æò°¡±Ý¾×Ç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¿ù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ÁöÁ¡¹øÈ£ = :B1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¿µ¾÷¿ù &gt;= </a:t>
            </a:r>
            <a:r>
              <a:rPr b="1" lang="en-US" sz="1700" spc="-1" strike="noStrike">
                <a:solidFill>
                  <a:srgbClr val="ff33ff"/>
                </a:solidFill>
                <a:latin typeface="XXXXXX"/>
                <a:ea typeface="XXXXXX"/>
              </a:rPr>
              <a:t>SUBSTR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(TO_CHAR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(ADD_MONTHS(TO_DATE(:S_DATE,'YYMMDD') ,1)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                 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'YYMMDD')</a:t>
            </a:r>
            <a:r>
              <a:rPr b="1" lang="en-US" sz="1700" spc="-1" strike="noStrike">
                <a:solidFill>
                  <a:srgbClr val="ff33ff"/>
                </a:solidFill>
                <a:latin typeface="XXXXXX"/>
                <a:ea typeface="XXXXXX"/>
              </a:rPr>
              <a:t>, 1, 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¿µ¾÷¿ù &lt;= SUBSTR(TO_CHAR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(ADD_MONTHS(TO_DATE(:E_DATE,'YYMMDD'), -1)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'YYMMDD'), 1, 4)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) 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ORDER  BY  V.¿µ¾÷¿ù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 txBox="1"/>
          <p:nvPr/>
        </p:nvSpPr>
        <p:spPr>
          <a:xfrm>
            <a:off x="150012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263520" y="1117440"/>
            <a:ext cx="943776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512640" y="2438280"/>
            <a:ext cx="3841920" cy="33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èÁÂ¹øÈ£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°Å·¡¸¶°¨ÀÏ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ÀÜ¾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1.0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0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1.1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6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-34567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1.16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25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02.0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8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-34567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2.1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1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02.1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35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03.18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5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-34567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3.3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2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</a:t>
            </a:r>
            <a:r>
              <a:rPr b="1" lang="en-US" sz="1600" spc="-1" strike="noStrike">
                <a:solidFill>
                  <a:srgbClr val="00cc00"/>
                </a:solidFill>
                <a:latin typeface="XXXXXX"/>
                <a:ea typeface="XXXXXX"/>
              </a:rPr>
              <a:t>04.13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0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4.1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5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63680" y="2376360"/>
            <a:ext cx="3911760" cy="3144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4578480" y="4581360"/>
            <a:ext cx="4878360" cy="1940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) 1996.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1.16</a:t>
            </a: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 1996.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4.16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»çÀÌ ÀÏÀÚ ¼ö :</a:t>
            </a: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 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) 3 °³¿ù°£ Æò±Õ ÀÜ¾×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( 21 *  6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 9 *  8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29 * 135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25 *  5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 3 * 1000000) ¡À </a:t>
            </a: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9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=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818,131 ¿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1163520" y="1971720"/>
            <a:ext cx="256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  <a:ea typeface="Arial"/>
              </a:rPr>
              <a:t>ÀÏº°°Å·¡±â·Ï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5183280" y="1525680"/>
            <a:ext cx="4114800" cy="48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±¸ÁÂ¹øÈ£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 23-1234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Ç ÇØ´ç±â°£ ¿¹Ä¡±Ý¾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5865840" y="4194000"/>
            <a:ext cx="229536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°³¿ù°£  Æò±ÕÀÜ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58640" y="2852640"/>
            <a:ext cx="389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5097600" y="1986120"/>
            <a:ext cx="4272120" cy="2205720"/>
            <a:chOff x="5097600" y="1986120"/>
            <a:chExt cx="4272120" cy="2205720"/>
          </a:xfrm>
        </p:grpSpPr>
        <p:sp>
          <p:nvSpPr>
            <p:cNvPr id="1300" name=""/>
            <p:cNvSpPr txBox="1"/>
            <p:nvPr/>
          </p:nvSpPr>
          <p:spPr>
            <a:xfrm>
              <a:off x="5097600" y="1989000"/>
              <a:ext cx="4272120" cy="2202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ÇØ´ç±â°£          ¿¹Ä¡ÀÏ¼ö     ±Ý¾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</a:t>
              </a:r>
              <a:r>
                <a:rPr b="1" lang="en-US" sz="1400" spc="-1" strike="noStrike">
                  <a:solidFill>
                    <a:srgbClr val="ff0033"/>
                  </a:solidFill>
                  <a:latin typeface="XXXXXX"/>
                  <a:ea typeface="XXXXXX"/>
                </a:rPr>
                <a:t>01.16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- 1996.02.06     21 ÀÏ     6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2.07 - 1996.02.16      9 ÀÏ     8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2.17 - 1996.03.17     29 ÀÏ   1,35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3.18 - 1996.04.12     25 ÀÏ     5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4.13 - 1996.</a:t>
              </a:r>
              <a:r>
                <a:rPr b="1" lang="en-US" sz="1400" spc="-1" strike="noStrike">
                  <a:solidFill>
                    <a:srgbClr val="00cc00"/>
                  </a:solidFill>
                  <a:latin typeface="XXXXXX"/>
                  <a:ea typeface="XXXXXX"/>
                </a:rPr>
                <a:t>04.16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   3 ÀÏ   1,0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97600" y="239220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396200" y="198612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345520" y="198612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2998800" y="2370240"/>
            <a:ext cx="0" cy="3155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3173400" y="1041480"/>
            <a:ext cx="4489560" cy="392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°èÁÂ¹øÈ£+°Å·¡¸¶°¨ÀÏ(PK) ÀÎµ¦½º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 txBox="1"/>
          <p:nvPr/>
        </p:nvSpPr>
        <p:spPr>
          <a:xfrm>
            <a:off x="151272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235080" y="98748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446040" y="1400040"/>
            <a:ext cx="7934400" cy="4433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ADD_MONTHS ( SYSDATE, -3 )  INTO :3°³¿ùÀüÀÏÀÚ  FROM  DUAL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DECLARE  CURSOR  CUR1  F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°Å·¡¸¶°¨ÀÏ,  ÀÜ¾×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°Å·¡¸¶°¨ÀÏ &gt;= ( SELECT  MAX(°Å·¡¸¶°¨ÀÏ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lt;= :3°³¿ùÀüÀÏÀÚ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°èÁÂ ¹øÈ£ = '23-12345'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lt;= SYSD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ORDER BY  °Å·¡¸¶°¨ÀÏ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OPEN  CUR1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FOR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( ; ;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ETCH  CUR1  INTO :°Å·¡¸¶°¨ÀÏ, :ÀÜ¾×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. . . . . . . 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 txBox="1"/>
          <p:nvPr/>
        </p:nvSpPr>
        <p:spPr>
          <a:xfrm>
            <a:off x="214200" y="5599080"/>
            <a:ext cx="950904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ÇüÅÂ·Î Ã³¸®µÇ¹Ç·Î ¼Óµµ°¡ ´À¸®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244520" y="1081080"/>
            <a:ext cx="7280280" cy="5967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JC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1',CNT,0)) AS 960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2',CNT,0)) AS 9602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3',CNT,0)) AS 9603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4',CNT,0)) AS 9604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10',CNT,0)) AS 9610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11',CNT,0)) AS 961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12',CNT,0)) AS 9612¿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/*+ FULL(QUALIFIER) PARALLEL(QUALIFIER,2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JOB_CLSS AS JC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BSTR(REG_DATE,1,6) AS REG_M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OUNT(*) AS 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QUA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JOB_CLSS, SEX, SUBSTR(REG_DATE,1,6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JC, SEX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00120" y="243000"/>
            <a:ext cx="80535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.  DECODE¿Í GROUP BYÀÇ È¿À²ÀûÀ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7913520" y="3747960"/>
            <a:ext cx="164160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: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 14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359480" y="4775040"/>
            <a:ext cx="1949400" cy="419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arallel : 27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151272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235080" y="1117440"/>
            <a:ext cx="96091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: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IN-LINE VIEW¸¦ ÀÌ¿ë (¿¹Ä¡±â°£À» ¾Ë¾Æ³»±â À§ÇÑ ROWNUM Shift°¡ Æ÷ÀÎÆ®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22440" y="2330280"/>
            <a:ext cx="1944720" cy="428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 txBox="1"/>
          <p:nvPr/>
        </p:nvSpPr>
        <p:spPr>
          <a:xfrm>
            <a:off x="6070680" y="3132000"/>
            <a:ext cx="2906640" cy="5526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 °³¿ù Àü ³¯Â¥ : 1996.01.16 À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(Æò±ÕÀÜ¾× °è»êÀÇ ½ÃÀÛÀ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 txBox="1"/>
          <p:nvPr/>
        </p:nvSpPr>
        <p:spPr>
          <a:xfrm>
            <a:off x="5824440" y="2416320"/>
            <a:ext cx="3414600" cy="527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 °³¿ù Àü ³¯Â¥ ±âÁ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¡Àå ÃÖ±Ù °Å·¡ ÀÏÀÚ : 1996.01.12 À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22440" y="3419640"/>
            <a:ext cx="1944720" cy="26100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641520" y="2606760"/>
            <a:ext cx="1909800" cy="263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1.12  6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646200" y="3797280"/>
            <a:ext cx="1893960" cy="26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2.17  8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638280" y="5194440"/>
            <a:ext cx="1913040" cy="26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4.13 10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1473120" y="1731960"/>
            <a:ext cx="1413000" cy="43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½ÇÁ¦°Å·¡±â·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758320" y="2757600"/>
            <a:ext cx="675720" cy="410040"/>
          </a:xfrm>
          <a:custGeom>
            <a:avLst/>
            <a:gdLst/>
            <a:ahLst/>
            <a:rect l="0" t="0" r="r" b="b"/>
            <a:pathLst>
              <a:path fill="none" w="1877" h="1139">
                <a:moveTo>
                  <a:pt x="1877" y="1139"/>
                </a:moveTo>
                <a:lnTo>
                  <a:pt x="1877" y="1139"/>
                </a:lnTo>
                <a:lnTo>
                  <a:pt x="1877" y="1139"/>
                </a:lnTo>
                <a:cubicBezTo>
                  <a:pt x="1877" y="939"/>
                  <a:pt x="1790" y="743"/>
                  <a:pt x="1626" y="569"/>
                </a:cubicBezTo>
                <a:cubicBezTo>
                  <a:pt x="1461" y="396"/>
                  <a:pt x="1224" y="253"/>
                  <a:pt x="938" y="153"/>
                </a:cubicBezTo>
                <a:cubicBezTo>
                  <a:pt x="653" y="53"/>
                  <a:pt x="329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730600" y="5351400"/>
            <a:ext cx="772560" cy="470880"/>
          </a:xfrm>
          <a:custGeom>
            <a:avLst/>
            <a:gdLst/>
            <a:ahLst/>
            <a:rect l="0" t="0" r="r" b="b"/>
            <a:pathLst>
              <a:path fill="none" w="2146" h="1308">
                <a:moveTo>
                  <a:pt x="2146" y="1308"/>
                </a:moveTo>
                <a:lnTo>
                  <a:pt x="2146" y="1308"/>
                </a:lnTo>
                <a:cubicBezTo>
                  <a:pt x="2121" y="1097"/>
                  <a:pt x="2025" y="893"/>
                  <a:pt x="1864" y="710"/>
                </a:cubicBezTo>
                <a:cubicBezTo>
                  <a:pt x="1675" y="494"/>
                  <a:pt x="1404" y="315"/>
                  <a:pt x="1077" y="190"/>
                </a:cubicBezTo>
                <a:cubicBezTo>
                  <a:pt x="749" y="66"/>
                  <a:pt x="378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2550960" y="3432240"/>
            <a:ext cx="3146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3006720" y="2701800"/>
            <a:ext cx="2649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2897280" y="3259080"/>
            <a:ext cx="1841400" cy="339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1.16  6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6103800" y="5824440"/>
            <a:ext cx="3444840" cy="48492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Æò±ÕÀÜ¾× °è»êÀÇ Á¾·áÀÏ : 1996.04.1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 flipH="1">
            <a:off x="2550960" y="6029280"/>
            <a:ext cx="3146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2952720" y="5842080"/>
            <a:ext cx="1841400" cy="339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4.16 10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5851440" y="5106960"/>
            <a:ext cx="314784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¡Àå ÃÖ±Ù °Å·¡ ÀÏÀÚ : 1996.04.1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 flipH="1">
            <a:off x="2965320" y="5286240"/>
            <a:ext cx="27608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2827440" y="4227480"/>
            <a:ext cx="4856040" cy="38736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½ÇÁ¦ °è»ê¿¡ ÇÊ¿äÇÑ °Å·¡±â·Ï (96.01.16 ~ 96.04.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3780000" y="3576600"/>
            <a:ext cx="0" cy="6667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3792600" y="4597560"/>
            <a:ext cx="0" cy="125388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1300320" y="3908520"/>
            <a:ext cx="326880" cy="14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 txBox="1"/>
          <p:nvPr/>
        </p:nvSpPr>
        <p:spPr>
          <a:xfrm>
            <a:off x="1322280" y="243000"/>
            <a:ext cx="8218440" cy="9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1"/>
          <a:stretch/>
        </p:blipFill>
        <p:spPr>
          <a:xfrm>
            <a:off x="1106640" y="2214720"/>
            <a:ext cx="7378560" cy="4010040"/>
          </a:xfrm>
          <a:prstGeom prst="rect">
            <a:avLst/>
          </a:prstGeom>
          <a:ln w="0">
            <a:noFill/>
          </a:ln>
        </p:spPr>
      </p:pic>
      <p:sp>
        <p:nvSpPr>
          <p:cNvPr id="1339" name=""/>
          <p:cNvSpPr txBox="1"/>
          <p:nvPr/>
        </p:nvSpPr>
        <p:spPr>
          <a:xfrm>
            <a:off x="501480" y="1387440"/>
            <a:ext cx="4308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ROWNUM Shift¿¡ ÀÇÇÑ ¿¹Ä¡±â°£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 txBox="1"/>
          <p:nvPr/>
        </p:nvSpPr>
        <p:spPr>
          <a:xfrm>
            <a:off x="152568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291960" y="1033560"/>
            <a:ext cx="9423360" cy="6255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SUM ( (V2.°Å·¡¸¶°¨ÀÏ - V1.°Å·¡¸¶°¨ÀÏ) * V1.ÀÜ¾× 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/ (SYSDATE - (ADD_MONTHS(SYSDATE, -3)) )  AS  Æò±ÕÀ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ROWNUM  AS  RNUM1 , ÀÜ¾×,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DECODE(SIGN(°Å·¡¸¶°¨ÀÏ - ADD_MONTHS(SYSDATE,-3) ), </a:t>
            </a:r>
            <a:r>
              <a:rPr b="1" lang="en-US" sz="1500" spc="-1" strike="noStrike">
                <a:solidFill>
                  <a:srgbClr val="00cc00"/>
                </a:solidFill>
                <a:latin typeface="XXXXXX"/>
                <a:ea typeface="XXXXXX"/>
              </a:rPr>
              <a:t>&lt;-- </a:t>
            </a:r>
            <a:r>
              <a:rPr b="1" lang="en-US" sz="1300" spc="-1" strike="noStrike">
                <a:solidFill>
                  <a:srgbClr val="00cc00"/>
                </a:solidFill>
                <a:latin typeface="XXXXXX"/>
                <a:ea typeface="XXXXXX"/>
              </a:rPr>
              <a:t>°Å·¡¸¶°¨ÀÏ or 3 °³¿ùÀü ÀÏÀ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-1, ADD_MONTHS(SYSDATE,-3), °Å·¡¸¶°¨ÀÏ) AS °Å·¡¸¶°¨ÀÏ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  AND °Å·¡¸¶°¨ÀÏ &lt; SYSD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gt;= (SELECT  NVL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(MAX(°Å·¡¸¶°¨ÀÏ)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DD_MONTHS(SYSDATE,-3))   </a:t>
            </a:r>
            <a:r>
              <a:rPr b="1" lang="en-US" sz="1500" spc="-1" strike="noStrike">
                <a:solidFill>
                  <a:srgbClr val="00cc00"/>
                </a:solidFill>
                <a:latin typeface="XXXXXX"/>
                <a:ea typeface="XXXXXX"/>
              </a:rPr>
              <a:t>&lt;-- 3</a:t>
            </a:r>
            <a:r>
              <a:rPr b="1" lang="en-US" sz="1300" spc="-1" strike="noStrike">
                <a:solidFill>
                  <a:srgbClr val="00cc00"/>
                </a:solidFill>
                <a:latin typeface="XXXXXX"/>
                <a:ea typeface="XXXXXX"/>
              </a:rPr>
              <a:t>°³¿ùÀü¿¡¼­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cc00"/>
                </a:solidFill>
                <a:latin typeface="XXXXXX"/>
                <a:ea typeface="XXXXXX"/>
              </a:rPr>
              <a:t>°¡ÀåÃÖ±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°Å·¡¸¶°¨ÀÏ &lt;= ADD_MONTHS(SYSDATE, -3)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) ) </a:t>
            </a:r>
            <a:r>
              <a:rPr b="1" lang="en-US" sz="1500" spc="-1" strike="noStrike">
                <a:solidFill>
                  <a:srgbClr val="990000"/>
                </a:solidFill>
                <a:latin typeface="XXXXXX"/>
                <a:ea typeface="XXXXXX"/>
              </a:rPr>
              <a:t>V1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(SELECT  ROWNUM AS  RNUM2, °Å·¡¸¶°¨ÀÏ, À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ÀÜ¾×, DECODE(SIGN(°Å·¡¸¶°¨ÀÏ - ADD_MONTHS(SYSDATE, -3))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-1, ADD_MONTHS(SYSDATE,-3), °Å·¡¸¶°¨ÀÏ) AS °Å·¡¸¶°¨À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  AND  °Å·¡¸¶°¨ÀÏ &lt; SYSDAT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gt;= (SELECT  NVL(MAX(°Å·¡¸¶°¨ÀÏ), ADD_MONTHS(SYSDATE,-3) 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lt;= ADD_MONTHS(SYSDATE , -3) 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</a:t>
            </a:r>
            <a:r>
              <a:rPr b="1" lang="en-US" sz="1500" spc="-1" strike="noStrike">
                <a:solidFill>
                  <a:srgbClr val="ff33ff"/>
                </a:solidFill>
                <a:latin typeface="XXXXXX"/>
                <a:ea typeface="XXXXXX"/>
              </a:rPr>
              <a:t>SELECT 0 AS ÀÜ¾×, SYSDATE AS °Å·¡¸¶°¨ÀÏ FROM DUAL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) </a:t>
            </a:r>
            <a:r>
              <a:rPr b="1" lang="en-US" sz="1500" spc="-1" strike="noStrike">
                <a:solidFill>
                  <a:srgbClr val="990000"/>
                </a:solidFill>
                <a:latin typeface="XXXXXX"/>
                <a:ea typeface="XXXXXX"/>
              </a:rPr>
              <a:t>V2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500" spc="-1" strike="noStrike">
                <a:solidFill>
                  <a:srgbClr val="00cc00"/>
                </a:solidFill>
                <a:latin typeface="XXXXXX"/>
                <a:ea typeface="XXXXXX"/>
              </a:rPr>
              <a:t>&lt;- 1 Ä­ Shift À§Ç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V1.RNUM1 + 1  =  V2.RNUM2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279360" y="1117440"/>
            <a:ext cx="2075040" cy="36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1501920" y="266760"/>
            <a:ext cx="83790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254560" y="2189160"/>
            <a:ext cx="17316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9323280" y="4608360"/>
            <a:ext cx="246600" cy="367200"/>
          </a:xfrm>
          <a:custGeom>
            <a:avLst/>
            <a:gdLst/>
            <a:ahLst/>
            <a:rect l="0" t="0" r="r" b="b"/>
            <a:pathLst>
              <a:path w="685" h="1020">
                <a:moveTo>
                  <a:pt x="685" y="1020"/>
                </a:moveTo>
                <a:lnTo>
                  <a:pt x="685" y="0"/>
                </a:lnTo>
                <a:lnTo>
                  <a:pt x="0" y="0"/>
                </a:lnTo>
                <a:lnTo>
                  <a:pt x="0" y="1020"/>
                </a:lnTo>
                <a:lnTo>
                  <a:pt x="685" y="1020"/>
                </a:lnTo>
                <a:close/>
              </a:path>
            </a:pathLst>
          </a:cu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768240" y="4495680"/>
            <a:ext cx="7566120" cy="20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CMF_CUST :  ICMF_CUST_PK   :  ID_NO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CMF_CUST :  ICMF_CUST_IDX1 :  BR_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DDA_ACCT :  WDDA_ACCT_PK   :  ACCT_SEQ + GIJUN_IL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DDA_ACCT :  WDDA_ACCT_IDX1 :  GIJUN_IL + I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3022560" y="1333440"/>
            <a:ext cx="99864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í°´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4365720" y="2687760"/>
            <a:ext cx="1633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     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6014880" y="1333440"/>
            <a:ext cx="18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èÁÂº° ÀÏÀÏ ÀÜ°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 txBox="1"/>
          <p:nvPr/>
        </p:nvSpPr>
        <p:spPr>
          <a:xfrm>
            <a:off x="2838600" y="3570120"/>
            <a:ext cx="120348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00¸¸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5983200" y="3568680"/>
            <a:ext cx="1917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60¸¸ ROWS / 2 À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4462560" y="2468520"/>
            <a:ext cx="1508040" cy="213120"/>
            <a:chOff x="4462560" y="2468520"/>
            <a:chExt cx="1508040" cy="213120"/>
          </a:xfrm>
        </p:grpSpPr>
        <p:sp>
          <p:nvSpPr>
            <p:cNvPr id="1355" name=""/>
            <p:cNvSpPr/>
            <p:nvPr/>
          </p:nvSpPr>
          <p:spPr>
            <a:xfrm>
              <a:off x="5211720" y="2573280"/>
              <a:ext cx="744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4462560" y="2568600"/>
              <a:ext cx="707760" cy="79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662440" y="2468520"/>
              <a:ext cx="308160" cy="213120"/>
            </a:xfrm>
            <a:custGeom>
              <a:avLst/>
              <a:gdLst/>
              <a:ahLst/>
              <a:rect l="0" t="0" r="r" b="b"/>
              <a:pathLst>
                <a:path fill="none" w="856" h="592">
                  <a:moveTo>
                    <a:pt x="838" y="0"/>
                  </a:moveTo>
                  <a:lnTo>
                    <a:pt x="0" y="293"/>
                  </a:lnTo>
                  <a:lnTo>
                    <a:pt x="856" y="59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2720880" y="1795320"/>
            <a:ext cx="1816200" cy="1728720"/>
            <a:chOff x="2720880" y="1795320"/>
            <a:chExt cx="1816200" cy="1728720"/>
          </a:xfrm>
        </p:grpSpPr>
        <p:sp>
          <p:nvSpPr>
            <p:cNvPr id="1359" name=""/>
            <p:cNvSpPr txBox="1"/>
            <p:nvPr/>
          </p:nvSpPr>
          <p:spPr>
            <a:xfrm>
              <a:off x="2720880" y="1795320"/>
              <a:ext cx="1816200" cy="1728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ICMF_CU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ID_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CUST_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CUST_PH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BR_C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720880" y="2179800"/>
              <a:ext cx="1795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5956200" y="1805040"/>
            <a:ext cx="1817640" cy="2156760"/>
            <a:chOff x="5956200" y="1805040"/>
            <a:chExt cx="1817640" cy="2156760"/>
          </a:xfrm>
        </p:grpSpPr>
        <p:sp>
          <p:nvSpPr>
            <p:cNvPr id="1362" name=""/>
            <p:cNvSpPr txBox="1"/>
            <p:nvPr/>
          </p:nvSpPr>
          <p:spPr>
            <a:xfrm>
              <a:off x="5956200" y="1805040"/>
              <a:ext cx="1817640" cy="2156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WDDA_AC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ACCT_SE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GIJUN_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ID_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CUR_B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956200" y="2189160"/>
              <a:ext cx="1795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 txBox="1"/>
          <p:nvPr/>
        </p:nvSpPr>
        <p:spPr>
          <a:xfrm>
            <a:off x="414360" y="995400"/>
            <a:ext cx="2401920" cy="32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2163600" y="1380960"/>
            <a:ext cx="6189840" cy="1901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 A.CUST_NAME,  SUM(B.CUR_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CMF_CUST  A,  WDDA_ACCT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A.ID_NO  =  B.I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A.BR_CD = :IBRCD  AND  B.GIJUN_IL = :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 A.CUST_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HAVING  SUM(B.CUR_BAL)  &gt;=  :ISUMBAL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2217600" y="3773520"/>
            <a:ext cx="7048440" cy="2797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a50021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ORT  (  GROUP  BY  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&lt;---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ÀüÃ¼ ¹üÀ§ÀÇ ¿øÀ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NESTED   L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ICMF_CUST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DEX  (  RANGE SCAN )  OF  'ICMF_CUST_IDX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WDDA_ACCT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DEX  (  RANGE SCAN )  OF  'WDDA_ACCT_ID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1501920" y="266760"/>
            <a:ext cx="83790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 txBox="1"/>
          <p:nvPr/>
        </p:nvSpPr>
        <p:spPr>
          <a:xfrm>
            <a:off x="1508040" y="254160"/>
            <a:ext cx="7877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279360" y="1117440"/>
            <a:ext cx="7429680" cy="118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A.CUST_NAME ¶§¹®¿¡ ÀüÃ¼ ¹üÀ§ Ã³¸® -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Ã¹ È­¸éÀÌ ³ª¿À±â±îÁöÀÇ ¼öÇà ¼Óµµ°¡ ³Ê¹« ¿À·¡ °É¸°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¹æ¾È (1) - GROUP BY¸¦ ¾ø¾Ø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2976480" y="2765520"/>
            <a:ext cx="17316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744480" y="2320920"/>
            <a:ext cx="7770960" cy="1708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CUST_NAME,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GET_SUM(A.ID_NO, :ID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ICMF_CUST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BR_CD = :IBR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:ISUMBAL &lt;= (SELECT  SUM(CUR_B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WDDA_ACCT 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ID_NO = B.ID_NO AND B.GIJUN_IL = :IDATE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4175280" y="2735280"/>
            <a:ext cx="4376880" cy="438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HAVING SUM(B.CUR_BAL) ÀýÀº ¼­ºêÄõ¸®·Î Ã³¸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1327320" y="4060800"/>
            <a:ext cx="7415280" cy="303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REATE OR REPLACE FUNCTION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GET_SUM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(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VIDNO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NUMBER,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VIDATE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D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ETURN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S  SUM_BAL  NUMB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UM(CUR_BAL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INTO  SUM_BA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WDDA_ACC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ID_NO = VIDNO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GIJUN_IL = VIDATE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ETURN SUM_B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 txBox="1"/>
          <p:nvPr/>
        </p:nvSpPr>
        <p:spPr>
          <a:xfrm>
            <a:off x="1515960" y="216000"/>
            <a:ext cx="7805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330120" y="1143000"/>
            <a:ext cx="2760840" cy="39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TRACE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°í·Á 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814320" y="1719360"/>
            <a:ext cx="8416800" cy="2232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ILTER    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&lt;-- CHECK ±â´É¸¸ ¼öÇ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ICMF_CUS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 (  RANGE SCAN )     OF  'ICMF_CUST_IDX1'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&lt;-- ºÎºÐ ¹üÀ§ Ã³¸®È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  AGGRE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WDDA_ACC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 ( RANGE SCAN )      OF  'WDDA_ACCT_IDX1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1967040" y="4257720"/>
            <a:ext cx="7345440" cy="2482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1. GROUP BY »ç¿ë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üÃ¼¹üÀ§·Î Ã³¸®ÇÔ.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BATCH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ÇüÅÂÀÇ Ã³¸®´Â ´ç¿¬È÷ GROUP BY¸¦ »ç¿ëÇÏ¿©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³¸®ÇÏ´Â °ÍÀÌ ´õ ºü¸£´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2. FUNCTION »ç¿ë :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üÃ¼ÀûÀ¸·Î ¸ðµç ¹üÀ§ÀÇ µ¥ÀÌÅÍ¸¦ Ã³¸®ÇÏ´Âµ¥´Â ¸Å°Ç¸¶´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UNCTIONÀ» ÇÑ¹ø¾¿ ¼öÇàÇÏ¹Ç·Î GROUP BY¸¦ »ç¿ëÇÏ´Â °Íº¸´Ù ´À¸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Ì¿Í °°Àº SQLÀº ¹Ýµå½Ã Ã¹ È­¸éÀÇ ÀÀ´ä ¼Óµµ¸¦ Áß¿äÇÏ°Ô ¿©±â´Â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¿Â¶óÀÎ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ÇÁ·Î±×·¥°ú °°Àº ºÐ¾ß¿¡¼­¸¸ »ç¿ë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 txBox="1"/>
          <p:nvPr/>
        </p:nvSpPr>
        <p:spPr>
          <a:xfrm>
            <a:off x="1496880" y="254160"/>
            <a:ext cx="7824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501480" y="2305080"/>
            <a:ext cx="9001080" cy="34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V1.CUST_NAME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M(CUR_V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WDDA_ACCT C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ID_NO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UST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ICMF_CUST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BR_CD = :IBR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:ISUMBAL &lt;= (SELECT  SUM(CUR_BAL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WDDA_ACCT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ID_NO = B.ID_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GIJUN_IL = :IDATE)) 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ID_NO = V1.I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V1.CUST_NAM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228600" y="1143000"/>
            <a:ext cx="9461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90440" indent="-1904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 ¹æ¾È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UNCTIONÀ» »ç¿ëÇÏÁö ¾Ê±â À§ÇØ¼­ IN-LINE VIEW¸¦ »ç¿ëÇÑ´Ù¸é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...ºÎºÐ¹üÀ§ 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1500120" y="5526000"/>
            <a:ext cx="4508640" cy="52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GROUP BY Àý »ç¿ë : ÀüÃ¼ ¹üÀ§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 txBox="1"/>
          <p:nvPr/>
        </p:nvSpPr>
        <p:spPr>
          <a:xfrm>
            <a:off x="155088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326880" y="5126040"/>
            <a:ext cx="9431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USTOMER : CUSTOMER_PK : 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ALE     : SALE_PK     : SALEDATE + CUST_NO + 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DUCT  : PRODUCT_PK  : 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3589200" y="1898640"/>
            <a:ext cx="21351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82d00"/>
                </a:solidFill>
                <a:latin typeface="XXXXXX"/>
                <a:ea typeface="XXXXXX"/>
              </a:rPr>
              <a:t>¸ÅÃâ°Å·¡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6854760" y="1898640"/>
            <a:ext cx="15289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82d00"/>
                </a:solidFill>
                <a:latin typeface="XXXXXX"/>
                <a:ea typeface="XXXXXX"/>
              </a:rPr>
              <a:t>¹°Ç°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917640" y="1871640"/>
            <a:ext cx="147312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82d00"/>
                </a:solidFill>
                <a:latin typeface="XXXXXX"/>
                <a:ea typeface="XXXXXX"/>
              </a:rPr>
              <a:t>°í°´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741240" y="2346480"/>
            <a:ext cx="1895400" cy="2511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UST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UST_PH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R_C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758880" y="2765520"/>
            <a:ext cx="1851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3654360" y="2360520"/>
            <a:ext cx="2004840" cy="2440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LE_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LE_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662280" y="2765520"/>
            <a:ext cx="1982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6703920" y="2347920"/>
            <a:ext cx="1889280" cy="2433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ROD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ROD_CLA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UNIT_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719760" y="2765520"/>
            <a:ext cx="1871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3" name=""/>
          <p:cNvGrpSpPr/>
          <p:nvPr/>
        </p:nvGrpSpPr>
        <p:grpSpPr>
          <a:xfrm>
            <a:off x="2595600" y="3252960"/>
            <a:ext cx="1009440" cy="185400"/>
            <a:chOff x="2595600" y="3252960"/>
            <a:chExt cx="1009440" cy="185400"/>
          </a:xfrm>
        </p:grpSpPr>
        <p:sp>
          <p:nvSpPr>
            <p:cNvPr id="1394" name=""/>
            <p:cNvSpPr/>
            <p:nvPr/>
          </p:nvSpPr>
          <p:spPr>
            <a:xfrm>
              <a:off x="3060720" y="3355920"/>
              <a:ext cx="544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595600" y="3355920"/>
              <a:ext cx="482400" cy="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>
              <a:off x="3490920" y="3252960"/>
              <a:ext cx="109440" cy="109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495600" y="3338640"/>
              <a:ext cx="100080" cy="99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5678640" y="3252960"/>
            <a:ext cx="1009440" cy="185400"/>
            <a:chOff x="5678640" y="3252960"/>
            <a:chExt cx="1009440" cy="185400"/>
          </a:xfrm>
        </p:grpSpPr>
        <p:sp>
          <p:nvSpPr>
            <p:cNvPr id="1399" name=""/>
            <p:cNvSpPr/>
            <p:nvPr/>
          </p:nvSpPr>
          <p:spPr>
            <a:xfrm flipH="1">
              <a:off x="5678640" y="3355920"/>
              <a:ext cx="544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6205680" y="3355920"/>
              <a:ext cx="482400" cy="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683320" y="3252960"/>
              <a:ext cx="109440" cy="109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>
              <a:off x="5688000" y="3338640"/>
              <a:ext cx="100080" cy="99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3" name=""/>
          <p:cNvSpPr txBox="1"/>
          <p:nvPr/>
        </p:nvSpPr>
        <p:spPr>
          <a:xfrm>
            <a:off x="338040" y="1112760"/>
            <a:ext cx="9534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´Ü¼ø È®ÀÎÀ» À§ÇÑ ¿ëµµ·Î µðÅ×ÀÏ Å×ÀÌºíÀÌ ¸¶½ºÅ¸ Å×ÀÌºíÀ» JOINÇÒ ¶§ÀÇ °³¼± ¹æ¹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 txBox="1"/>
          <p:nvPr/>
        </p:nvSpPr>
        <p:spPr>
          <a:xfrm>
            <a:off x="561960" y="3559320"/>
            <a:ext cx="7791480" cy="2784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   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   HINT: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TABLE ACCESS  ( BY ROWID )  OF  'SAL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1               INDEX  ( RANGE SCAN )  OF  'SALE_PK' 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TABLE ACCESS  ( BY ROWID )  OF  'CUSTOMER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   INDEX  ( UNIQUE SCAN )  OF  'CUSTOMER_PK'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312840" y="1116000"/>
            <a:ext cx="8421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15001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582480" y="1536840"/>
            <a:ext cx="7167600" cy="186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COUNT(*)  AS  °Å·¡°Ç¼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 SALE  A, 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.SALEDAT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BETWEEN  '19950101'  AND  '199503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A.SALE_AMT &gt;= 1000  AND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.CUST_NO = </a:t>
            </a:r>
            <a:r>
              <a:rPr b="1" lang="en-US" sz="1800" spc="-1" strike="noStrike">
                <a:solidFill>
                  <a:srgbClr val="ff33ff"/>
                </a:solidFill>
                <a:latin typeface="XXXXXX"/>
                <a:ea typeface="XXXXXX"/>
              </a:rPr>
              <a:t>B.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B.BR_NO  BETWEEN  'B10001'   AND   'B10100'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7497720" y="2855880"/>
            <a:ext cx="1413000" cy="447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8.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79360" y="1117440"/>
            <a:ext cx="1968480" cy="26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¸ðµ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±¸ÇöµÈ ·ÎÁ÷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484280" y="228600"/>
            <a:ext cx="8294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4.º¹ÀâÇÑ ·ÎÁ÷À» DECODE¿Í OUTER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320840" y="3807000"/>
            <a:ext cx="7967520" cy="2907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FOR  SELECT  ID_NO, GRADE  FROM  CUSTOMER_TMP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FOR ( ; ;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{   FETCH  C  INTO  :ID_NO,  :GRADE1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COUNT(*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INTO :CNT_ID  FROM  CUSTOMER  WHERE  ID_NO = :ID_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IF ( CNT_ID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==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0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THEN  CHECK_EXIST = "E01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ELS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{  CHECK_EXIST = "E00"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GRADE INTO :GRADE2  FROM  CUSTOMER  WHERE ID_NO = :ID_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IF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( GRADE1 == GRADE2 )  THEN  CHECK_GRADE = "G00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ELS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CHECK_GRADE = "G01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LOSE   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785960" y="1120680"/>
            <a:ext cx="1658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È®ÀÎ´ë»ó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ÀáÁ¤°í°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56240" y="1120680"/>
            <a:ext cx="1252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Á¤½Äµî·Ï°í°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81600" y="2514600"/>
            <a:ext cx="769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20920" y="2514600"/>
            <a:ext cx="7509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261120" y="1471680"/>
            <a:ext cx="3314880" cy="1846440"/>
          </a:xfrm>
          <a:prstGeom prst="rect">
            <a:avLst/>
          </a:prstGeom>
          <a:noFill/>
          <a:ln w="12600">
            <a:solidFill>
              <a:srgbClr val="969696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È®ÀÎ´ë»ó °í°´ÀÌ Á¤½Ä°í°´¿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¸ÀçÇÏ¸é E00 ¾Æ´Ï¸é E0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00 Á¸ÀçÇÒ °æ¿ì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ADE °ªÀÌ °°À¸¸é G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´Ù¸£¸é G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851120" y="1434960"/>
            <a:ext cx="1616040" cy="218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USTOMER_T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H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ADE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47880" y="1901880"/>
            <a:ext cx="1603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87840" y="1436760"/>
            <a:ext cx="1362240" cy="1871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H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86400" y="1879560"/>
            <a:ext cx="1347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"/>
          <p:cNvSpPr txBox="1"/>
          <p:nvPr/>
        </p:nvSpPr>
        <p:spPr>
          <a:xfrm>
            <a:off x="249120" y="1117440"/>
            <a:ext cx="9566280" cy="8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¬°á È½¼ö°¡ ³Ê¹« ¸¹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8356680" y="2868480"/>
            <a:ext cx="1130400" cy="1440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687680" y="2043000"/>
            <a:ext cx="430200" cy="36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1469880" y="295272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830240" y="2952720"/>
            <a:ext cx="0" cy="11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H="1">
            <a:off x="1397160" y="4081320"/>
            <a:ext cx="433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955800" y="334008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768760" y="2039760"/>
            <a:ext cx="1150920" cy="361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1971720" y="2460600"/>
            <a:ext cx="1298520" cy="49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951200" y="3141720"/>
            <a:ext cx="1241280" cy="1514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1965240" y="2982960"/>
            <a:ext cx="1255680" cy="360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1965240" y="2738520"/>
            <a:ext cx="1255680" cy="806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2178000" y="312120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1971720" y="4081320"/>
            <a:ext cx="1235160" cy="951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849920" y="2030400"/>
            <a:ext cx="396720" cy="36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4048200" y="23749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114960" y="2048040"/>
            <a:ext cx="1150920" cy="361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5213520" y="2813040"/>
            <a:ext cx="1385640" cy="241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184720" y="3286080"/>
            <a:ext cx="1384200" cy="1082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5543640" y="318276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187960" y="4729320"/>
            <a:ext cx="1380960" cy="272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4322880" y="5719680"/>
            <a:ext cx="1204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414600" y="2460600"/>
            <a:ext cx="1581120" cy="797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394080" y="2752560"/>
            <a:ext cx="1573200" cy="995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3422520" y="2824200"/>
            <a:ext cx="1632240" cy="17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4157640" y="317988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3414600" y="4021200"/>
            <a:ext cx="1495440" cy="623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3414600" y="4692600"/>
            <a:ext cx="149724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772320" y="3054240"/>
            <a:ext cx="1471680" cy="101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5259240" y="23749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6786720" y="2930400"/>
            <a:ext cx="1485720" cy="1438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7507440" y="310356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6800760" y="4179960"/>
            <a:ext cx="1414440" cy="822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7283520" y="2374920"/>
            <a:ext cx="9270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3032280" y="5719680"/>
            <a:ext cx="5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6208560" y="5719680"/>
            <a:ext cx="1000080" cy="4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1268280" y="5767560"/>
            <a:ext cx="1204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+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+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15001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"/>
          <p:cNvSpPr txBox="1"/>
          <p:nvPr/>
        </p:nvSpPr>
        <p:spPr>
          <a:xfrm>
            <a:off x="681120" y="3666960"/>
            <a:ext cx="8035920" cy="31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   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   HINT: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NESTED 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   VIEW  OF  ' FROM$_SUBQUERY$_  1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8800               SORT ( GROUP BY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      TABLE  ACCESS ( BY ROWID ) OF 'SAL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1                     INDEX ( RANGE SCAN ) OF 'PK_SALE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   TABLE  ACCESS  ( BY ROWID )  OF  'CUSTOMER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      INDEX ( UNIQUE SCAN ) OF  ' PK_CUSTOMER '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249120" y="974880"/>
            <a:ext cx="96346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(IN-LINE VIEW¸¦ ÀÌ¿ë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15127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463680" y="1403280"/>
            <a:ext cx="8790120" cy="24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UM(CNT) AS  °Å·¡°Ç¼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(SELECT  CUST_NO, COUNT(*)  AS  CNT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ALEDATE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BETWEEN '19950101' AND '199503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AND  A.SALE_AMT &gt;=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 BY  CUST_NO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V,  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V.CUST_NO = B.CUST_NO  AND  B.BR_NO BETWEEN 'B10001' AND 'B10100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7696080" y="1395360"/>
            <a:ext cx="1571760" cy="446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1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 txBox="1"/>
          <p:nvPr/>
        </p:nvSpPr>
        <p:spPr>
          <a:xfrm>
            <a:off x="4097160" y="2440080"/>
            <a:ext cx="1050840" cy="2367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8664480" y="2452680"/>
            <a:ext cx="1025640" cy="2365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SU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208160" y="1889280"/>
            <a:ext cx="473040" cy="349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969840" y="2770200"/>
            <a:ext cx="3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365120" y="2770200"/>
            <a:ext cx="0" cy="1092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 flipH="1">
            <a:off x="890640" y="386244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404640" y="315108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c80202"/>
                </a:solidFill>
                <a:latin typeface="Arial"/>
                <a:ea typeface="Arial"/>
              </a:rPr>
              <a:t>288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381400" y="1886040"/>
            <a:ext cx="1263600" cy="349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1523880" y="2293920"/>
            <a:ext cx="1420920" cy="476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523880" y="2838600"/>
            <a:ext cx="1346400" cy="1636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1486080" y="2824200"/>
            <a:ext cx="1346040" cy="546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183204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1523880" y="3862440"/>
            <a:ext cx="1346400" cy="88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5668920" y="1922400"/>
            <a:ext cx="434880" cy="349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6589800" y="1893960"/>
            <a:ext cx="1263600" cy="350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024600" y="3084480"/>
            <a:ext cx="949320" cy="231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6027840" y="3421080"/>
            <a:ext cx="1063440" cy="80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614376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6024600" y="4578480"/>
            <a:ext cx="1003320" cy="218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5265720" y="5487840"/>
            <a:ext cx="1155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090960" y="2290680"/>
            <a:ext cx="1442880" cy="5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05000" y="2637000"/>
            <a:ext cx="1400400" cy="41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368928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3105000" y="4324320"/>
            <a:ext cx="1270080" cy="17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7305840" y="4610160"/>
            <a:ext cx="1292040" cy="190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6093000" y="21034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7334280" y="2844720"/>
            <a:ext cx="1162080" cy="1278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793908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2554200" y="5524560"/>
            <a:ext cx="895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6580080" y="5524560"/>
            <a:ext cx="1346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7853400" y="21034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3090960" y="4613400"/>
            <a:ext cx="1298520" cy="158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3105000" y="2592360"/>
            <a:ext cx="1357560" cy="274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776840" y="2951280"/>
            <a:ext cx="1092240" cy="377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4765680" y="2801880"/>
            <a:ext cx="109548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4826160" y="4584600"/>
            <a:ext cx="1008000" cy="19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520524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5132520" y="21034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668760" y="204300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698400" y="5524560"/>
            <a:ext cx="144936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7358040" y="2592360"/>
            <a:ext cx="1203480" cy="573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15001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255600" y="1190520"/>
            <a:ext cx="9590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½ÇÇà °úÁ¤ (IN-LINE VIEW¸¦ ÀÌ¿ëÇÑ QU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"/>
          <p:cNvSpPr txBox="1"/>
          <p:nvPr/>
        </p:nvSpPr>
        <p:spPr>
          <a:xfrm>
            <a:off x="1192320" y="4240080"/>
            <a:ext cx="7216920" cy="2371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   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   HINT: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SORT ( AGGREGAT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TABLE ACCESS ( BY  ROWID ) OF 'SAL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1               INDEX ( RANGE  SCAN ) OF 'PK_SALE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4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TABLE ACCESS ( BY  ROWID ) OF 'CUSTOMER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4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INDEX ( UNIQUE  SCAN ) OF 'PK_CUSTOMER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276120" y="1100160"/>
            <a:ext cx="92534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(EXISTS¸¦ ÀÌ¿ë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1525680" y="29376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565200" y="1609560"/>
            <a:ext cx="7834320" cy="24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COUNT(*)  AS  °Å·¡°Ç¼ö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ALE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SALEDAT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BETWEEN '19950101' AND '199503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SALE_AMT &gt;=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(SELECT  'X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CUST_NO = B.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BR_NO  BETWEEN 'B10001' AND 'B10100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6988320" y="1612800"/>
            <a:ext cx="1409760" cy="425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08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15127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4917960" y="5078520"/>
            <a:ext cx="1139760" cy="878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1652760" y="1868400"/>
            <a:ext cx="434880" cy="351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1184400" y="5465880"/>
            <a:ext cx="136368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1430280" y="2754360"/>
            <a:ext cx="365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795320" y="2754360"/>
            <a:ext cx="0" cy="109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1162080" y="3852720"/>
            <a:ext cx="633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911160" y="31291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88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741760" y="1866960"/>
            <a:ext cx="1162080" cy="351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1940040" y="2276640"/>
            <a:ext cx="1309680" cy="477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1940040" y="2825640"/>
            <a:ext cx="1238040" cy="1643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1940040" y="2938320"/>
            <a:ext cx="1193760" cy="92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1940040" y="2619360"/>
            <a:ext cx="1238040" cy="549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218916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40040" y="3852720"/>
            <a:ext cx="1238040" cy="890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9163080" y="1908000"/>
            <a:ext cx="401760" cy="351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6786720" y="1913040"/>
            <a:ext cx="1162080" cy="351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H="1" flipV="1">
            <a:off x="7986600" y="2903400"/>
            <a:ext cx="1441440" cy="212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8013600" y="3695760"/>
            <a:ext cx="1384560" cy="571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8318520" y="3105000"/>
            <a:ext cx="387360" cy="8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8531280" y="5580000"/>
            <a:ext cx="1324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395520" y="2276640"/>
            <a:ext cx="1405080" cy="771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 txBox="1"/>
          <p:nvPr/>
        </p:nvSpPr>
        <p:spPr>
          <a:xfrm>
            <a:off x="4205160" y="286560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3421080" y="3873600"/>
            <a:ext cx="1438200" cy="61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 txBox="1"/>
          <p:nvPr/>
        </p:nvSpPr>
        <p:spPr>
          <a:xfrm>
            <a:off x="8335800" y="246384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2836800" y="5514840"/>
            <a:ext cx="895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6791400" y="5554800"/>
            <a:ext cx="1346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 flipH="1">
            <a:off x="6134040" y="2946240"/>
            <a:ext cx="762120" cy="432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6302520" y="3193920"/>
            <a:ext cx="387360" cy="8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H="1" flipV="1">
            <a:off x="6172200" y="4191120"/>
            <a:ext cx="800280" cy="368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6089760" y="26668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3403440" y="2976480"/>
            <a:ext cx="1308240" cy="808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3417840" y="4456080"/>
            <a:ext cx="1332000" cy="314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284040" y="1190520"/>
            <a:ext cx="956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½ÇÇà °úÁ¤ (EXISTS¸¦ ÀÌ¿ëÇÑ QU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4876920" y="2870280"/>
            <a:ext cx="1193760" cy="1346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5499000" y="4622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5486400" y="60069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5226120" y="64198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2041560" y="19987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76800" y="2341440"/>
            <a:ext cx="307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5226120" y="426096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 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º¹ÀâÇÑ ¿ä±¸»çÇ×À» Ã³¸®ÇÏ±â À§ÇÑ DYNAMIC SQLÀ» ÇÏ³ªÀÇ SQL·Î Ã³¸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1511280" y="228600"/>
            <a:ext cx="82263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1744560" y="4497480"/>
            <a:ext cx="3944880" cy="182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1776240" y="4578480"/>
            <a:ext cx="9478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ÀüÇ¥¹øÈ£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256212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2757600" y="4578480"/>
            <a:ext cx="5652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Áö»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314784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3343320" y="4578480"/>
            <a:ext cx="5652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ÁöÁ¡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73392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929040" y="4578480"/>
            <a:ext cx="757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´ë¸®Á¡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451656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4711680" y="4578480"/>
            <a:ext cx="757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¸ÅÃâ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1776240" y="504504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0        SEL    GB      D      1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1776240" y="527832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1        SEL    GN      E      2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1776240" y="551196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2        PUS    GS      A       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1776240" y="574524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3        PUS    SG      B      1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1776240" y="597996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4        DJN    DG      C      1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762200" y="4973760"/>
            <a:ext cx="3936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5937120" y="3668760"/>
            <a:ext cx="27936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2906640" y="4087800"/>
            <a:ext cx="1444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¸ÅÃâ 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6753240" y="2325600"/>
            <a:ext cx="1028520" cy="397080"/>
            <a:chOff x="6753240" y="2325600"/>
            <a:chExt cx="1028520" cy="397080"/>
          </a:xfrm>
        </p:grpSpPr>
        <p:grpSp>
          <p:nvGrpSpPr>
            <p:cNvPr id="1563" name=""/>
            <p:cNvGrpSpPr/>
            <p:nvPr/>
          </p:nvGrpSpPr>
          <p:grpSpPr>
            <a:xfrm>
              <a:off x="6753240" y="2517840"/>
              <a:ext cx="1028520" cy="1440"/>
              <a:chOff x="6753240" y="2517840"/>
              <a:chExt cx="1028520" cy="1440"/>
            </a:xfrm>
          </p:grpSpPr>
          <p:sp>
            <p:nvSpPr>
              <p:cNvPr id="1564" name=""/>
              <p:cNvSpPr/>
              <p:nvPr/>
            </p:nvSpPr>
            <p:spPr>
              <a:xfrm>
                <a:off x="6753240" y="2517840"/>
                <a:ext cx="5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291440" y="2519280"/>
                <a:ext cx="49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6" name=""/>
            <p:cNvGrpSpPr/>
            <p:nvPr/>
          </p:nvGrpSpPr>
          <p:grpSpPr>
            <a:xfrm>
              <a:off x="6753240" y="2325600"/>
              <a:ext cx="203040" cy="397080"/>
              <a:chOff x="6753240" y="2325600"/>
              <a:chExt cx="203040" cy="397080"/>
            </a:xfrm>
          </p:grpSpPr>
          <p:sp>
            <p:nvSpPr>
              <p:cNvPr id="1567" name=""/>
              <p:cNvSpPr/>
              <p:nvPr/>
            </p:nvSpPr>
            <p:spPr>
              <a:xfrm flipH="1" flipV="1">
                <a:off x="6759720" y="2325600"/>
                <a:ext cx="19656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H="1">
                <a:off x="6753240" y="252576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9" name=""/>
          <p:cNvGrpSpPr/>
          <p:nvPr/>
        </p:nvGrpSpPr>
        <p:grpSpPr>
          <a:xfrm>
            <a:off x="4287960" y="2325600"/>
            <a:ext cx="1028520" cy="397080"/>
            <a:chOff x="4287960" y="2325600"/>
            <a:chExt cx="1028520" cy="397080"/>
          </a:xfrm>
        </p:grpSpPr>
        <p:grpSp>
          <p:nvGrpSpPr>
            <p:cNvPr id="1570" name=""/>
            <p:cNvGrpSpPr/>
            <p:nvPr/>
          </p:nvGrpSpPr>
          <p:grpSpPr>
            <a:xfrm>
              <a:off x="4287960" y="2517840"/>
              <a:ext cx="1028520" cy="1440"/>
              <a:chOff x="4287960" y="2517840"/>
              <a:chExt cx="1028520" cy="1440"/>
            </a:xfrm>
          </p:grpSpPr>
          <p:sp>
            <p:nvSpPr>
              <p:cNvPr id="1571" name=""/>
              <p:cNvSpPr/>
              <p:nvPr/>
            </p:nvSpPr>
            <p:spPr>
              <a:xfrm>
                <a:off x="4287960" y="251784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826160" y="2519280"/>
                <a:ext cx="49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4287960" y="2325600"/>
              <a:ext cx="203040" cy="397080"/>
              <a:chOff x="4287960" y="2325600"/>
              <a:chExt cx="203040" cy="397080"/>
            </a:xfrm>
          </p:grpSpPr>
          <p:sp>
            <p:nvSpPr>
              <p:cNvPr id="1574" name=""/>
              <p:cNvSpPr/>
              <p:nvPr/>
            </p:nvSpPr>
            <p:spPr>
              <a:xfrm flipH="1" flipV="1">
                <a:off x="4294080" y="232560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H="1">
                <a:off x="4287960" y="2525760"/>
                <a:ext cx="19656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6" name=""/>
          <p:cNvGrpSpPr/>
          <p:nvPr/>
        </p:nvGrpSpPr>
        <p:grpSpPr>
          <a:xfrm>
            <a:off x="1919160" y="2325600"/>
            <a:ext cx="1028880" cy="397080"/>
            <a:chOff x="1919160" y="2325600"/>
            <a:chExt cx="1028880" cy="397080"/>
          </a:xfrm>
        </p:grpSpPr>
        <p:grpSp>
          <p:nvGrpSpPr>
            <p:cNvPr id="1577" name=""/>
            <p:cNvGrpSpPr/>
            <p:nvPr/>
          </p:nvGrpSpPr>
          <p:grpSpPr>
            <a:xfrm>
              <a:off x="1919160" y="2517840"/>
              <a:ext cx="1028880" cy="1440"/>
              <a:chOff x="1919160" y="2517840"/>
              <a:chExt cx="1028880" cy="1440"/>
            </a:xfrm>
          </p:grpSpPr>
          <p:sp>
            <p:nvSpPr>
              <p:cNvPr id="1578" name=""/>
              <p:cNvSpPr/>
              <p:nvPr/>
            </p:nvSpPr>
            <p:spPr>
              <a:xfrm>
                <a:off x="1919160" y="2517840"/>
                <a:ext cx="5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457360" y="2519280"/>
                <a:ext cx="490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0" name=""/>
            <p:cNvGrpSpPr/>
            <p:nvPr/>
          </p:nvGrpSpPr>
          <p:grpSpPr>
            <a:xfrm>
              <a:off x="1919160" y="2325600"/>
              <a:ext cx="203400" cy="397080"/>
              <a:chOff x="1919160" y="2325600"/>
              <a:chExt cx="203400" cy="397080"/>
            </a:xfrm>
          </p:grpSpPr>
          <p:sp>
            <p:nvSpPr>
              <p:cNvPr id="1581" name=""/>
              <p:cNvSpPr/>
              <p:nvPr/>
            </p:nvSpPr>
            <p:spPr>
              <a:xfrm flipH="1" flipV="1">
                <a:off x="1925640" y="232560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H="1">
                <a:off x="1919160" y="252576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3" name=""/>
          <p:cNvGrpSpPr/>
          <p:nvPr/>
        </p:nvGrpSpPr>
        <p:grpSpPr>
          <a:xfrm>
            <a:off x="493560" y="1909800"/>
            <a:ext cx="1432080" cy="2179440"/>
            <a:chOff x="493560" y="1909800"/>
            <a:chExt cx="1432080" cy="2179440"/>
          </a:xfrm>
        </p:grpSpPr>
        <p:sp>
          <p:nvSpPr>
            <p:cNvPr id="1584" name=""/>
            <p:cNvSpPr txBox="1"/>
            <p:nvPr/>
          </p:nvSpPr>
          <p:spPr>
            <a:xfrm>
              <a:off x="493560" y="1909800"/>
              <a:ext cx="1432080" cy="2179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¸ÅÃ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ÀüÇ¥¹øÈ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»ç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Á¡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´ë¸®Á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¸ÅÃ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93560" y="2336760"/>
              <a:ext cx="1420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"/>
          <p:cNvGrpSpPr/>
          <p:nvPr/>
        </p:nvGrpSpPr>
        <p:grpSpPr>
          <a:xfrm>
            <a:off x="7829640" y="1909800"/>
            <a:ext cx="1432080" cy="852480"/>
            <a:chOff x="7829640" y="1909800"/>
            <a:chExt cx="1432080" cy="852480"/>
          </a:xfrm>
        </p:grpSpPr>
        <p:sp>
          <p:nvSpPr>
            <p:cNvPr id="1587" name=""/>
            <p:cNvSpPr txBox="1"/>
            <p:nvPr/>
          </p:nvSpPr>
          <p:spPr>
            <a:xfrm>
              <a:off x="7829640" y="1909800"/>
              <a:ext cx="1432080" cy="8524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Áö»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Áö»ç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829640" y="2330280"/>
              <a:ext cx="1420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9" name=""/>
          <p:cNvSpPr txBox="1"/>
          <p:nvPr/>
        </p:nvSpPr>
        <p:spPr>
          <a:xfrm>
            <a:off x="5337000" y="1909800"/>
            <a:ext cx="1432080" cy="1169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Á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* Áö»ç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ÁöÁ¡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5346720" y="2320920"/>
            <a:ext cx="1420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2868480" y="1909800"/>
            <a:ext cx="1441440" cy="1506240"/>
            <a:chOff x="2868480" y="1909800"/>
            <a:chExt cx="1441440" cy="1506240"/>
          </a:xfrm>
        </p:grpSpPr>
        <p:sp>
          <p:nvSpPr>
            <p:cNvPr id="1592" name=""/>
            <p:cNvSpPr txBox="1"/>
            <p:nvPr/>
          </p:nvSpPr>
          <p:spPr>
            <a:xfrm>
              <a:off x="2868480" y="1909800"/>
              <a:ext cx="1432080" cy="1506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´ë¸®Á¡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»ç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Á¡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´ë¸®Á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889360" y="2336760"/>
              <a:ext cx="1420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1517760" y="254160"/>
            <a:ext cx="8510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»ùÇÃµ¥ÀÌÅ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625920" y="2133720"/>
            <a:ext cx="259236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È¸°è´ÜÀ§ 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1584360" y="2957400"/>
            <a:ext cx="6864480" cy="2666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1  (Áö»çº°)     SEL    PUS    DJN    1     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1  (Áö»çº°)     DGU    USN           1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2  (ÁöÁ¡º°)     GB     GN     GS     2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3  (´ë¸®Á¡º°)   A      B             3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      B1  (Áö»çº°)     SEL    PUS           1  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      B2  (ÁöÁ¡º°)     GN     GD            2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      B3  (´ë¸®Á¡º°)   A      B      C      3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1136520" y="3076560"/>
            <a:ext cx="41292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¨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¨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1584360" y="2556000"/>
            <a:ext cx="6862680" cy="392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¯Çü±×·ì  À¯Çü (À¯ÇüÀÌ¸§)  ´ë»ó1  ´ë»ó2  ´ë»ó3  UNIT  AC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1" name=""/>
          <p:cNvGrpSpPr/>
          <p:nvPr/>
        </p:nvGrpSpPr>
        <p:grpSpPr>
          <a:xfrm>
            <a:off x="2701800" y="2549520"/>
            <a:ext cx="5062680" cy="2957400"/>
            <a:chOff x="2701800" y="2549520"/>
            <a:chExt cx="5062680" cy="2957400"/>
          </a:xfrm>
        </p:grpSpPr>
        <p:sp>
          <p:nvSpPr>
            <p:cNvPr id="1602" name=""/>
            <p:cNvSpPr/>
            <p:nvPr/>
          </p:nvSpPr>
          <p:spPr>
            <a:xfrm>
              <a:off x="270180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7208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47380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28956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09308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76448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 txBox="1"/>
          <p:nvPr/>
        </p:nvSpPr>
        <p:spPr>
          <a:xfrm>
            <a:off x="1517760" y="254160"/>
            <a:ext cx="8524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</a:t>
            </a: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ÀÏ¹ÝÀû ±¸Çö ·ÎÁ÷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438120" y="1538280"/>
            <a:ext cx="9132840" cy="5515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CURSOR  EXP_CURSOR IS  SELECT  *  FROM È¸°è´ÜÀ§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OPEN EXP_CURSOR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FETCH  EXP_CURSOR  INTO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EXP_RE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IF EXP_REC.À¯Çü±×·ì = '+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»ç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+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Á¡ 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+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3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 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¸ÅÃâ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´ë¸®Á¡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1530360" y="266760"/>
            <a:ext cx="8485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317520" y="102888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ÀÏ¹ÝÀû ±¸Çö ·ÎÁ÷ (°è¼Ó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588960" y="1522440"/>
            <a:ext cx="8910720" cy="529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EIF EXP_REC.À¯Çü±×·ì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-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»ç NOT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-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Á¡  NOT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-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3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 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´ë¸®Á¡ NOT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END LOO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 txBox="1"/>
          <p:nvPr/>
        </p:nvSpPr>
        <p:spPr>
          <a:xfrm>
            <a:off x="1517760" y="254160"/>
            <a:ext cx="8510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279360" y="1117440"/>
            <a:ext cx="924876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³»¿¡¼­ È¸°è´ÜÀ§ Å×ÀÌºí ¸Å°Ç ¸¶´Ù SELECT SUM(¸ÅÃâ¾×)°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¹Ýº¹ ¼öÇàÀ¸·Î ¼º´É Àú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611280" y="2803680"/>
            <a:ext cx="8085240" cy="3729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INTO Åë°èÅ×ÀÌºí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UNIT, ACCT, MECHU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.UNIT, A.ACCT, SUM(¸ÅÃâ¾×) MECHU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È¸°è´ÜÀ§ A, ¸ÅÃâ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( A.À¯Çü±×·ì = '+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A.À¯Çü, 'B1', B.Áö»ç, 'B2', B.ÁöÁ¡, B.´ë¸®Á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IN (A.´ë»ó1, A.´ë»ó2, A.´ë»ó3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   ( A.À¯Çü±×·ì = '-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A.À¯Çü, 'B1', B.Áö»ç, 'B2', B.ÁöÁ¡, B.´ë¸®Á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NOT IN (A.´ë»ó1, A.´ë»ó2, A.´ë»ó3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UNIT, ACCT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496880" y="228600"/>
            <a:ext cx="8345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4.º¹ÀâÇÑ ·ÎÁ÷À» DECODE¿Í OUTER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84200" y="1303200"/>
            <a:ext cx="8997840" cy="4043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ID_NO,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 B.ID_NO, NULL, 'E01', 'E00'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 B.GRADE, NULL, NULL, A.GRADE, 'G00', 'G01'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CUSTOMER_TMP  A,  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WHERE  A.ID_NO  =  B.ID_NO(+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( ; 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C  INTO  :ID_NO,  :CHECK_EXIST, :CHECK_GRAD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569960" y="243000"/>
            <a:ext cx="730404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5. º¹ÀâÇÑ ·ÎÁ÷À»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805120" y="3862440"/>
            <a:ext cx="2666880" cy="2499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«µå¿¥º¸½Ì³»¿ª  Å×ÀÌº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ÀÏ·Ã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¯Ç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¢¼ö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¹ßÇà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¿µ¾÷Á¡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´ã´çÀÚI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3120" y="1193760"/>
            <a:ext cx="8589960" cy="24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UTER Á¶ÀÎ°ú DECODE¸¦ ÀÌ¿ëÇÏ¿© º¹ÀâÇÑ ·ÎÁ÷À» °£´ÜÈ÷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¿ä±¸ »çÇ×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ÀÔ·ÂµÈ Ä«µå¹øÈ£¿¡ ¿¥º¸½ÌÀÌ ¿ä±¸µÉ °æ¿ì ÃÖÃÊ ¿¥º¸½ÌÀÏ °æ¿ì¿¡´Â ÀÏ·Ã¹øÈ£¸¦ 1·Î ¼ÂÆÃÇÏ°í,ÀÌ¹Ì ¿¥º¸½ÌÀÌ µÈ °æ¿ì¿¡´Â ÀÔ·ÂµÈ Ä«µå¹øÈ£ÀÇ ÀÏ·Ã¹øÈ£ Áß ÃÖ´ë ¹øÈ£ (MAX ÀÏ·Ã¹øÈ£)¸¦ Ã£¾Æ¼­ ±× ¹øÈ£¿¡ +1 À» ÇÏ¿© Ä«µå¿¥º¸½Ì³»¿ª¿¡ INSERT ÇÑ´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14480" y="4325760"/>
            <a:ext cx="264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5. º¹ÀâÇÑ ·ÎÁ÷À»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0960" y="1781280"/>
            <a:ext cx="9404280" cy="4402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 SQL  SELECT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MAX(ÀÏ·Ã¹øÈ£) + 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INTO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:´ÙÀ½ÀÏ·Ã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Ä«µå¹øÈ£ = :ÀÔ·ÂÄ«µå¹øÈ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F (SQLCA.SQLCODE  = =  1403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a50021"/>
                </a:solidFill>
                <a:latin typeface="XXXXXX"/>
                <a:ea typeface="XXXXXX"/>
              </a:rPr>
              <a:t>/*  Ä«µå¹øÈ£  NOT  FOUND 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THEN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EXEC SQL INSERT  INTO 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VALUES( :ÀÔ·ÂÄ«µå¹øÈ£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:À¯Çü, :Á¢¼öÀÏÀ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¹ßÇàÀÏÀÚ, :¿µ¾÷Á¡¹øÈ£, :´ã´çÀÚID 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INSERT  INTO 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VALUES( :ÀÔ·ÂÄ«µå¹øÈ£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:´ÙÀ½ÀÏ·Ã¹øÈ£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:À¯Çü, :Á¢¼öÀÏÀ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¹ßÇàÀÏÀÚ, :¿µ¾÷Á¡¹øÈ£, :´ã´çÀÚID 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30040" y="115092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Ï¹ÝÀûÀÎ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5. º¹ÀâÇÑ ·ÎÁ÷À»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03440" y="1295280"/>
            <a:ext cx="849636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210000"/>
              </a:lnSpc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OUTER JOINÀ» »ç¿ëÇÏ¿© ÇÑ¹ø¿¡ INSERT·Î ÀÛ¾÷ ¼öÇ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17560" y="3033720"/>
            <a:ext cx="8618400" cy="2914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INTO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/*+ INDEX_DESC(B TBCARDEMBO_PK) USE_NL(A B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ÀÔ·ÂÄ«µå¹øÈ£, DECODE(B.Ä«µå¹øÈ£, NULL, 1, B.ÀÏ·Ã¹øÈ£+1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À¯Çü, :Á¢¼öÀÏÀÚ, :¹ßÇàÀÏÀÚ, :´ã´çÀÚ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Ä«µå¿¥º¸½Ì³»¿ª  B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(SELECT  :ÀÔ·ÂÄ«µå¹øÈ£  AS  ÀÔ·ÂÄ«µå¹øÈ£  FROM  DUAL)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ÀÔ·ÂÄ«µå¹øÈ£ = B.Ä«µå¹øÈ£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 =  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640560" y="2454120"/>
            <a:ext cx="2452680" cy="90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ORT MERGE·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®¸®´Â °Í ¹æÁ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291960" y="1219320"/>
            <a:ext cx="1860480" cy="28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¸ðµ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531800" y="243000"/>
            <a:ext cx="6850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6. º¹ÀâÇÑ º¸°í¼­¸¦ OUTER 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95600" y="1265400"/>
            <a:ext cx="6605640" cy="21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724360" y="2227320"/>
            <a:ext cx="942120" cy="163800"/>
            <a:chOff x="5724360" y="2227320"/>
            <a:chExt cx="942120" cy="163800"/>
          </a:xfrm>
        </p:grpSpPr>
        <p:sp>
          <p:nvSpPr>
            <p:cNvPr id="251" name=""/>
            <p:cNvSpPr/>
            <p:nvPr/>
          </p:nvSpPr>
          <p:spPr>
            <a:xfrm>
              <a:off x="6242040" y="2303640"/>
              <a:ext cx="409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2436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8340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84208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0076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5944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1812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7680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3584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19452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5320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58040" y="2227320"/>
              <a:ext cx="208440" cy="163800"/>
            </a:xfrm>
            <a:custGeom>
              <a:avLst/>
              <a:gdLst/>
              <a:ahLst/>
              <a:rect l="0" t="0" r="r" b="b"/>
              <a:pathLst>
                <a:path fill="none" w="579" h="455">
                  <a:moveTo>
                    <a:pt x="562" y="0"/>
                  </a:moveTo>
                  <a:lnTo>
                    <a:pt x="0" y="220"/>
                  </a:lnTo>
                  <a:lnTo>
                    <a:pt x="579" y="45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002120" y="1411200"/>
            <a:ext cx="1787400" cy="1952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030560" y="1492200"/>
            <a:ext cx="4525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9760" y="1515960"/>
            <a:ext cx="26028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030560" y="177156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400640" y="177156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030560" y="201456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400640" y="2014560"/>
            <a:ext cx="64296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¸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030560" y="225900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400640" y="2259000"/>
            <a:ext cx="110016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ÁÖ¹Îµî·Ï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030560" y="250344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*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400640" y="2503440"/>
            <a:ext cx="133020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¿µ¾÷Á¡ÄÚµå (F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030560" y="274788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400640" y="274788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µî±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030560" y="299088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00640" y="299088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µî·ÏÀÏÀ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45240" y="1585800"/>
            <a:ext cx="1568520" cy="170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673680" y="16668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0080" y="1666800"/>
            <a:ext cx="1252440" cy="4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¹ß¼ÛÁÖ¼Òº¯°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673680" y="194616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970680" y="194616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673680" y="219060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970680" y="219060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Àû¿ëÀÏÀ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673680" y="243360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970680" y="2433600"/>
            <a:ext cx="79524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¹ß¼ÛÁÖ¼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673680" y="267804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970680" y="2678040"/>
            <a:ext cx="1100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º¯°æ»ç¿ø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673680" y="292248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970680" y="292248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º¯°æ±¸º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561440" y="2922480"/>
            <a:ext cx="642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48480" y="1932120"/>
            <a:ext cx="156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01800" y="1628640"/>
            <a:ext cx="1347840" cy="1220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830240" y="1711440"/>
            <a:ext cx="4525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098800" y="1711440"/>
            <a:ext cx="71928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µ¾÷Á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827360" y="1989000"/>
            <a:ext cx="1254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¿µ¾÷Á¡ÄÚµ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830240" y="2233440"/>
            <a:ext cx="49068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127240" y="223344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¿µ¾÷Á¡¸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830240" y="2478240"/>
            <a:ext cx="49068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27240" y="2478240"/>
            <a:ext cx="48888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ÁÖ¼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01800" y="1974960"/>
            <a:ext cx="1332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149640" y="2232000"/>
            <a:ext cx="856080" cy="147960"/>
            <a:chOff x="3149640" y="2232000"/>
            <a:chExt cx="856080" cy="147960"/>
          </a:xfrm>
        </p:grpSpPr>
        <p:sp>
          <p:nvSpPr>
            <p:cNvPr id="303" name=""/>
            <p:cNvSpPr/>
            <p:nvPr/>
          </p:nvSpPr>
          <p:spPr>
            <a:xfrm>
              <a:off x="3619440" y="2300400"/>
              <a:ext cx="372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496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036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558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098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624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164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686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226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766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2916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14920" y="2232000"/>
              <a:ext cx="190800" cy="147960"/>
            </a:xfrm>
            <a:custGeom>
              <a:avLst/>
              <a:gdLst/>
              <a:ahLst/>
              <a:rect l="0" t="0" r="r" b="b"/>
              <a:pathLst>
                <a:path fill="none" w="530" h="411">
                  <a:moveTo>
                    <a:pt x="510" y="0"/>
                  </a:moveTo>
                  <a:lnTo>
                    <a:pt x="0" y="199"/>
                  </a:lnTo>
                  <a:lnTo>
                    <a:pt x="530" y="41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73200" y="3695760"/>
            <a:ext cx="9004320" cy="28828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383000" y="1492200"/>
            <a:ext cx="92700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í°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14720" y="175752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531800" y="243000"/>
            <a:ext cx="6850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6. º¹ÀâÇÑ º¸°í¼­¸¦ OUTER 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49120" y="1117440"/>
            <a:ext cx="950904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19040" y="1654200"/>
            <a:ext cx="9323280" cy="4433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EXEC SQL DECLARE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CUST_CUR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CURSOR  F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 B.¿µ¾÷Á¡¸í, A.°í°´¹øÈ£, A.°í°´¸í,  A.ÁÖ¹Îµî·Ï¹øÈ£, A.µî±Þ, A.µî·ÏÀÏÀ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 °í°´ A,  ¿µ¾÷Á¡ B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 B.¿µ¾÷Á¡ÄÚµå = 'A15'  AND  A.¿µ¾÷Á¡ÄÚµå = B.¿µ¾÷Á¡ÄÚµå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330099"/>
                </a:solidFill>
                <a:latin typeface="XXXXXX"/>
                <a:ea typeface="XXXXXX"/>
              </a:rPr>
              <a:t>FOR ( ; ;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{  EXEC SQL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FETCH CUST_CUR  INTO :CUST_LIS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¹ß¼ÛÁÖ¼Ò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¹ß¼ÛÁÖ¼Òº¯°æ  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°í°´¹øÈ£ = :CUST_LIS.°í°´¹øÈ£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Àû¿ëÀÏÀÚ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= (SELECT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MAX(Àû¿ëÀÏÀÚ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¹ß¼ÛÁÖ¼Òº¯°æ  B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A.°í°´¹øÈ£ = B.°í°´¹øÈ£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IF (SQLCA.SQLCODE == 1403 )   /*  ÁÖ¼Ò°¡  µî·ÏµÇÁö  ¾Ê¾ÒÀ½   */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CONTINUE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569960" y="243000"/>
            <a:ext cx="6850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6. º¹ÀâÇÑ º¸°í¼­¸¦ OUTER 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91960" y="1117440"/>
            <a:ext cx="950904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LOOP³»¿¡¼­ÀÇ SQL¹®ÀÇ ¹Ýº¹½ÇÇ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49360" y="2763720"/>
            <a:ext cx="9178920" cy="3637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DECLARE  CUST_CUR  CURSOR 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 /*+  INDEX(C  ¹ß¼ÛÁÖ¼Òº¯°æ_PK)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.¿µ¾÷Á¡¸í,  A.°í°´¹øÈ£,  A.°í°´¸í,   A.ÁÖ¹Îµî·Ï¹øÈ£,  A.µî±Þ,  A.µî·ÏÀÏÀ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.¹ß¼ÛÁÖ¼Ò,  C.Àû¿ë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°í°´   A,  ¿µ¾÷Á¡  B,  ¹ß¼ÛÁÖ¼Òº¯°æ 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B.¿µ¾÷Á¡ÄÚµå = 'A15'  AND  A.¿µ¾÷Á¡ÄÚµå = B.¿µ¾÷Á¡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°í°´¹øÈ£ = C.°í°´¹øÈ£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C.°í°´¹øÈ£  IS  NULL  OR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&lt;-- C.Àû¿ëÀÏÀÚ(+) = (SELECT.... ) ´Â ¾Èµ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.Àû¿ëÀÏÀÚ = (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/*+ INDEX_DESC(D ¹ß¼ÛÁÖ¼Òº¯°æ_PK) */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Àû¿ë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¹ß¼ÛÁÖ¼Òº¯°æ 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°í°´¹øÈ£ =  D.°í°´¹øÈ£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ROWNUM = 1) 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19520" y="2306520"/>
            <a:ext cx="685800" cy="20764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719520" y="2306520"/>
            <a:ext cx="685800" cy="20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41920" y="2357280"/>
            <a:ext cx="685800" cy="20764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41920" y="2357280"/>
            <a:ext cx="685800" cy="20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66960" y="1752480"/>
            <a:ext cx="129528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83560" y="1752480"/>
            <a:ext cx="129528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79640" y="1752480"/>
            <a:ext cx="30492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623440" y="1752480"/>
            <a:ext cx="30492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07880" y="4902120"/>
            <a:ext cx="1725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SUGA_ID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852560" y="1320840"/>
            <a:ext cx="11685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THISSUG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923160" y="1320840"/>
            <a:ext cx="11685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THISSUG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2440" y="2495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31920" y="249552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8928000" y="2495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5720" y="249552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8166240" y="257184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8166240" y="257184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166240" y="325764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8166240" y="302904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8166240" y="3867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185320" y="346068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84200" y="257184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384200" y="257184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84200" y="325764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384200" y="302904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84200" y="3867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03280" y="346068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64000" y="4627440"/>
            <a:ext cx="1124280" cy="641880"/>
          </a:xfrm>
          <a:custGeom>
            <a:avLst/>
            <a:gdLst/>
            <a:ahLst/>
            <a:rect l="0" t="0" r="r" b="b"/>
            <a:pathLst>
              <a:path w="3123" h="1783">
                <a:moveTo>
                  <a:pt x="0" y="594"/>
                </a:moveTo>
                <a:lnTo>
                  <a:pt x="0" y="1187"/>
                </a:lnTo>
                <a:lnTo>
                  <a:pt x="2186" y="1187"/>
                </a:lnTo>
                <a:lnTo>
                  <a:pt x="2186" y="1783"/>
                </a:lnTo>
                <a:lnTo>
                  <a:pt x="3123" y="891"/>
                </a:lnTo>
                <a:lnTo>
                  <a:pt x="2186" y="0"/>
                </a:lnTo>
                <a:lnTo>
                  <a:pt x="2186" y="594"/>
                </a:lnTo>
                <a:lnTo>
                  <a:pt x="0" y="594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950240" y="4890960"/>
            <a:ext cx="1771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SUGA_ID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159080" y="5367240"/>
            <a:ext cx="1855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NCATE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87800" y="271152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187800" y="271152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87800" y="339732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187800" y="316872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87800" y="4006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06880" y="360036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413400" y="271152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6413400" y="271152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413400" y="339732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6413400" y="316872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413400" y="4006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432480" y="360036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93760" y="5815080"/>
            <a:ext cx="89456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üÃ¼ ¹üÀ§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363680" y="1644480"/>
            <a:ext cx="7754760" cy="5330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OR i IN 1..31 LOOP  </a:t>
            </a:r>
            <a:r>
              <a:rPr b="1" lang="en-US" sz="1200" spc="-1" strike="noStrike">
                <a:solidFill>
                  <a:srgbClr val="660033"/>
                </a:solidFill>
                <a:latin typeface="XXXXXX"/>
                <a:ea typeface="XXXXXX"/>
              </a:rPr>
              <a:t>/*&lt;- ÃÖ°í Å« ´ÞÀÇ ÀÏÀÚ ¸¸Å­ ¹Ýº¹ÇÏ¸é¼­ »ó¼¼ Á¶°ÇÀº WHERE ¿¡¼­ Á¶Á¤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33cc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SERT INTO °ø¾÷ÀÏ_´©°è(ºÎ¼­ÄÚµå, ÀÏÀÚ, ¹øÈ£, ¼ö·®, ±Ý¾×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1200, i, :B1.±¸ºÐ,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SUM(A.Ãâ°í¼ö·®), SUM(A.Ãâ°í¼ö·®*B.¿äÃ»´Ü°¡) Ãâ°í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9900cc"/>
                </a:solidFill>
                <a:latin typeface="XXXXXX"/>
                <a:ea typeface="XXXXXX"/>
              </a:rPr>
              <a:t>Á¦Ç°Ãâ°í³»¿ª A, ÁÖ¹®³»¿ª B, »ç¾çÇ×¸ñ³»¿ª C,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¼±ÅÃ»ç¾ç D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, ¼±ÅÃ»ç¾ç³»¿ª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ÁÖ¹®ºÎ¼­ÄÚµå = B.ºÎ¼­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³â    = B.ÁÖ¹®³â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¿ù    = B.ÁÖ¹®¿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¹øÈ£  = B.ÁÖ¹®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³»¿ª¹øÈ£ = B.ÁÖ¹®³»¿ª¹øÈ£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¦Ç°ÀÏ·Ã¹øÈ£ =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D.ÀÏ·Ã¹øÈ£          </a:t>
            </a:r>
            <a:r>
              <a:rPr b="1" lang="en-US" sz="1400" spc="-1" strike="noStrike">
                <a:solidFill>
                  <a:srgbClr val="660033"/>
                </a:solidFill>
                <a:latin typeface="XXXXXX"/>
                <a:ea typeface="XXXXXX"/>
              </a:rPr>
              <a:t>/*</a:t>
            </a:r>
            <a:r>
              <a:rPr b="1" lang="en-US" sz="1400" spc="-1" strike="noStrike">
                <a:solidFill>
                  <a:srgbClr val="660033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660033"/>
                </a:solidFill>
                <a:latin typeface="XXXXXX"/>
                <a:ea typeface="XXXXXX"/>
              </a:rPr>
              <a:t>&lt;-- D.ÀÏ·Ã¹øÈ£ : PK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ºÐ·ùÄÚµå = D.ºÐ·ù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±Ô°Ý     = D.±Ô°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E.Á¦Ç°ÀÏ·Ã¹øÈ£ =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.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E.»ç¾çÇ×¸ñÄÚµå =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.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È¸»çÄÚµå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ºÎ¼­ÄÚµå = 3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E.»ç¾çÇ×¸ñÄÚµå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= 99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»ç¾çÇ×¸ñÄÚµå =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TO_CHAR(A.Ãâ°íÀÏÀÚ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 BETWEEN TO_CHAR(:B1.½ÃÀÛ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TO_CHAR(:B1.Á¾·á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TO_NUMBER(TO_CHAR(A.Ãâ°íÀÏÀÚ,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D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)) &lt;= i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LO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20760" y="985680"/>
            <a:ext cx="952488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¢ ¿ùÀÇ ÀÏÀÚº°·Î Ãâ°í ¼ö·®, Ãâ°í ±Ý¾×ÀÇ ÇÕ°è¸¦ ±¸ÇÑ´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242200" y="6105600"/>
            <a:ext cx="1278000" cy="425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º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7.  LOOP³»ÀÇ ¹Ýº¹ SQLÀ» È¿À²ÀûÀ¸·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075440" y="3017880"/>
            <a:ext cx="2619360" cy="392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 -&gt; D -&gt; B -&gt; E -&gt;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814320" y="1208160"/>
            <a:ext cx="7751880" cy="478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    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INSER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8104 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8104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196   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309                      TABLE ACCESS (BY ROWID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9360                         INDEX (RANG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_P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   TABLE ACCESS (BY ROWID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74                         INDEX (UNIQU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_P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TABLE ACCESS (BY ROWID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   INDEX (RANG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6408                INDEX (RANG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196             INDEX (UNIQU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500120" y="243000"/>
            <a:ext cx="78976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7.  LOOP³»ÀÇ ¹Ýº¹ SQLÀ» È¿À²ÀûÀ¸·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38280" y="5535720"/>
            <a:ext cx="815040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Ïº° ´©Àû°ªÀ» ±¸ÇÏ±â À§ÇØ ¸Å¹ø ±× ³¯±îÁöÀÇ ´©Àû ÇÕÀ» ¹Ýº¹ÇÑ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7788240" y="3522600"/>
            <a:ext cx="628560" cy="22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500120" y="243000"/>
            <a:ext cx="78976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7.  LOOP³»ÀÇ ¹Ýº¹ SQLÀ» È¿À²ÀûÀ¸·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6880" y="1069920"/>
            <a:ext cx="191124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19200" y="1479600"/>
            <a:ext cx="7729560" cy="5565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OR i IN 1..31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NVL(¼ö·®,NULL,0), NVL(±Ý¾×,NULL,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TO 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S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K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33cc"/>
                </a:solidFill>
                <a:latin typeface="XXXXXX"/>
                <a:ea typeface="XXXXXX"/>
              </a:rPr>
              <a:t>/* &lt;-- ÃÖÁ¾ ´©Àû °ªÀ» º¸°üÇÏ´Â º¯¼ö, ÃÊ±â°ªÀ» 0À¸·Î ¼¼ÆÃ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°ø¾÷ÀÏ_´©°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ºÎ¼­ÄÚµå = 3000 AND ¹øÈ£ = :B1.±¸ºÐ AND 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ÀÏÀÚ = i - 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33cc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SERT  INTO °ø¾÷ÀÏ_´©°è(ºÎ¼­ÄÚµå, ÀÏÀÚ, ¹øÈ£, ¼ö·®, ±Ý¾×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1200, i, :B1.±¸ºÐ,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S +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Ãâ°í¼ö·®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K +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Ãâ°í¼ö·®*B.¿äÃ»´Ü°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Á¦Ç°Ãâ°í³»¿ª A, ÁÖ¹®³»¿ª B, »ç¾çÇ×¸ñ³»¿ª C, ¼±ÅÃ»ç¾ç D, ¼±ÅÃ»ç¾ç³»¿ª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ÁÖ¹®ºÎ¼­ÄÚµå = B.ºÎ¼­ÄÚµå AND A.ÁÖ¹®³â = B.ÁÖ¹®³â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¿ù = B.ÁÖ¹®¿ù AND A.ÁÖ¹®¹øÈ£ = B.ÁÖ¹®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³»¿ª¹øÈ£ = B.ÁÖ¹®³»¿ª¹øÈ£ AND A.Á¦Ç°ÀÏ·Ã¹øÈ£ = D.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D.ÀÏ·Ã¹øÈ£ = E.Á¦Ç°ÀÏ·Ã¹øÈ£ AND D.ºÐ·ùÄÚµå = C.ºÐ·ù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D.±Ô°Ý = C.±Ô°Ý AND C.ÄÚµå = E.»ç¾çÇ×¸ñ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È¸»çÄÚµå = 1 AND A.ºÎ¼­ÄÚµå = 3000 AND E.»ç¾çÇ×¸ñÄÚµå =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»ç¾çÇ×¸ñÄÚµå =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TO_CHAR(A.Ãâ°íÀÏÀÚ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 BETWEEN TO_CHAR(:B1.½ÃÀÛ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TO_CHAR(:B1.Á¾·á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TO_NUMBER(TO_CHAR(A.Ãâ°íÀÏÀÚ,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DD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)) = i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LO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79360" y="1117440"/>
            <a:ext cx="8786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µ¿ÀÏ Å×ÀÌºíÀÇ Ã³¸®¸¦ LOOP ³»¿¡¼­ ºÒÇÊ¿äÇÏ°Ô ¹Ýº¹ÀûÀ¸·Î Ã³¸®ÇÑ °æ¿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±¸ÇöµÈ ·ÎÁ÷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96880" y="228600"/>
            <a:ext cx="7977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8.  LOOP ³» SQLÀ»SUM(DECODE)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200320" y="1500120"/>
            <a:ext cx="6292800" cy="5515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DECLARE  CNT_096  CURSOR 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A,  COUNT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CENTER  = :CE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AND  SA != 'HV' AND  QTY6 &g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GROUP  BY  SA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_CNT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_CNT_NULL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OPEN   CNT_096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FOR (  J = 0 ; ;  J++  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FETCH  CNT_096  INTO  :SA_CODE,  :SA_CNT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SELECT  COUNT(*)  INTO  :SA_CNT_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CENTER = :CENTER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AND  SA = :SA_CODE   AND   QTY6 &g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AND  LOC1  IS 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T_CNT = SA_CNT - SA_CNT_NULL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LOSE CNT_096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506600" y="228600"/>
            <a:ext cx="7967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8.  LOOP ³» SQLÀ»SUM(DECODE)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79360" y="1117440"/>
            <a:ext cx="9464760" cy="14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µ¿ÀÏÇÑ Ã³¸®¹üÀ§¸¦ ºÒÇÊ¿äÇÏ°Ô LOOP·Î ¹Ýº¹¼öÇà -&gt; ¼öÇà ¼Óµµ Àú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77880" y="1928880"/>
            <a:ext cx="8370720" cy="435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 SQL  DECLARE  ROW_CNT  CURSOR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M (DECODE (LOC1,NULL,1,0))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SA_CNT_NU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COUNT(*)  SA_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ENTER  =  :CENTER  AND  SA !=  'HV'  AND  QTY6 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 BY  SA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 SQL  OPEN  ROW_C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(J=0 ; ; J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EC  SQL  FETCH  ROW_CNT INTO :SA_CODE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:SA_CNT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:SA_CNT_NULL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...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NET_CNT  =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SA_CNT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-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SA_CNT_NULL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ROW_C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512720" y="243000"/>
            <a:ext cx="8172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9. ºñ¼ýÇÑ SQLÀ» ÅëÇÕÇÏ¿© SUM(DECODE)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79360" y="1117440"/>
            <a:ext cx="919152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Á¶°ÇÀÌ Á¶±Ý ´Ù¸£¸é¼­ µ¿ÀÏÇÑ Å×ÀÌºíÀ» »ç¿ëÇÏ´Â SQLÅëÇ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¯»çÇÑ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52320" y="2273400"/>
            <a:ext cx="6119640" cy="5163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MAX(LINE_NO)  INTO  :TOT_LINE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BA004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BRK_CD= :BRK_C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CL_YEAR = :DCL_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SBM_SRL_NO = :SBM_SRL_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ITC = :DITC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COUNT(LINE_NO)  INTO  :M_LINE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BA004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BRK_CD = :BRK_C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CL_YEAR  = :DCL_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SBM_SRL_NO = :SBM_SRL_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ITC = :DITC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ND   LINE_NO &lt; 0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498680" y="228600"/>
            <a:ext cx="82677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9. ºñ¼ýÇÑ SQLÀ» ÅëÇÕÇÏ¿© SUM(DECODE)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27040" y="2070000"/>
            <a:ext cx="8375760" cy="2682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MAX (LINE_NO) 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UM(DECODE(SIGN(LINE_NO), -1, 1 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TO  :TOT_LINE_NO, :M_LINE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BA004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RK_CD= :BRK_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DCL_YEAR = :DCL_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BM_SRL_NO = :SBM_SRL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DITC = :DITC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30040" y="115092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06360" y="109224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502080" y="2048040"/>
            <a:ext cx="24444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185840" y="1647720"/>
            <a:ext cx="3243240" cy="1158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TO :FEELING, :DUE, :EXPRESS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3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RECEIPT_NO = :RECEIPT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438800" y="2030400"/>
            <a:ext cx="1118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486320" y="1704960"/>
            <a:ext cx="98748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OT F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575320" y="1776240"/>
            <a:ext cx="3243240" cy="821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NEW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RECEIPT_NO = :RECEIPT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878120" y="3408480"/>
            <a:ext cx="24444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809640" y="3247920"/>
            <a:ext cx="3600360" cy="1427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TO :USER_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08  A,  STCO113 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A.CUSTOMER_NO = :CUSTOMER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A.POST_NO = B.POST_NO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112920" y="3408480"/>
            <a:ext cx="24444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49520" y="25671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90840" y="3122640"/>
            <a:ext cx="117720" cy="136800"/>
          </a:xfrm>
          <a:custGeom>
            <a:avLst/>
            <a:gdLst/>
            <a:ahLst/>
            <a:rect l="0" t="0" r="r" b="b"/>
            <a:pathLst>
              <a:path w="327" h="380">
                <a:moveTo>
                  <a:pt x="0" y="0"/>
                </a:moveTo>
                <a:lnTo>
                  <a:pt x="164" y="52"/>
                </a:lnTo>
                <a:lnTo>
                  <a:pt x="327" y="0"/>
                </a:lnTo>
                <a:lnTo>
                  <a:pt x="164" y="38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49520" y="4381560"/>
            <a:ext cx="0" cy="109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90840" y="5346720"/>
            <a:ext cx="117720" cy="136800"/>
          </a:xfrm>
          <a:custGeom>
            <a:avLst/>
            <a:gdLst/>
            <a:ahLst/>
            <a:rect l="0" t="0" r="r" b="b"/>
            <a:pathLst>
              <a:path w="327" h="380">
                <a:moveTo>
                  <a:pt x="0" y="0"/>
                </a:moveTo>
                <a:lnTo>
                  <a:pt x="164" y="52"/>
                </a:lnTo>
                <a:lnTo>
                  <a:pt x="327" y="0"/>
                </a:lnTo>
                <a:lnTo>
                  <a:pt x="164" y="38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84240" y="5472000"/>
            <a:ext cx="2887560" cy="1124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BODY_CODE = :USER_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746600" y="3313080"/>
            <a:ext cx="2274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F (:USER_CLASS !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1’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554880" y="3898800"/>
            <a:ext cx="993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XXXX"/>
                <a:ea typeface="XXXX"/>
              </a:rPr>
              <a:t>STCO1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580000" y="4110120"/>
            <a:ext cx="309096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XXXXXX"/>
                <a:ea typeface="XXXXXX"/>
              </a:rPr>
              <a:t>WHERE A.CUSTOMER_NO = :CUSTOMER_NO_T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570640" y="3814920"/>
            <a:ext cx="3422520" cy="821520"/>
          </a:xfrm>
          <a:prstGeom prst="rect">
            <a:avLst/>
          </a:prstGeom>
          <a:solidFill>
            <a:srgbClr val="ffd8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CUSTOMER_NO = :CUSTOMER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81280" y="3013200"/>
            <a:ext cx="425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90920" y="2954160"/>
            <a:ext cx="136800" cy="119520"/>
          </a:xfrm>
          <a:custGeom>
            <a:avLst/>
            <a:gdLst/>
            <a:ahLst/>
            <a:rect l="0" t="0" r="r" b="b"/>
            <a:pathLst>
              <a:path w="380" h="332">
                <a:moveTo>
                  <a:pt x="380" y="0"/>
                </a:moveTo>
                <a:lnTo>
                  <a:pt x="331" y="164"/>
                </a:lnTo>
                <a:lnTo>
                  <a:pt x="380" y="332"/>
                </a:lnTo>
                <a:lnTo>
                  <a:pt x="0" y="164"/>
                </a:lnTo>
                <a:lnTo>
                  <a:pt x="3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89840" y="4467240"/>
            <a:ext cx="0" cy="787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974960" y="4818240"/>
            <a:ext cx="1190520" cy="330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:USER_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08560" y="3554280"/>
            <a:ext cx="2665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27600" y="5878440"/>
            <a:ext cx="954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897440" y="5256360"/>
            <a:ext cx="4591080" cy="16700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00 A, STCO100 B, STCO100 C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A.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AND A.BODY_CODE = :FE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B.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Q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AND B.BODY_CODE = :D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C.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AND C.BODY_CODE = :EX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86280" y="2567160"/>
            <a:ext cx="1738080" cy="2766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931080" y="240048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133880" y="4632480"/>
            <a:ext cx="2351160" cy="330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:FEELING, :DUE, :EX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67520" y="3573360"/>
            <a:ext cx="0" cy="244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38040" y="1117440"/>
            <a:ext cx="950904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052720" y="938160"/>
            <a:ext cx="6870600" cy="6635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MODEL_CODE, HANDLE_CONT, PARTS_PRICE, TRAVLE_PRICE, 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:MODEL_CODE, :HANDLE_CONT, :PARTS_PRICE, :TRAVLE_PRICE, :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PROMISE_DATE, :AMOUNT_NO,  :FEELING, :DUE,  :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STCO304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RECEIPT_NO  = :RECEIPT_NO_TMP;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------&gt;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F (NOT FOUND) 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MODEL_CODE, HANDLE_CONT, PARTS_PRICE, TRAVLE_PRICE, 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:MODEL_CODE, :HANDLE_CONT, :PARTS_PRICE, :TRAVLE_PRICE, :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PROMISE_DATE, :AMOUNT_NO,  :FEELING, :DUE,  :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STCONEW  WHERE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RECEIPT_NO = :RECEIPT_NO_TMP;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------&gt;&gt; 1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 A.ADDRESS_A, A.POST_NO, B.ADDRESS_B, A.USER_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 :ADDRESS_A, :POST_NO, :ADDRESS_B,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:USER_CLASS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    ------&gt;&gt; 2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08  A,  STCO113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A.CUSTOMER_NO = :CUSTOMER_NO_TMP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AND  A.POST_NO = B.POST_NO(+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                    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|-------&gt;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 CODE_NAME  INTO  :USER_CLASS_NAM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HEAD_CODE = 'K' AND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BODY_CODE = :USER_CLASS;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  ------&gt;&g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F (:USER_CLASS != '1'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 COMPANY_NAME,  COMPANY_LEVEL  INTO  :COMPANY_NAME, :COMPANY_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14  WHERE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CUSTOMER_NO = :CUSTOMER_NO_TMP;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------&gt;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 A.CODE_NAME, B.CODE_NAME, C.CODE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 :FEELING_NAME, :DUE_NAME, :EXPRESS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00  A,  STCO100  B,  STCO100 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A.HEAD_CODE = 'P'  AND  A.BODY_CODE = :FE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B.HEAD_CODE = 'Q'  AND  B.BODY_CODE = :D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C.HEAD_CODE = 'R'  AND  C.BODY_CODE = :EXPRES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77920" y="1117440"/>
            <a:ext cx="9509040" cy="20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¢°¢ÀÇ SQLÀÌ º°µµ·Î ¼öÇàµÇ¹Ç·Î ¼Ò¿ä½Ã°£ÀÌ ±æ¾îÁ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(¾ÕÀå ·ÎÁ÷³»ÀÇ ¹øÈ£¼øÀ¸·Î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. WHERE Á¶°Ç µ¿ÀÏ ¹®ÀåÀ» ÇÏ³ª·Î (ÈÄ¿¡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=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Ãß°¡¹®Á¦¸¦ °í·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711360" y="3121200"/>
            <a:ext cx="8178840" cy="379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MODEL_CODE,HANDLE_CONT, PARTS_PRICE,TRAVLE_PRICE,TRANS_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CO304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RECEIPT_NO  = :RECEIPT_NO_T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MODEL_CODE,HANDLE_CONT, PARTS_PRICE,TRAVLE_PRICE,TRANS_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CONEW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RECEIPT_NO  = :RECEIPT_NO_TMP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98440" y="86364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: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OR Á¶°Ç¿¡ ÀÎµ¦½º SUPPRESSINGÇÏ¿©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ºÎºÐ¹üÀ§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Ã³¸®·Î À¯µ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55560" y="1484280"/>
            <a:ext cx="8002440" cy="160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 NVL(SUGAEDSC,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GASERL || ''  LIKE  'E%'  OR  SUGASERL || ''  LIKE  'F%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&lt; 2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04880" y="5322960"/>
            <a:ext cx="7664400" cy="1119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¶ °Ç                                        ¹üÀ§1  ¹üÀ§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¨è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EDSC &gt; :B1            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³Ð´Ù   Á¼´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¨ç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SERL||'' LIKE 'E%' OR SUGASERL||'' LIKE 'F%</a:t>
            </a: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'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³Ð´Ù   ³Ð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8120" y="5691240"/>
            <a:ext cx="7611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02480" y="5326200"/>
            <a:ext cx="0" cy="109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37320" y="5332320"/>
            <a:ext cx="0" cy="1103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415280" y="4616280"/>
            <a:ext cx="2033640" cy="771480"/>
          </a:xfrm>
          <a:prstGeom prst="rect">
            <a:avLst/>
          </a:prstGeom>
          <a:solidFill>
            <a:srgbClr val="ccecff"/>
          </a:solidFill>
          <a:ln w="12600">
            <a:solidFill>
              <a:srgbClr val="6600cc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µÑ Áß ÇÑ °æ¿ìÀ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µÑ ´Ù ¹®Á¦ ¾øÀ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22400" y="3035160"/>
            <a:ext cx="7612200" cy="1654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   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COUNT (STOPKE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TABLE  ACCESS (BY ROWID) OF 'THISSUGA'               --- ¨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INDEX (RANGE SCAN) OF 'THISSUGA_IDX1' (NON-UNIQUE) --- ¨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20600" y="100188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. ´Ù¸¥ SQLÀÇ OUTPUTÀ» Á¶°Ç¿¡¼­ »ç¿ëÇÑ °ÍÀ» Á¶ÀÎÀ¸·Î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522360" y="3992400"/>
            <a:ext cx="7837560" cy="275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ADDRESS_A, A.POST_NO, B.ADDRESS_B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USER_CLASS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C.CODE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NAME)  AS COMPANY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LEVEL) AS COMPANY_LEVE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TCO108  A,  STCO113  B, STCO100 C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TCO114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CUSTOMER_NO = :CUSTOMER_NO_TM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A.POST_NO = B.POST_NO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HEAD_CODE = 'K'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BODY_CODE = A.USER_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CUSTOMER_NO = D.CUSTOMER_NO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46120" y="1433520"/>
            <a:ext cx="7740720" cy="1930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 A.ADDRESS_A, A.POST_NO, B.ADDRESS_B, A.USER_CLASS, C.CODE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TCO108  A,  STCO113  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TCO100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CUSTOMER_NO = :CUSTOMER_NO_TM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A.POST_NO   = B.POST_NO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HEAD_CODE = 'K'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C.BODY_CODE = A.USER_CLAS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84240" y="344808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. :USER_CLASS != '1'¿¡ ´ëÇÑ ÇÊÅÍ¸µÀ» DECODE·Î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320840" y="3784680"/>
            <a:ext cx="7810560" cy="28447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1386000" y="1135080"/>
            <a:ext cx="7837560" cy="275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ADDRESS_A, A.POST_NO, B.ADDRESS_B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USER_CLASS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C.CODE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NAME)  AS COMPANY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LEVEL) AS COMPANY_LEVE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TCO108  A,  STCO113  B, STCO100 C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TCO114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CUSTOMER_NO = :CUSTOMER_NO_TM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A.POST_NO = B.POST_NO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HEAD_CODE = 'K'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BODY_CODE = A.USER_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CUSTOMER_NO = D.CUSTOMER_NO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487520" y="21744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91960" y="111744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ÅëÇÕµÈ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225520" y="1000080"/>
            <a:ext cx="6777000" cy="6221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V.MODEL_CODE,V.HANDLE_CONT, V.PARTS_PRICE,V.TRAVLE_PRICE,V.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V.PROMISE_DATE, V.AMOUNT_NO, V.FEELING, V.DUE, V.EXPRES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.ADDRESS_A, A.POST_NO, B.ADDRESS_B,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A.USER_CLASS,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C.CODE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NAME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LEVEL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.CODE_NAME, F.CODE_NAME, G.CODE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:MODEL_CODE, :HANDLE_CONT, :PARTS_PRICE, :TRAVLE_PRICE, :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PROMISE_DATE, :AMOUNT_NO,  :FEELING, :DUE,  :EXPRES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ADDRESS_A,:POST_NO,:ADDRESS_B,:USER_CLASS, :USER_CLASS_NA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COMPANY_NAME, :COMPANY_LEVEL, :FEELING_NAME, :DUE_NAME, :EXPRESS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(SELECT   MODEL_CODE,HANDLE_CONT, PARTS_PRICE,TRAVLE_PRICE,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STCO304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RECEIPT_NO  = :RECEIPT_NO_TMP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- P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MODEL_CODE,HANDLE_CONT, PARTS_PRICE,TRAVLE_PRICE,TRANS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STCONEW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RECEIPT_NO  = :RECEIPT_NO_TMP)  </a:t>
            </a: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STCO108  A,  STCO113  B,  STCO100  C,  STCO114  D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STCO100  E,  STCO100  F,  STCO100 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ROWNUM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A.CUSTOMER_NO = :CUSTOMER_NO_TM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A.POST_NO = B.POST_NO(+)   AND  C.HEAD_CODE = 'K'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C.BODY_CODE = A.USER_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A.CUSTOMER_NO = D.CUSTOMER_NO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E.HEAD_CODE = 'P'  AND  E.BODY_CODE =  V.FE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F.HEAD_CODE = 'Q'  AND  F.BODY_CODE =  V.D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G.HEAD_CODE = 'R'  AND  G.BODY_CODE =  V.EXPRES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14875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63520" y="988920"/>
            <a:ext cx="963468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 QUERY ÇüÅÂ¿¡¼­ JOIN ÇüÅÂ·Î º¯°æÇÏ°í ARRAY PROCESSINGÀ» È°¿ëÇÑ ¿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¸ð ÀüÀÚÈ¸»ç ¼­ºñ½º ½Ã½ºÅÛÀÇ ½ÇÁ¦ »ç·Ê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14200" y="4888080"/>
            <a:ext cx="7297560" cy="18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121  : STPO121_PK  : MODEL + SA + PART1 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120  : STPO120_PK  : SA + PART1         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096  : STPO096_PK  : CENTER + SA + PART1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107  : STPO107_PK  : CENTER + SA + PART1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141640" y="3295800"/>
            <a:ext cx="534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38280" y="2495520"/>
            <a:ext cx="1500120" cy="1701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158920" y="3201840"/>
            <a:ext cx="124200" cy="200520"/>
          </a:xfrm>
          <a:custGeom>
            <a:avLst/>
            <a:gdLst/>
            <a:ahLst/>
            <a:rect l="0" t="0" r="r" b="b"/>
            <a:pathLst>
              <a:path fill="none" w="345" h="557">
                <a:moveTo>
                  <a:pt x="0" y="0"/>
                </a:moveTo>
                <a:lnTo>
                  <a:pt x="345" y="265"/>
                </a:lnTo>
                <a:lnTo>
                  <a:pt x="0" y="55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690640" y="3281400"/>
            <a:ext cx="439920" cy="14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44400" y="3070080"/>
            <a:ext cx="1479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165480" y="2495520"/>
            <a:ext cx="1500120" cy="1730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71960" y="3070080"/>
            <a:ext cx="1479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261120" y="1741320"/>
            <a:ext cx="1500120" cy="161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267600" y="2244600"/>
            <a:ext cx="1479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269040" y="3557520"/>
            <a:ext cx="1500120" cy="161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1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275520" y="4060800"/>
            <a:ext cx="1479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680000" y="2770200"/>
            <a:ext cx="1581120" cy="190800"/>
            <a:chOff x="4680000" y="2770200"/>
            <a:chExt cx="1581120" cy="190800"/>
          </a:xfrm>
        </p:grpSpPr>
        <p:sp>
          <p:nvSpPr>
            <p:cNvPr id="419" name=""/>
            <p:cNvSpPr/>
            <p:nvPr/>
          </p:nvSpPr>
          <p:spPr>
            <a:xfrm flipH="1">
              <a:off x="5405400" y="2859120"/>
              <a:ext cx="855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35760" y="2770200"/>
              <a:ext cx="197280" cy="190800"/>
            </a:xfrm>
            <a:custGeom>
              <a:avLst/>
              <a:gdLst/>
              <a:ahLst/>
              <a:rect l="0" t="0" r="r" b="b"/>
              <a:pathLst>
                <a:path fill="none" w="548" h="530">
                  <a:moveTo>
                    <a:pt x="548" y="0"/>
                  </a:moveTo>
                  <a:lnTo>
                    <a:pt x="0" y="251"/>
                  </a:lnTo>
                  <a:lnTo>
                    <a:pt x="548" y="5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680000" y="2846520"/>
              <a:ext cx="703080" cy="1260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4676760" y="4003560"/>
            <a:ext cx="1581120" cy="190800"/>
            <a:chOff x="4676760" y="4003560"/>
            <a:chExt cx="1581120" cy="190800"/>
          </a:xfrm>
        </p:grpSpPr>
        <p:sp>
          <p:nvSpPr>
            <p:cNvPr id="423" name=""/>
            <p:cNvSpPr/>
            <p:nvPr/>
          </p:nvSpPr>
          <p:spPr>
            <a:xfrm flipH="1">
              <a:off x="5402160" y="4092480"/>
              <a:ext cx="855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32520" y="4003560"/>
              <a:ext cx="197280" cy="190800"/>
            </a:xfrm>
            <a:custGeom>
              <a:avLst/>
              <a:gdLst/>
              <a:ahLst/>
              <a:rect l="0" t="0" r="r" b="b"/>
              <a:pathLst>
                <a:path fill="none" w="548" h="530">
                  <a:moveTo>
                    <a:pt x="548" y="0"/>
                  </a:moveTo>
                  <a:lnTo>
                    <a:pt x="0" y="251"/>
                  </a:lnTo>
                  <a:lnTo>
                    <a:pt x="548" y="5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4676760" y="4079880"/>
              <a:ext cx="703440" cy="1260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4875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76200" y="993600"/>
            <a:ext cx="111276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25600" y="1344600"/>
            <a:ext cx="8924760" cy="5496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DECLARE CURSOR  MODEL_CURSOR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A,  PART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WHERE  MODEL = :MODEL  AND  SA &gt;= :FROM_SA  AND  PART1 &gt;= :FROM_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ORDER  BY  MODEL, SA,  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OPEN  MODEL_CURS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 K=0;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K &lt; 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 K++) {  /*  200 ROW ±îÁö¸¸ Ã³¸®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MODEL_CURSOR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INTO  :SA,  :PART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 DES,  SPEC,  GUBUN4,  PRICE2,  GUBUN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DES, :SPEC, :GUBUN4, :PRICE2, :GUBUN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STPO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A = :SA  AND  PART1 = :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CENTER.ARR = 'C01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 THEN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&lt;-- CENTER.ARR Àº ÀÌÀü ´Ü°è¿¡¼­ ±¸ÇØ³õÀº °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QTY10-QTY7-QTY6, LOC   INTO :QTY, :LO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CENTER = :CENTER  AND  SA = :SA  AND  PART1 = :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QTY6,  LOC  INTO  :QTY, :LO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1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CENTER = :CENTER  AND  SA = :SA  AND  PART1 = :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  /* end of FOR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15001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62080" y="1154160"/>
            <a:ext cx="9634680" cy="27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QLÀ» READ, WRITE¹®ÀåÀÇ ´ë¿ëÀ¸·Î ÀÌ¿ë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APPLICATION ¼öÁ¤¾Ê°í °³¼±ÇÏ±â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1)</a:t>
            </a: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MAIN CURSOR ¹®ÀåÀÇ ORDER BY ÀýÀÌ ºÒÇÊ¿ä (PKÀÖÀ¸¹Ç·Î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2) ARRAY PROCESSING Àû¿ë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3) HOLD CURSOR »ç¿ë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15001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57120" y="1008000"/>
            <a:ext cx="48927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ÇÏ³ªÀÇ OUTER JOINÀ¸·Î ÇØ°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5120" y="1438200"/>
            <a:ext cx="9201240" cy="55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BEGIN DECLARE SECTION; </a:t>
            </a:r>
            <a:r>
              <a:rPr b="1" lang="en-US" sz="1600" spc="-1" strike="noStrike">
                <a:solidFill>
                  <a:srgbClr val="0033cc"/>
                </a:solidFill>
                <a:latin typeface="XXXXXX"/>
                <a:ea typeface="XXXXXX"/>
              </a:rPr>
              <a:t>/* 200 °³ÀÇ ARRAY¸¦ »ç¿ëÇÏµµ·Ï ¼±¾ðÇÑ´Ù.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HAR   SA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10],   PART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12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HAR   DES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20],  SPEC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2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HAR   LOC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5],   GUBUN4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1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    GUBUN8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,   QTY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LOAT  PRICE2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;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END DECLARE SEC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A.SA, A.PART1, B.DES, B.SPEC, B.GUBUN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VL(B.PRICE2,0), NVL(B.GUBUN8,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CENTER.ARR, 'C01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NVL(C.QTY10-C.QTY7-C.QTY6,0), D.QTY6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CENTER.ARR, 'C01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C.LOC, D.LO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SA, :PART1, :DES, :SPEC, :GUBUN4, :PRICE2, :GUBUN8, :QTY, :L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121 A, STPO120 B, STPO096 C, STPO107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MODEL = :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SA &gt;= :FROM_SA  AND  A.PART1 &gt;= :FROM_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SA = B.SA       AND  A.PART1 = B.PART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A.SA = C.SA(+)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A.PART1 = C.PART1(+)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  :CENTER = C.CENTER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A.SA = D.SA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AND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  A.PART1 = D.PART1(+)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  :CENTER = D.CENTER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22200" y="960480"/>
            <a:ext cx="8786880" cy="9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SQL »ç¿ëÀÇ Àß¸øµÈ ÀÌÇØ¿Í 1 °Ç¾¿ Ã³¸®ÇÒ ¶§¸¶´Ù COMMITÀÇ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8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±¸ÇöµÈ ·ÎÁ÷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500120" y="228600"/>
            <a:ext cx="8096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022480" y="1380960"/>
            <a:ext cx="7775640" cy="5815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PROCEDURE  INITIALIZE  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PAGE  NUMBER  :=  1 ;  /*  PAGE¹øÈ£¸¦ ºÎ¿©ÇÑ´Ù.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CONT  NUMBER  :=  0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OR  C1  IN  (SELECT  DEPT_CODE,  DEPT_AB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CZA10C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DEPT_TP  = '1'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EPT_CODE  NOT IN  ('991' , '999')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CONT = T_CONT + 1;  &lt;-- 1 ÆäÀÌÁö ³»ÀÇ ¶óÀÎ Ä«¿îÆ® 1 Áõ°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F  T_CONT = 18  THEN  &lt;-- 1 ÆäÀÌÁö ´ç 18 ÁÙÀ» ÇÁ¸°Æ® ÇÏµµ·Ï ÇÑ´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PAGE  :=  T_PAGE + 1;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CONT  := 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I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LENGTH_ABBR  :=  LENGTH ( DEPT_ABBR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F LENGTH_ABBR  &lt;=  4 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ABBR := SUBSTR (C1.DEPT_ABBR,1,2)||' '||'BRANCH'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ABBR := SUBSTR (C1.DEPT_ABBR,1,2)||' '||'BRANCH'||SUBSTR(C1.DEPT_ABBR,3,1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 I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INSERT INTO MHB03T98 VALUES (T_PAGE, C1. DEPT_CODE, T_ABBR, 0,0,0,0,0,0,0,0,0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COMMIT ;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&lt;-- LOOP ³»¿¡¼­ ¸Å 1 °Ç ¸¶´Ù COMMIT ÇÑ´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END  LOOP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1486080" y="22860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0780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65280" y="1554120"/>
            <a:ext cx="5614920" cy="1312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EPT_CODE,  DEPT_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 CZA10C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DEPT_TP 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 DEPT_CODE  NOT IN  ( '991' , '999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735120" y="2976480"/>
            <a:ext cx="8369280" cy="3141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    COUNT     CPU      ELAPSED      DISK     QUERY     CURRENT    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- --------  ---------- ---------- -------- ----------- 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 1      0.01       0.02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 64      1.04       2.34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FETCH         1536     6.82     10 .74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7242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14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  EXECUTION 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 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 SELECT  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584        TABLE  ACCESS ( BY ROWID )  OF  ' CZA10C10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76           INDEX  ( RANGE SCAN )  OF  ' CZA10C10_U1 '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7288200" y="6087960"/>
            <a:ext cx="1866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°è¼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65280" y="1554120"/>
            <a:ext cx="8588520" cy="417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INTO  MHB03T98  VALUES (T_PAGE, C2.DEPT_CODE, T_ABBR, 0,0,0,0,0,0,0,0,0,0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849240" y="1954080"/>
            <a:ext cx="8574120" cy="2579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    COUNT     CPU      ELAPSED      DISK     QUERY     CURRENT    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- --------  ---------- ---------- -------- ----------- 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  1    0.08        0.11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1472    6.88       10.91       371      5752       27136     14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          0    0.00       0 .00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OWS     EXECUTION 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 INSERT  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582480" y="4594320"/>
            <a:ext cx="1154160" cy="420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OMMIT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849240" y="4995720"/>
            <a:ext cx="8369280" cy="1433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    COUNT     CPU      ELAPSED      DISK     QUERY     CURRENT    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- --------  ---------- ---------- -------- ----------- 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  1    0.08        0.11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1472    5.18        8.91       371      5752       27136     14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          0    0.00       0 .00         0         0           0       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68160" y="1876320"/>
            <a:ext cx="8083440" cy="34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 NVL(SUGAEDSC,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(SELECT SUGACODE, SUGAEDSC FROM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GASER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IKE 'E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&lt;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 SUGAEDSC FROM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GASER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IKE 'F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&lt; 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WHERE ROWNUM &lt; 21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4760" y="1349280"/>
            <a:ext cx="648504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¸¸¾à ¹Ýµå½Ã SUGASERL ÄÃ·³À» ÀÎµ¦½º·Î »ç¿ëÇØ¾ß ÇÑ´Ù¸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1498680" y="228600"/>
            <a:ext cx="8255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79360" y="1117440"/>
            <a:ext cx="94647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SQL ¹®ÀåÀÌ 1472 È¸ÀÇ LOOP ¿¡¼­ ¸Å¹ø ¼öÇà ¹× ¸Å ¹øÀÇ INSERT ½ÇÇà ¸¶´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Æ®·£Àè¼ÇÀÇ Ä¿¹ÔÀ» ¼öÇ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34800" y="2462040"/>
            <a:ext cx="9482040" cy="3390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 INTO  MHB03T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TRUNC( ( ROWNUM - 1 ) / 18 ) + 1 , DEPT_CO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SIGN ( </a:t>
            </a:r>
            <a:r>
              <a:rPr b="1" lang="en-US" sz="1800" spc="-1" strike="noStrike">
                <a:solidFill>
                  <a:srgbClr val="006600"/>
                </a:solidFill>
                <a:latin typeface="XXXXXX"/>
                <a:ea typeface="XXXXXX"/>
              </a:rPr>
              <a:t>LENGTH (DEPT_ABBR) - 5)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-1,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BSTR (DEPT_ABBR,1,2) ||' '||'BRANCH'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BSTR (DEPT_ABBR,1,2) ||' '||'BRANCH' || SUBSTR (DEPT_ABBR,3,10)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0, 0, 0, 0, 0, 0, 0, 0, 0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CZA10C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EPT_TP  = '1'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DEPT_CODE  NOT IN  ( '991' , '999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OMM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8504280" y="5376960"/>
            <a:ext cx="1311120" cy="469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.1 Ã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512720" y="243000"/>
            <a:ext cx="76788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293760" y="1001880"/>
            <a:ext cx="8815320" cy="19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_DIET : THISDIET_PK   :  DIETIDNO + DIETPERS + DIETDATE + DIET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_DIET : THISDIET_IDX1 :  DIETDATE + DIET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63480" y="2781360"/>
            <a:ext cx="7392960" cy="4043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DIETDATE, DIETEDIT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DIETIDNO, DIETPERS, DIETDATE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IN(DIETED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(DIETIDNO, DIETPERS, DIETDATE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DIETIDNO, DIETPERS,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MIN(DIET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DATE &gt; :B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  (DIETDATE = :B1 AND DIETEDIT = :B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XXXXXX"/>
                <a:ea typeface="XXXXXX"/>
              </a:rPr>
              <a:t>GROUP BY  DIETIDNO, DIETP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XXXXXX"/>
                <a:ea typeface="XXXXXX"/>
              </a:rPr>
              <a:t>GROUP BY  DIETIDNO, DIETPERS, DIETDATE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1486080" y="228600"/>
            <a:ext cx="8255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33360" y="938160"/>
            <a:ext cx="849456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20640" y="1509840"/>
            <a:ext cx="7709040" cy="532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(GROUP B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ff00cc"/>
                </a:solidFill>
                <a:latin typeface="XXXXXX"/>
                <a:ea typeface="XXXXXX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 (GROUP B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NCATE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THISDIET_IDX1' (N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THISDIET_IDX1' (N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ff00cc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INDEX (RANGE SCAN) OF 'THISDIET_PK1' (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THISDIET_PK1' (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1511280" y="228600"/>
            <a:ext cx="8242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04640" y="952560"/>
            <a:ext cx="9253440" cy="23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8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¼­ºêÄõ¸®°¡ ÇÏ³ª°¡ µÇ¾îµµ °á°ú°¡ µ¿ÀÏÇÏ°Ô ³ª¿Â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IETIDNO,DIETPERS¿¡ ´ëÇÑ DIETDATE ÃÖ¼Ò°ª ±¸ÇÑµÚ ´Ù½Ã DIETEDIT ÃÖ¼Ò°ª ±¸ÇÏ³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IETIDNO,DIETPERS¿¡ ´ëÇØ DIETDATE¿Í DIETEDITÀÇ ÃÖ¼Ò°ªÀ» ÇÔ²² ±¸ÇÏ³ª µ¿À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920880" y="4903920"/>
            <a:ext cx="7894800" cy="3445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933480" y="4249800"/>
            <a:ext cx="7894800" cy="336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927000" y="3255840"/>
            <a:ext cx="7894800" cy="343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925560" y="2938320"/>
            <a:ext cx="14302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ID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362320" y="2938320"/>
            <a:ext cx="14302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5234040" y="2938320"/>
            <a:ext cx="14302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798720" y="2938320"/>
            <a:ext cx="142884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01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02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03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676920" y="2938320"/>
            <a:ext cx="21448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á°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¸ÇÏ·Á´Â  ÃÖ¼Ò°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¸ÇÏ·Á´Â  ÃÖ¼Ò°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¸ÇÏ·Á´Â  ÃÖ¼Ò°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1498680" y="22860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51000" y="1125360"/>
            <a:ext cx="84027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1´Ü°Ô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558720" y="1595520"/>
            <a:ext cx="7624800" cy="3286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IETDATE ||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DIETIDNO, DIETPERS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IN (DIETDATE ||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DIETDATE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OR  (DIETDATE = :B1  AND  DIETEDIT = :B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DIETIDNO, DIETP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6380280" y="3497400"/>
            <a:ext cx="3235320" cy="482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ATENATION À¸·Î Ç®¸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654120" y="1635120"/>
            <a:ext cx="7964640" cy="3286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DIETDATE ||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DIETIDNO, DIETPERS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MIN(DIETDATE || DIETED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WHERE  DIETDATE &gt;= :B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AND  (DIETEDIT = DECODE(DIETDATE, :B1, :B2, DIETEDI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DIETIDNO, DIETP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486080" y="228600"/>
            <a:ext cx="8242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74760" y="1141560"/>
            <a:ext cx="262404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2´Ü°Ô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5148360" y="2182680"/>
            <a:ext cx="2147760" cy="52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ÀÎµ¦½º »ç¿ë ¸ø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797040" y="5237280"/>
            <a:ext cx="8215200" cy="11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º¯È¯°úÁ¤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DIETDATE &gt; :B1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 OR  (DIETDATE = :B1  AND  DIETEDIT = :B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==&gt;  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(DIETDATE &gt; :B1  AND  DIETEDIT = DIETEDIT)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  OR  (DIETDATE = :B1  AND  DIETEDIT = :B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==&gt;  DIETDATE &gt;= :B1  AND  (DIETEDIT = DECODE(DIETDATE, :B1, :B2, DIETEDI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1498680" y="22860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22200" y="1123920"/>
            <a:ext cx="84916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3´Ü°Ô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36400" y="1617840"/>
            <a:ext cx="7961400" cy="4402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IETDATE,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DIETIDNO, DIETPE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UBSTR( MIN (DIETDATE || DIETEDIT), 1,8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UBSTR( MIN (DIETDATE || DIETEDIT), 9,2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WHERE  DIETDATE &gt;= :B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XXXXXX"/>
                <a:ea typeface="XXXXXX"/>
              </a:rPr>
              <a:t>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AND  (DIETEDIT = DECODE(DIETDATE, :B1, :B2, DIETEDI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DIETIDNO, DIETP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1487520" y="243000"/>
            <a:ext cx="66294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4. DECODE¸¦ È°¿ëÇÑ SQLÀÇ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91960" y="1003320"/>
            <a:ext cx="950904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488960" y="1290600"/>
            <a:ext cx="8040600" cy="5759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WSC, C.NAME, A.BDC, D.NAME, A.ACC, B.NAME, A.BSC, A.PSC, A.A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NVL(A.DAMT,0) - NVL(A.CAMT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A.CUID, B.CD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FAFAMFINA  A,  FAFCACCO  B,  FAFCDEPT  D,  FAFCWKSP 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ADT  BETWEEN  TO_DATE(:B1,'YYMMDD') AND TO_DATE(:B2,'YYMMDD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ACC  BETWEEN  :B3  AND  :B4   OR  A.AC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WSC  BETWEEN  :B5  AND  :B6   OR  A.WS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BDC  BETWEEN  :B9  AND  :B10  OR  A.BD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ACC = B.CODE   AND  A.WSC = B.CODE  AND   A.BDC = D.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.CDID = 'D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AND  B.BDID = 'Y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U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WSC, C.NAME, A.BDC, D.NAME, A.ACC, B.NAME, A.BSC, A.PSC, A.A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NVL(A.CAMT,0) - NVL(A.DAMT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A.CUID, B.CD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FAFAMFINA  A,  FAFCACCO  B,  FAFCDEPT  D,  FAFCWKSP 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ADT  BETWEEN  TO_DATE(:B1,'YYMMDD') AND TO_DATE(:B2,'YYMMDD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ACC  BETWEEN :B3 AND :B4   OR   A.AC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WSC  BETWEEN :B5 AND :B6   OR   A.WS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BDC  BETWEEN :B9 AND :B10  OR   A.BD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ACC = B.CODE   AND  A.WSC = B.CODE  AND   A.BDC = D.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.CDID = 'C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AND  B.BDID = 'Y'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1500120" y="243000"/>
            <a:ext cx="66294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4. DECODE¸¦ È°¿ëÇÑ SQLÀÇ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277920" y="1117440"/>
            <a:ext cx="950904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µ¿ÀÏÇÑ Å×ÀÌºíÀ» µÎ¹ø ÀÐÀ½, ÀüÃ¼¹üÀ§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577800" y="2678040"/>
            <a:ext cx="8978760" cy="3732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WSC, C.NAME, A.BDC, D.NAME, A.ACC, B.NAME, A.BSC, A.PSC, A.A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B.CDID,'D',NVL(A.DAMT,0) - NVL(A.CAMT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C',NVL(A.CAMT,0) - NVL(A.DAMT)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.CUID, B.CD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FAFAMFINA  A,  FAFCACCO  B,  FAFCDEPT  D,  FAFCWKSP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A.ADT  BETWEEN  TO_DATE(:B1,'YYMMDD')  AND  TO_DATE(:B2,'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A.ACC  BETWEEN  :B3  AND  :B4   OR  A.ACC  IS NU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A.WSC  BETWEEN  :B5  AND  :B6   OR  A.WSC  IS NU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A.BDC  BETWEEN  :B9  AND  :B10   OR  A.BDC  IS NU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ACC = B.CODE   AND  A.WSC = B.CODE  AND   A.BDC = D.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.CDID  IN  ('C', 'D'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AND  B.BDID = 'Y'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458640" y="2597040"/>
            <a:ext cx="8894880" cy="5018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M3PARTNM, B.M3PARTNM, C.M2GUN || C.M2GUB || C.M2GOVNCD, C.DETA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.M1DESC, E.M1MA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PM002 C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,  PM003 A,  PM003 B,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M001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.M2DEPT  BETWEEN :FROM_DEPT  AND :TO_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PART  BETWEEN :FROM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:TO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DEPT = SUBSTR(A.M3CODE,1,3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PART = SUBSTR(B.M3CODE,1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N  = E.M1GUN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B  = E.M1G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GOVNCD = E.GOVNC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ITEMCD = E.ITEM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M3SELECT = '01'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M3SELECT = '04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ORDER BY  C.M2DEPT, C.M2PART, C.M2GUN, C.M2GUB, C.M2GOVNCD, C.ITEMCD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1680" y="1046160"/>
            <a:ext cx="9299520" cy="19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1 : PM001_PK : M1GUN + M1GUB + M1GOVNCD + M1ITEMCD + M1SPECC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2 : PM002_PK : M2GUN + M2GUB + M2GOVNCD + M2ITEMCD + M2SPECCD + M2DEPT + M2PART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3 : PM003_PK : M3SELECT + M3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5167440" y="3716280"/>
            <a:ext cx="4641840" cy="2606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cc0000"/>
                </a:solidFill>
                <a:latin typeface="XXXXXX"/>
                <a:ea typeface="XXXXXX"/>
              </a:rPr>
              <a:t>SORT               ORDER B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</a:t>
            </a:r>
            <a:r>
              <a:rPr b="1" lang="en-US" sz="1500" spc="-1" strike="noStrike">
                <a:solidFill>
                  <a:srgbClr val="cc0000"/>
                </a:solidFill>
                <a:latin typeface="XXXXXX"/>
                <a:ea typeface="XXXXXX"/>
              </a:rPr>
              <a:t>FULL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PM001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ç 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BY  ROWID  PM002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è 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INDEX      RANGE_SCAN PM002_P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BY  ROWID  PM003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é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INDEX        RANGE_SCAN PM003_P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  BY  ROWID  PM003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ê 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INDEX          RANGE_SCAN PM003_P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512720" y="243000"/>
            <a:ext cx="68914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5. Á¶ÀÎÀÇ ¼ø¼­ Á¶Á¤À¸·Î SORT È¸Ç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8000" y="81612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73280" y="6156360"/>
            <a:ext cx="8734320" cy="387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UGACODE + SUGASERL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·Î µÈ °áÇÕÀÎµ¦½º·Î ÇØ°á, ÀÌ ¶§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ÄÃ·³ ¼ø¼­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¿¡ À¯ÀÇÇÒ °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6720" y="1449360"/>
            <a:ext cx="7796160" cy="1901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NVL(SUGACODE, ' '), NVL(SUGASERL,' '), NVL(SUGADESC,' '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NVL(SUGAEDSC, 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CODE LIKE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 SUGASERL || '' = 'CA'  OR  SUGASERL || '' = 'DA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ROWNUM &lt; 2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68320" y="4579920"/>
            <a:ext cx="6746760" cy="1119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¶ °Ç                                       ¹üÀ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CODE LIKE :B1          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³Ð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SERL || '' = 'CA' OR SUGASERL || '' = 'DA'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Á¼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8000" y="3987720"/>
            <a:ext cx="299088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71560" y="4932360"/>
            <a:ext cx="672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07160" y="4583160"/>
            <a:ext cx="0" cy="108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78000" y="5545080"/>
            <a:ext cx="299088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7920" y="2995560"/>
            <a:ext cx="6329520" cy="1570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   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COUNT (STOPKE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658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TABLE  ACCESS (BY ROWID) OF 'THISSUGA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581         INDEX (RANGE SCAN) OF 'THISSUGA_PK1' (UNIQU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291960" y="988920"/>
            <a:ext cx="9510840" cy="60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M001 Å×ÀÌºíÀÇ FULL SCAN°ú ORDER BY Àý¿¡ ÀÇÇÑ ÀüÃ¼¹üÀ§ Ã³¸®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EXECUTION PLANÀÇ ÀÌÇ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1 : A ¿Í B Å×ÀÌºíÀÌ ¸ÕÀú »ó¼ö°¡ µÇÁö¸¸ ÀÌ¸¦ ¹Þ¾Æ¾²´Â ´Ù¸¥ Å×ÀÌºíÀº ¸ðµ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ULL SCAN ÇØ¾ß ÇÑ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2 : FULL SCAN ÇÏ´Â Å×ÀÌºíÀÌ µå¶óÀÌºù Å×ÀÌºíÀÌ µÇ¸ç ÀÌ¶§ C ¿Í E Å×ÀÌºí Á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¡Àå ¸Ö¸® ÀÖ´Â E Å×ÀÌºíÀÌ ¸ÕÀú »ç¿ëµÈ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3 : E °¡ Ç®¸®¸é C °¡ Ç®¸®°í A, B Áß¿¡¼­µµ ¸Ö¸®ÀÖ´Â B °¡ ¸ÕÀú Ç®¸°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4 : SORT ÇÏ¿© °á°ú¸¦ ³»º¸³»¹Ç·Î ÀüÃ¼¹üÀ§·Î Ã³¸®µÈ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1) PM002_PK ÀÎµ¦½ºÀÇ Ä®·³ ¼ø¼­¸¦ ORDER BYÀýÀÇ ¼ø¼­¿Í ÀÏÄ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´Ù¸¥ SQL¿¡ ¹ÌÄ¡´Â ¿µÇâ °í·Á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2) Å×ÀÌºíÀÌ Ç®¸®´Â ¼ø¼­¸¦ Á¶Á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500120" y="243000"/>
            <a:ext cx="68914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5. Á¶ÀÎÀÇ ¼ø¼­ Á¶Á¤À¸·Î SORT È¸Ç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351000" y="2384280"/>
            <a:ext cx="8869320" cy="500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M3PARTNM, B.M3PARTNM, C.M2GUN || C.M2GUB || C.M2GOVNCD, C.DETA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.M1DESC, E.M1MA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PM001  E,  PM002  C,  PM003  B,  PM003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.M2DEPT  BETWEEN  :FROM_DEPT  AND :TO_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PART  BETWEEN  :FROM_PART  AND :TO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M2DEP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SUBSTR(A.M3CODE,1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M2PAR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SUBSTR(B.M3CODE,1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N = E.M1G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B = E.M1G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GOVNCD = E.GOVN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ITEMCD = E.ITEM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M3SELECT = '0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.M3SELECT = '04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487520" y="243000"/>
            <a:ext cx="68914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5. Á¶ÀÎÀÇ ¼ø¼­ Á¶Á¤À¸·Î SORT È¸Ç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69720" y="2036880"/>
            <a:ext cx="191772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986360" y="4538520"/>
            <a:ext cx="4516560" cy="2336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cc0000"/>
                </a:solidFill>
                <a:latin typeface="XXXXXX"/>
                <a:ea typeface="XXXXXX"/>
              </a:rPr>
              <a:t>NESTED  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NESTED  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NESTED   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BY  ROWID   PM003   :DEPT¿¡ ÇØ´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300" spc="-1" strike="noStrike">
                <a:solidFill>
                  <a:srgbClr val="cc0000"/>
                </a:solidFill>
                <a:latin typeface="XXXXXX"/>
                <a:ea typeface="XXXXXX"/>
              </a:rPr>
              <a:t>INDEX       RANGE_SCAN  PM003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BY  ROWID   PM003   :PART¿¡ ÇØ´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INDEX       RANGE_SCAN  PM003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 BY  ROWID   PM0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INDEX         RANGE_SCAN  PM002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   BY  ROWID   PM0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INDEX           RANGE_SCAN  PM001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619280" y="1152360"/>
            <a:ext cx="8007480" cy="888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2_PK  :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M2DEPT + M2PAR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+ M2GUN + M2GUB + M2GOVNCD + M2ITEMCD + M2SPEC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2_IX1 : M2GUN + M2GUB + M2GOVNCD + M2ITEMCD + M2SPEC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7115040" y="4264200"/>
            <a:ext cx="2416320" cy="42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 --&gt; B --&gt; C --&gt;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Ï³ªÀÇ ÄÃ·³À¸·Î ÇØ¾ß ÇÒ ¼Ó¼ºÀ» 3 °³ÀÇ ÄÃ·³À¸·Î ºÐÇ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511280" y="27936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812880" y="4944960"/>
            <a:ext cx="465948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ASC  :  BASC_ID_PK  :  RCNO +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TPT  :  OTPT_ID_PK  :  ID + DAT + 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TPT  :  OTPT_IX1    :  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TPT  :  OTPT_IX2    :  DAT + 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405320" y="2325600"/>
            <a:ext cx="104616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5270400" y="2182680"/>
            <a:ext cx="21924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280120" y="2325600"/>
            <a:ext cx="21888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5470560" y="1658880"/>
            <a:ext cx="1101600" cy="31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D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K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KI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BOJ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S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   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SG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   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JY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305160" y="1706400"/>
            <a:ext cx="1101600" cy="149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BA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RC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PY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166840" y="3471840"/>
            <a:ext cx="2192400" cy="773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ß¸øµÈ ¸ðµ¨¸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314880" y="204804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86400" y="1943280"/>
            <a:ext cx="1076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334040" y="3852720"/>
            <a:ext cx="1352520" cy="3477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705640" y="3838680"/>
            <a:ext cx="66960" cy="752760"/>
          </a:xfrm>
          <a:custGeom>
            <a:avLst/>
            <a:gdLst/>
            <a:ahLst/>
            <a:rect l="0" t="0" r="r" b="b"/>
            <a:pathLst>
              <a:path fill="none" w="186" h="2091">
                <a:moveTo>
                  <a:pt x="186" y="0"/>
                </a:moveTo>
                <a:lnTo>
                  <a:pt x="0" y="0"/>
                </a:lnTo>
                <a:lnTo>
                  <a:pt x="0" y="2091"/>
                </a:lnTo>
                <a:lnTo>
                  <a:pt x="133" y="2091"/>
                </a:lnTo>
                <a:lnTo>
                  <a:pt x="159" y="209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45960" y="4470480"/>
            <a:ext cx="25146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1511280" y="2667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2220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2171520" y="1147680"/>
            <a:ext cx="7126200" cy="5953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PYMT) INTO :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BA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RCNO IN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(SELECT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G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FROM OTP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WHERE  ID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DAT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IND = '2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DL BETWEEN '10' AND '40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D'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OR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RCNO IN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(SELECT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G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FROM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WHERE  ID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DATE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IND = '2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DL BETWEEN '10' AND '40'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D'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OR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CNO IN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(SELECT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JYG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FROM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WHERE  ID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DATE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IND = '2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DL BETWEEN '10' AND '40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D'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1511280" y="26676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5892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855720" y="1673280"/>
            <a:ext cx="7972560" cy="496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COUNT    CPU      ELAPSED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ISK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QUERY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URREN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OWS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0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12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0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0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FETCH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5.24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6.96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24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2386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4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   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9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5         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5            TABLE ACCESS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(FULL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OF 'BAS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51            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23               INDEX (RANGE SCAN) OF 'OTPT_ID_PK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27            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96               INDEX (RANGE SCAN) OF 'OTPT_ID_PK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03            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69               INDEX (RANGE SCAN) OF 'OTPT_ID_PK' (UNIQUE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945480" y="1004760"/>
            <a:ext cx="2584440" cy="5580000"/>
          </a:xfrm>
          <a:prstGeom prst="rect">
            <a:avLst/>
          </a:prstGeom>
          <a:solidFill>
            <a:srgbClr val="f1f1f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830760" y="1025640"/>
            <a:ext cx="2522520" cy="5580000"/>
          </a:xfrm>
          <a:prstGeom prst="rect">
            <a:avLst/>
          </a:prstGeom>
          <a:solidFill>
            <a:srgbClr val="f1f1f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03040" y="3076560"/>
            <a:ext cx="3146400" cy="2712960"/>
          </a:xfrm>
          <a:prstGeom prst="rect">
            <a:avLst/>
          </a:prstGeom>
          <a:solidFill>
            <a:srgbClr val="f1f1f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498680" y="26676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7277040" y="3179880"/>
            <a:ext cx="1943280" cy="269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UM   OTPT_RC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91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471840" y="4199040"/>
            <a:ext cx="317880" cy="532080"/>
          </a:xfrm>
          <a:custGeom>
            <a:avLst/>
            <a:gdLst/>
            <a:ahLst/>
            <a:rect l="0" t="0" r="r" b="b"/>
            <a:pathLst>
              <a:path w="883" h="1478">
                <a:moveTo>
                  <a:pt x="0" y="491"/>
                </a:moveTo>
                <a:lnTo>
                  <a:pt x="0" y="984"/>
                </a:lnTo>
                <a:lnTo>
                  <a:pt x="618" y="984"/>
                </a:lnTo>
                <a:lnTo>
                  <a:pt x="618" y="1478"/>
                </a:lnTo>
                <a:lnTo>
                  <a:pt x="883" y="738"/>
                </a:lnTo>
                <a:lnTo>
                  <a:pt x="618" y="0"/>
                </a:lnTo>
                <a:lnTo>
                  <a:pt x="618" y="491"/>
                </a:lnTo>
                <a:lnTo>
                  <a:pt x="0" y="491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7089840" y="1155600"/>
            <a:ext cx="2309760" cy="1830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NUM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 NU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, SG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, SG2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, JYG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S  OTPT_RC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N123,  OT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687680" y="3730680"/>
            <a:ext cx="1432080" cy="142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G1  SG2  JY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4   34   1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6   51   1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41280" y="3730680"/>
            <a:ext cx="712800" cy="142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69720" y="3371760"/>
            <a:ext cx="241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123                 OT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112760" y="4246560"/>
            <a:ext cx="505080" cy="533880"/>
          </a:xfrm>
          <a:custGeom>
            <a:avLst/>
            <a:gdLst/>
            <a:ahLst/>
            <a:rect l="0" t="0" r="r" b="b"/>
            <a:pathLst>
              <a:path w="1403" h="1483">
                <a:moveTo>
                  <a:pt x="0" y="296"/>
                </a:moveTo>
                <a:lnTo>
                  <a:pt x="0" y="1187"/>
                </a:lnTo>
                <a:lnTo>
                  <a:pt x="280" y="1187"/>
                </a:lnTo>
                <a:lnTo>
                  <a:pt x="280" y="1483"/>
                </a:lnTo>
                <a:lnTo>
                  <a:pt x="1122" y="1483"/>
                </a:lnTo>
                <a:lnTo>
                  <a:pt x="1122" y="1187"/>
                </a:lnTo>
                <a:lnTo>
                  <a:pt x="1403" y="1187"/>
                </a:lnTo>
                <a:lnTo>
                  <a:pt x="1403" y="296"/>
                </a:lnTo>
                <a:lnTo>
                  <a:pt x="1122" y="296"/>
                </a:lnTo>
                <a:lnTo>
                  <a:pt x="1122" y="0"/>
                </a:lnTo>
                <a:lnTo>
                  <a:pt x="280" y="0"/>
                </a:lnTo>
                <a:lnTo>
                  <a:pt x="280" y="296"/>
                </a:lnTo>
                <a:lnTo>
                  <a:pt x="0" y="296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990960" y="3179880"/>
            <a:ext cx="2203560" cy="269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UM  SG1  SG2  JYG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34   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14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4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14   34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91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51   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16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5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16   51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083120" y="1528920"/>
            <a:ext cx="1990800" cy="100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NUM, SG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G2, JYG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FROM   N123,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467400" y="4199040"/>
            <a:ext cx="317880" cy="532080"/>
          </a:xfrm>
          <a:custGeom>
            <a:avLst/>
            <a:gdLst/>
            <a:ahLst/>
            <a:rect l="0" t="0" r="r" b="b"/>
            <a:pathLst>
              <a:path w="883" h="1478">
                <a:moveTo>
                  <a:pt x="0" y="491"/>
                </a:moveTo>
                <a:lnTo>
                  <a:pt x="0" y="984"/>
                </a:lnTo>
                <a:lnTo>
                  <a:pt x="618" y="984"/>
                </a:lnTo>
                <a:lnTo>
                  <a:pt x="618" y="1478"/>
                </a:lnTo>
                <a:lnTo>
                  <a:pt x="883" y="738"/>
                </a:lnTo>
                <a:lnTo>
                  <a:pt x="618" y="0"/>
                </a:lnTo>
                <a:lnTo>
                  <a:pt x="618" y="491"/>
                </a:lnTo>
                <a:lnTo>
                  <a:pt x="0" y="491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49200" y="4035600"/>
            <a:ext cx="69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90560" y="4049640"/>
            <a:ext cx="1414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986280" y="3529080"/>
            <a:ext cx="219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278840" y="3529080"/>
            <a:ext cx="1931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1498680" y="2667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26880" y="1117440"/>
            <a:ext cx="9556920" cy="143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-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°Àº Å×ÀÌºíÀ» °°Àº Á¶°ÇÀ¸·Î 3 ¹ø ¿¢¼¼½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AS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TableÀ» FULL SCAN(WHERE ID = :B2 -&gt; ÀÎµ¦½º°¡ RCNO + ID·Î±¸¼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20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35040" y="2576520"/>
            <a:ext cx="5310360" cy="1415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REATE TABLE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N123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(NUM NUMBER(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SERT INTO N123 VALUES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SERT INTO N123 VALUES(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SERT INTO N123 VALUES(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5302080" y="2320920"/>
            <a:ext cx="2092320" cy="49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Ó½ÃÅ×ÀÌºí »ý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28560" y="4091040"/>
            <a:ext cx="7613640" cy="2530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UM(PYMT)  INTO  :B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NUM, 1, SG1, 2, SG2, 3,JYG1) OTPT_RC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OTPT, N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 AND DAT = :B4 AND KIND = '2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KDL BETWEEN '10' AND '40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'C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'D')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_OTPT, 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CNO = V_OTPT.OTPT_RC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14986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74760" y="11174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531720" y="1511280"/>
            <a:ext cx="5748480" cy="1949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NUM, 1,SG1, 2,SG2, 3,JYG1) OTPT_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OTPT,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(SELECT 1 AS NUM FROM 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UNION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ELECT 2 AS NUM FROM 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UNION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ELECT 3 AS NUM FROM DUAL)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N1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 AND DAT = :B4 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031760" y="3594240"/>
            <a:ext cx="5091120" cy="3070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a50021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ACCESS (FULL) OF 'N12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OTPT_ID_PK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ACCESS (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BY ROWID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 OF 'BAS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(RANGE SCAN) OF 'BASC_ID_PK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651640" y="4761000"/>
            <a:ext cx="2751120" cy="101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Îµ¦½º ÄÃ·³ ¼ø¼­ ¼öÁ¤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D + RCNO(BASIC_ID_P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15112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43080" y="11174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¸ðµ¨¸µÀÌ ¹Ù¸£°Ô µÇ¸é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758880" y="3614760"/>
            <a:ext cx="6508800" cy="3033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PYMT) INTO :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BAS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RCNO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 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DAT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KIND = '2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KDL BETWEEN '10' AND '40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 'D'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321600" y="996840"/>
            <a:ext cx="1552680" cy="261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P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D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D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# *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K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K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OJ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* 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681360" y="1604880"/>
            <a:ext cx="1535040" cy="1308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Y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243400" y="1954080"/>
            <a:ext cx="1081080" cy="378000"/>
            <a:chOff x="5243400" y="1954080"/>
            <a:chExt cx="1081080" cy="378000"/>
          </a:xfrm>
        </p:grpSpPr>
        <p:sp>
          <p:nvSpPr>
            <p:cNvPr id="559" name=""/>
            <p:cNvSpPr/>
            <p:nvPr/>
          </p:nvSpPr>
          <p:spPr>
            <a:xfrm flipV="1">
              <a:off x="5243400" y="2138400"/>
              <a:ext cx="108108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7280" y="2144880"/>
              <a:ext cx="187200" cy="18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6137280" y="1954080"/>
              <a:ext cx="18720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683160" y="2000160"/>
            <a:ext cx="1515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38880" y="1379520"/>
            <a:ext cx="1514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43080" y="31910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½±°Ô Ã³¸®µÉ ¼ö ÀÖÀ½.</a:t>
            </a: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26880" y="1117440"/>
            <a:ext cx="88297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µ¥ÀÌÅÍ º¹Á¦¸¦ ÀÌ¿ëÇÏ¿© ±âÁØÀÌ µÇ´Â Ç×¸ñ¿¡ ´ëÇÏ¿© µ¥ÀÌÅÍ°¡ ¾ø¾îµ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ºüÁü¾øÀÌ ¸ðµÎ Ç¥½Ã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498680" y="228600"/>
            <a:ext cx="78804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503280" y="4470480"/>
            <a:ext cx="882972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§¿Í °°Àº È¯°æÇÏ¿¡ ¸ðµç Áö¿ª¿¡ ´ëÇÏ¿© ÇÑÁÖÀÏ µ¿¾È ÀÚ°ÝÀ» ÃëµæÇÑ ¸ðµç »ç¶÷À» Áö¿ªº°, ¼ºº°·Î ±¸ºÐÇÏ¿© Ç¥½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øÇÏ´Â ±â°£¿¡ ´ëÇØ ÇØ´çÁö¿ª¿¡ ÀÚ°ÝÃëµæÀÚ°¡ ¾ø´Â °æ¿ì¿¡µµ ³²³à Ç×¸ñÀÌ »ý¼ºµÇ¾î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 ÀÌ¶ó´Â °ªÀ» °¡Á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448000" y="1908000"/>
            <a:ext cx="1941480" cy="264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7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ÇÇº¸ÇèÀÚ°Ý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ÁÖ¹Îµî·Ï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º¸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Ú°ÝÃëµæ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¿ªÄÚµå (F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¼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ºº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460600" y="2362320"/>
            <a:ext cx="1933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134040" y="2216160"/>
            <a:ext cx="1635120" cy="1791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¿ª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Áö¿ª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¿ª¸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´ëÇ¥ÁöºÎÀ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53120" y="2749680"/>
            <a:ext cx="1619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390920" y="2978280"/>
            <a:ext cx="1704960" cy="162360"/>
            <a:chOff x="4390920" y="2978280"/>
            <a:chExt cx="1704960" cy="162360"/>
          </a:xfrm>
        </p:grpSpPr>
        <p:sp>
          <p:nvSpPr>
            <p:cNvPr id="574" name=""/>
            <p:cNvSpPr/>
            <p:nvPr/>
          </p:nvSpPr>
          <p:spPr>
            <a:xfrm>
              <a:off x="4390920" y="3054240"/>
              <a:ext cx="9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43480" y="3054240"/>
              <a:ext cx="75240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390920" y="2978280"/>
              <a:ext cx="248040" cy="162360"/>
            </a:xfrm>
            <a:custGeom>
              <a:avLst/>
              <a:gdLst/>
              <a:ahLst/>
              <a:rect l="0" t="0" r="r" b="b"/>
              <a:pathLst>
                <a:path fill="none" w="689" h="451">
                  <a:moveTo>
                    <a:pt x="0" y="0"/>
                  </a:moveTo>
                  <a:lnTo>
                    <a:pt x="689" y="225"/>
                  </a:lnTo>
                  <a:lnTo>
                    <a:pt x="0" y="45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500120" y="243000"/>
            <a:ext cx="6788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. Á¶ÀÎÀ» È°¿ëÇÑ GROUP BYÀÇ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65040" y="1233360"/>
            <a:ext cx="8542440" cy="26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ALE    : SALE_PROD_NO_SALEDATE : PROD_NO + SALEDATE  (NON UNIQ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DUCT : PK_PRODUCT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: PROD_NO  (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PRIMARY KEY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71400" y="3362400"/>
            <a:ext cx="5929200" cy="2238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PROD_NO,  SUM ( SALE_AMT * UNIT_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PROD_NO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BETWEEN  'P20150'  AND  'P20200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ALEDATE   LIKE 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PROD_N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1511280" y="2667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2688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¥½Ã ¿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984240" y="1855800"/>
            <a:ext cx="7707240" cy="3492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984240" y="1841400"/>
            <a:ext cx="7707240" cy="4478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84240" y="270684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979560" y="313056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988920" y="355428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988920" y="399744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84240" y="3990960"/>
            <a:ext cx="7707240" cy="9097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84240" y="443880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354400" y="185580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121200" y="186516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78280" y="186516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678200" y="186372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73800" y="1859040"/>
            <a:ext cx="0" cy="3477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259680" y="185724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089840" y="1859040"/>
            <a:ext cx="0" cy="3477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918560" y="187164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177920" y="1879560"/>
            <a:ext cx="871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Áö¿ª¸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2338560" y="1879560"/>
            <a:ext cx="704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¼º º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76560" y="1879560"/>
            <a:ext cx="871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âÁØÀ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05936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86108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561168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46416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727236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800748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397160" y="234648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397160" y="274464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397160" y="3147840"/>
            <a:ext cx="565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397160" y="359568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397160" y="405756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397160" y="453384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397160" y="496584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2584440" y="23400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2584440" y="275112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2495520" y="317016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584440" y="36320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2584440" y="40356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2584440" y="44974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2584440" y="494496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308400" y="23353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308400" y="27464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219480" y="316548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308400" y="36273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308400" y="40305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308400" y="44928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308400" y="494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094280" y="23353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094280" y="27464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005360" y="316548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094280" y="36273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094280" y="40305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094280" y="44928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094280" y="494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923000" y="23353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923000" y="27464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834080" y="316548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923000" y="36273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923000" y="40305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923000" y="44928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923000" y="494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5746680" y="233028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5746680" y="274176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573880" y="3160800"/>
            <a:ext cx="57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5746680" y="362268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5746680" y="402588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5746680" y="448776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5746680" y="493560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6546960" y="233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546960" y="2741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458040" y="316080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546960" y="36226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6546960" y="40258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546960" y="4487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546960" y="49356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7404120" y="233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7404120" y="2741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7315200" y="316080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7404120" y="36226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7404120" y="40258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7404120" y="4487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7404120" y="49356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8118360" y="233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8118360" y="2741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8029440" y="316080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8118360" y="36226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8118360" y="40258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8118360" y="4487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8118360" y="49356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774280" y="4216320"/>
            <a:ext cx="473040" cy="0"/>
          </a:xfrm>
          <a:prstGeom prst="line">
            <a:avLst/>
          </a:prstGeom>
          <a:ln w="255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774280" y="4656240"/>
            <a:ext cx="473040" cy="0"/>
          </a:xfrm>
          <a:prstGeom prst="line">
            <a:avLst/>
          </a:prstGeom>
          <a:ln w="255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1511280" y="254160"/>
            <a:ext cx="8242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°£´ÜÇÑ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549360" y="1582560"/>
            <a:ext cx="7701120" cy="4102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Áö¿ª¸í, ¼ºº°, SUM(DECODE(ÀÚ°ÝÃëµæÀÏÀÚ, :ÀÔ·ÂÀÏÀÚ  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1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2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3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4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5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6, 1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ÇÇº¸ÇèÀÚÀÚ°ÝÁ¤º¸ A, Áö¿ªÁ¤º¸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ÀÚ°ÝÃëµæÀÏÀÚ BETWEEN  :ÀÔ·ÂÀÏÀÚ  AND  :ÀÔ·ÂÀÏÀÚ+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Áö¿ªÄÚµå = B.Áö¿ªÄÚµ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B.Áö¿ª¸í , A.¼ºº°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7360" y="55134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7800" y="5495760"/>
            <a:ext cx="8786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°æ³²Áö¿ª  ¿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³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Á¦ÁÖÁö¿ª ³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Ã³·³ ÀÚ°ÝÀ» ÃëµæÇÑ ·Î¿ì°¡ ¾øÀ¸¸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Ø´ç·Î¿ì°¡ ³ªÅ¸³ªÁö ¾ÊÀ½</a:t>
            </a: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279360" y="1117440"/>
            <a:ext cx="9623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57200" y="2247840"/>
            <a:ext cx="2286000" cy="150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41360" y="2376360"/>
            <a:ext cx="2270160" cy="14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1 0 5 3 2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2 1 3 4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1 0 1 2 1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0 0 1 0 0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231840" y="1862280"/>
            <a:ext cx="2739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OUP BY Áö¿ª¸í, ¼ºº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450800" y="3824280"/>
            <a:ext cx="392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231920" y="4343400"/>
            <a:ext cx="774720" cy="10666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905280" y="2838600"/>
            <a:ext cx="1847880" cy="283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965400" y="2986200"/>
            <a:ext cx="1735200" cy="27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105000" y="3562200"/>
            <a:ext cx="572040" cy="1410120"/>
          </a:xfrm>
          <a:custGeom>
            <a:avLst/>
            <a:gdLst/>
            <a:ahLst/>
            <a:rect l="0" t="0" r="r" b="b"/>
            <a:pathLst>
              <a:path w="1589" h="3917">
                <a:moveTo>
                  <a:pt x="0" y="783"/>
                </a:moveTo>
                <a:lnTo>
                  <a:pt x="0" y="3134"/>
                </a:lnTo>
                <a:lnTo>
                  <a:pt x="1112" y="3134"/>
                </a:lnTo>
                <a:lnTo>
                  <a:pt x="1112" y="3917"/>
                </a:lnTo>
                <a:lnTo>
                  <a:pt x="1589" y="1958"/>
                </a:lnTo>
                <a:lnTo>
                  <a:pt x="1112" y="0"/>
                </a:lnTo>
                <a:lnTo>
                  <a:pt x="1112" y="783"/>
                </a:lnTo>
                <a:lnTo>
                  <a:pt x="0" y="783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19840" y="2857680"/>
            <a:ext cx="2171880" cy="283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80320" y="2909880"/>
            <a:ext cx="1938240" cy="27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 .....  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¼­¿ï ³² 0....0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¼­¿ï ¿© 0....0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 .....  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 .....  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°æ³² ³² 0....0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Á¦ÁÖ ¿© 0....0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 .....  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76800" y="3486240"/>
            <a:ext cx="572040" cy="1467360"/>
          </a:xfrm>
          <a:custGeom>
            <a:avLst/>
            <a:gdLst/>
            <a:ahLst/>
            <a:rect l="0" t="0" r="r" b="b"/>
            <a:pathLst>
              <a:path w="1589" h="4076">
                <a:moveTo>
                  <a:pt x="0" y="814"/>
                </a:moveTo>
                <a:lnTo>
                  <a:pt x="0" y="3261"/>
                </a:lnTo>
                <a:lnTo>
                  <a:pt x="1112" y="3261"/>
                </a:lnTo>
                <a:lnTo>
                  <a:pt x="1112" y="4076"/>
                </a:lnTo>
                <a:lnTo>
                  <a:pt x="1589" y="2038"/>
                </a:lnTo>
                <a:lnTo>
                  <a:pt x="1112" y="0"/>
                </a:lnTo>
                <a:lnTo>
                  <a:pt x="1112" y="814"/>
                </a:lnTo>
                <a:lnTo>
                  <a:pt x="0" y="814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122640" y="3867120"/>
            <a:ext cx="45864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6019920" y="3745080"/>
            <a:ext cx="4586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9182160" y="3467160"/>
            <a:ext cx="572040" cy="1676880"/>
          </a:xfrm>
          <a:custGeom>
            <a:avLst/>
            <a:gdLst/>
            <a:ahLst/>
            <a:rect l="0" t="0" r="r" b="b"/>
            <a:pathLst>
              <a:path w="1589" h="4658">
                <a:moveTo>
                  <a:pt x="0" y="931"/>
                </a:moveTo>
                <a:lnTo>
                  <a:pt x="0" y="3727"/>
                </a:lnTo>
                <a:lnTo>
                  <a:pt x="1112" y="3727"/>
                </a:lnTo>
                <a:lnTo>
                  <a:pt x="1112" y="4658"/>
                </a:lnTo>
                <a:lnTo>
                  <a:pt x="1589" y="2329"/>
                </a:lnTo>
                <a:lnTo>
                  <a:pt x="1112" y="0"/>
                </a:lnTo>
                <a:lnTo>
                  <a:pt x="1112" y="931"/>
                </a:lnTo>
                <a:lnTo>
                  <a:pt x="0" y="931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9163080" y="3801960"/>
            <a:ext cx="45864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Group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295960" y="3060720"/>
            <a:ext cx="0" cy="250200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14986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58920" y="106992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1139760" y="1403280"/>
            <a:ext cx="8513640" cy="547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V.Áö¿ª¸í,R.¼ºº°,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1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2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1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3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2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4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3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5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4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6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5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7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6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Áö¿ª¸í, A.¼ºº°,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  , 1))  AS SUM1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1, 1))  AS SUM2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2, 1))  AS SUM3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3, 1))  AS SUM4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4, 1))  AS SUM5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5, 1))  AS SUM6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6, 1))  AS SUM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ÇÇº¸ÇèÀÚÀÚ°ÝÁ¤º¸  A,  Áö¿ªÁ¤º¸ 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A.ÀÚ°ÝÃëµæÀÏÀÚ  BETWEEN  :ÀÔ·ÂÀÏÀÚ  AND  :ÀÔ·ÂÀÏÀÚ + 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A.Áö¿ªÄÚµå = B.Áö¿ªÄÚµå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GROUP  BY B.Áö¿ª¸í , A.¼ºº°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)  V,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(SELECT  '³²' AS ¼ºº° FROM DU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ELECT  '¿©' AS ¼ºº° FROM DUAL)  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GROUP  BY  V.Áö¿ª¸í, R.¼ºº°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1511280" y="25416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812880" y="2610000"/>
            <a:ext cx="2921040" cy="33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1 0 5 3 2 1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1 0 5 3 2 1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2 1 3 4 1 0 1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2 1 3 4 1 0 1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1 0 1 2 1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1 0 1 2 1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1 0 0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1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47920" y="2670120"/>
            <a:ext cx="0" cy="295596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172040" y="2759040"/>
            <a:ext cx="693720" cy="2489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5165640" y="2581200"/>
            <a:ext cx="2949480" cy="33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1 0 5 3 2 1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0 0 0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0 0 0 0 0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2 1 3 4 1 0 1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1 0 1 2 1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0 0 0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0 0 0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1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78000" y="2017800"/>
            <a:ext cx="1000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.Áö¿ª¸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2940120" y="2052720"/>
            <a:ext cx="797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.¼ºº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695600" y="2030400"/>
            <a:ext cx="797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.SU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952560" y="2359080"/>
            <a:ext cx="162000" cy="323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1816200" y="2394000"/>
            <a:ext cx="142920" cy="314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416400" y="2390760"/>
            <a:ext cx="568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610400" y="278136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8448840" y="285444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8461440" y="339732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8448840" y="395604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8459640" y="451152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981920" y="2870280"/>
            <a:ext cx="438120" cy="10152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0400" bIns="50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7991640" y="3111480"/>
            <a:ext cx="415800" cy="45072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978680" y="3238560"/>
            <a:ext cx="428760" cy="26676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7988400" y="3632040"/>
            <a:ext cx="419040" cy="25416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997760" y="4140360"/>
            <a:ext cx="422280" cy="129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8001000" y="4673520"/>
            <a:ext cx="43164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8969400" y="4919760"/>
            <a:ext cx="2728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14986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279360" y="11174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163520" y="1397160"/>
            <a:ext cx="8521560" cy="5734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  V.Áö¿ª¸í,R.¼ºº°, SUM (DECODE(V.¼ºº°,R.¼ºº°,SUM1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2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3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4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3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5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4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6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5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7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6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Áö¿ª¸í, A.¼ºº°, SUM (DECODE(ÀÚ°ÝÃëµæÀÏÀÚ, :ÀÔ·ÂÀÏÀÚ  , 1))  AS SUM1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1, 1))  AS SUM2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2, 1))  AS SUM3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3, 1))  AS SUM4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4, 1))  AS SUM5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5, 1))  AS SUM6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6, 1))  AS SUM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ÀÚ°ÝÃëµæÀÏÀÚ, ¼ºº°, Áö¿ªÄÚµå  FROM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ÇÇº¸ÇèÀÚÀÚ°ÝÁ¤º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ÀÚ°ÝÃëµæÀÏÀÚ  BETWEEN :ÀÔ·ÂÀÏÀÚ AND :ÀÔ·ÂÀÏÀÚ+6 ) A,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Áö¿ªÁ¤º¸ 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WHERE  B.Áö¿ªÄÚµå = A.Áö¿ªÄÚµå(+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GROUP BY  B.Áö¿ª¸í , A.¼ºº°  )  V,   (SELECT  '³²' AS ¼ºº° FROM DU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UNION A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'¿©' AS ¼ºº° FROM DUAL)  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GROUP  BY  V.Áö¿ª¸í, R.¼ºº°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326880" y="106992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öÁ¡º° ÇÕ°è¿Í ÃÑ°è¸¦ ÇÔ²² ±¸ÇÏ´Â º¸°í¼­ ÀÛ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5112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1400040" y="4568760"/>
            <a:ext cx="1400040" cy="2100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öÁ¡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2801880" y="4568760"/>
            <a:ext cx="1400040" cy="2100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öÁ¡¸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µ¾÷ 1º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µ¾÷ 2º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»Áö·ÎÁöÁ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©ÀÇµµÁöÁ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195800" y="4565520"/>
            <a:ext cx="1400040" cy="2378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ö½ÅÃÑ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9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91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1,23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5603760" y="4565520"/>
            <a:ext cx="1400040" cy="2378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½ÅÃÑ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9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87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7,80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7015320" y="4568760"/>
            <a:ext cx="1400040" cy="2378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½ÅÅ¹ÃÑ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2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4,30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401840" y="6329520"/>
            <a:ext cx="279864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Ñ °è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214880" y="6329520"/>
            <a:ext cx="418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401840" y="4843440"/>
            <a:ext cx="6999120" cy="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1468440" y="4259160"/>
            <a:ext cx="2092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µ¾÷ÀÏ:1996.09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2709720" y="1862280"/>
            <a:ext cx="2038320" cy="2846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DAILY_TRAN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BR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JM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SALE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ACCT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SAWON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TERMINAL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R_AMT (¼ö½Å¾×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A_AMT (¿©½Å¾×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I_AMT  (½ÅÅ¹¾×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2982960" y="1535040"/>
            <a:ext cx="125244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ÀÏÀÏ°Å·¡³»¿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716200" y="2152800"/>
            <a:ext cx="2017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4738680" y="2146320"/>
            <a:ext cx="2664000" cy="248040"/>
            <a:chOff x="4738680" y="2146320"/>
            <a:chExt cx="2664000" cy="248040"/>
          </a:xfrm>
        </p:grpSpPr>
        <p:sp>
          <p:nvSpPr>
            <p:cNvPr id="738" name=""/>
            <p:cNvSpPr/>
            <p:nvPr/>
          </p:nvSpPr>
          <p:spPr>
            <a:xfrm>
              <a:off x="4749840" y="2263680"/>
              <a:ext cx="1423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173640" y="2263680"/>
              <a:ext cx="1229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38680" y="2146320"/>
              <a:ext cx="321120" cy="248040"/>
            </a:xfrm>
            <a:custGeom>
              <a:avLst/>
              <a:gdLst/>
              <a:ahLst/>
              <a:rect l="0" t="0" r="r" b="b"/>
              <a:pathLst>
                <a:path fill="none" w="892" h="689">
                  <a:moveTo>
                    <a:pt x="0" y="0"/>
                  </a:moveTo>
                  <a:lnTo>
                    <a:pt x="892" y="344"/>
                  </a:lnTo>
                  <a:lnTo>
                    <a:pt x="0" y="68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4740120" y="3606840"/>
            <a:ext cx="968400" cy="216360"/>
            <a:chOff x="4740120" y="3606840"/>
            <a:chExt cx="968400" cy="216360"/>
          </a:xfrm>
        </p:grpSpPr>
        <p:sp>
          <p:nvSpPr>
            <p:cNvPr id="742" name=""/>
            <p:cNvSpPr/>
            <p:nvPr/>
          </p:nvSpPr>
          <p:spPr>
            <a:xfrm>
              <a:off x="4753080" y="3703680"/>
              <a:ext cx="51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5720" y="3703680"/>
              <a:ext cx="44280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740120" y="3606840"/>
              <a:ext cx="240120" cy="216360"/>
            </a:xfrm>
            <a:custGeom>
              <a:avLst/>
              <a:gdLst/>
              <a:ahLst/>
              <a:rect l="0" t="0" r="r" b="b"/>
              <a:pathLst>
                <a:path fill="none" w="667" h="601">
                  <a:moveTo>
                    <a:pt x="95" y="0"/>
                  </a:moveTo>
                  <a:lnTo>
                    <a:pt x="667" y="279"/>
                  </a:lnTo>
                  <a:lnTo>
                    <a:pt x="0" y="60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 txBox="1"/>
          <p:nvPr/>
        </p:nvSpPr>
        <p:spPr>
          <a:xfrm>
            <a:off x="5718240" y="2732040"/>
            <a:ext cx="1492200" cy="1783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JONG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JM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JM_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CLASS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OPEN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7304040" y="1511280"/>
            <a:ext cx="1517760" cy="1465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BR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BR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OPEN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ADDRES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6004080" y="2430360"/>
            <a:ext cx="896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Á¾¸ñ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721480" y="3035160"/>
            <a:ext cx="1422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7526160" y="1174680"/>
            <a:ext cx="896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ÁöÁ¡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316640" y="1822320"/>
            <a:ext cx="1490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26880" y="3797280"/>
            <a:ext cx="1730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º¸°í¼­ 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LOOP QUERY ÇüÅ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338040" y="1744560"/>
            <a:ext cx="9366120" cy="4977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CURSOR FOR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BR_NO,  BR_NM  FROM  BRAN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  :BRN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SUM (R_AMT), SUM(A_AMT), SUM (I_AMT)  INTO  :RAMT,  :AAMT,  :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BR_NO = :BRNO  AND  SALEDATE = :SALEDATE;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&lt;--- ÁöÁ¡º° ÇÕ°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BRNO, BRNM, RAMT, AAMT, 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RAMT + RAMT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AAMT = TOT_AAMT + AAMT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IAMT = TOT_IAMT + IAMT;  &lt;---  ÃÑ°è¸¦ À§ÇØ ´©Àû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TOT_RAMT, TOT_AAMT, TOT_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Á¶±Ý °³¼±µÇ¾î JOIN°ú GROUP BY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665280" y="1681200"/>
            <a:ext cx="8040600" cy="5288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B.BR_NO,  B.BR_NM, SUM (R_AMT), SUM(A_AMT), SUM (I_AM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ROM  DAILY_TRANDATA  A,  BRANCH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A.BR_NO  =  B.BR_NO  AND  A.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GROUP BY  B.BR_NO, B.BR_N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  :BRNM,  :RAMT, :AAMT,  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BRNO, BRNM, RAMT, AAMT, 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RAMT + RAMT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AAMT = TOT_AAMT + AAMT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IAMT = TOT_IAMT + 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TOT_RAMT, TOT_AAMT, TOT_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JOINÀ» °³¼±ÇÏ¿© IN-LINE VIEW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565200" y="1639800"/>
            <a:ext cx="7823160" cy="531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BR_NO, B.BR_NM, RAMT, AAMT,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BR_NO, SUM(R_AMT)  AS  RAM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UM(A_AMT)  AS  AAMT, SUM(I_AMT)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BR_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 BRANCH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.BR_NO = B.BR_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  :BRNM,  :RAMT,  :AAMT,  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 BRNO, BRNM, RAMT, AAMT, IAMT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RAMT + R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AAMT = TOT_AAMT + A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IAMT = TOT_IAMT + 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TOT_RAMT, TOT_AAMT, TOT_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538280" y="243000"/>
            <a:ext cx="6788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. Á¶ÀÎÀ» È°¿ëÇÑ GROUP BYÀÇ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90400" y="1287360"/>
            <a:ext cx="8852040" cy="5700600"/>
            <a:chOff x="590400" y="1287360"/>
            <a:chExt cx="8852040" cy="5700600"/>
          </a:xfrm>
        </p:grpSpPr>
        <p:sp>
          <p:nvSpPr>
            <p:cNvPr id="161" name=""/>
            <p:cNvSpPr/>
            <p:nvPr/>
          </p:nvSpPr>
          <p:spPr>
            <a:xfrm>
              <a:off x="1096920" y="1695600"/>
              <a:ext cx="2347920" cy="460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974880" y="1314360"/>
              <a:ext cx="25160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+ SALE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70160" y="1692360"/>
              <a:ext cx="0" cy="4611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1152360" y="1847880"/>
              <a:ext cx="2317680" cy="514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     SALE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401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501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401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5122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20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401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20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512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590400" y="3139920"/>
              <a:ext cx="412920" cy="237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Ã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¸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¹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À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96920" y="2035080"/>
              <a:ext cx="234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98680" y="31798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98680" y="34084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98680" y="36370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98680" y="439884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98680" y="462744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98680" y="485604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98680" y="56944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98680" y="59230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98680" y="61516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1859040" y="6380280"/>
              <a:ext cx="725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26320" y="1720800"/>
              <a:ext cx="2347920" cy="460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6730920" y="1287360"/>
              <a:ext cx="25160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+ SALE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9560" y="1730520"/>
              <a:ext cx="0" cy="4599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6969240" y="1852560"/>
              <a:ext cx="2165400" cy="498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     SALEDA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0           199401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0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 1995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1           1994010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1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1995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2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90           199401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200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1995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1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4888080" y="2771640"/>
              <a:ext cx="361800" cy="14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Ã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¸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¹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À§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26320" y="2035080"/>
              <a:ext cx="234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988480" y="311616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988480" y="334476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988480" y="357336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001080" y="429732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001080" y="452592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001080" y="475452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975880" y="5516640"/>
              <a:ext cx="441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975880" y="5745240"/>
              <a:ext cx="441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975880" y="5973840"/>
              <a:ext cx="441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38720" y="1720800"/>
              <a:ext cx="1069920" cy="3354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5288040" y="1873080"/>
              <a:ext cx="1063800" cy="362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4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4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9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9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38720" y="2097000"/>
              <a:ext cx="10764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5183280" y="1287360"/>
              <a:ext cx="11890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7720" y="3000240"/>
              <a:ext cx="914760" cy="1765800"/>
            </a:xfrm>
            <a:custGeom>
              <a:avLst/>
              <a:gdLst/>
              <a:ahLst/>
              <a:rect l="0" t="0" r="r" b="b"/>
              <a:pathLst>
                <a:path fill="none" w="2541" h="4905">
                  <a:moveTo>
                    <a:pt x="0" y="0"/>
                  </a:moveTo>
                  <a:lnTo>
                    <a:pt x="2541" y="3669"/>
                  </a:lnTo>
                  <a:lnTo>
                    <a:pt x="2541" y="4905"/>
                  </a:lnTo>
                  <a:lnTo>
                    <a:pt x="1376" y="4905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57720" y="4270320"/>
              <a:ext cx="914760" cy="1676880"/>
            </a:xfrm>
            <a:custGeom>
              <a:avLst/>
              <a:gdLst/>
              <a:ahLst/>
              <a:rect l="0" t="0" r="r" b="b"/>
              <a:pathLst>
                <a:path fill="none" w="2541" h="4658">
                  <a:moveTo>
                    <a:pt x="0" y="0"/>
                  </a:moveTo>
                  <a:lnTo>
                    <a:pt x="2541" y="3485"/>
                  </a:lnTo>
                  <a:lnTo>
                    <a:pt x="2541" y="4658"/>
                  </a:lnTo>
                  <a:lnTo>
                    <a:pt x="1376" y="4658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45120" y="2784600"/>
              <a:ext cx="927360" cy="762480"/>
            </a:xfrm>
            <a:custGeom>
              <a:avLst/>
              <a:gdLst/>
              <a:ahLst/>
              <a:rect l="0" t="0" r="r" b="b"/>
              <a:pathLst>
                <a:path fill="none" w="2576" h="2118">
                  <a:moveTo>
                    <a:pt x="0" y="0"/>
                  </a:moveTo>
                  <a:lnTo>
                    <a:pt x="2576" y="953"/>
                  </a:lnTo>
                  <a:lnTo>
                    <a:pt x="2576" y="2118"/>
                  </a:lnTo>
                  <a:lnTo>
                    <a:pt x="1412" y="2118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3886200" y="1743120"/>
              <a:ext cx="787320" cy="44704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Ç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¹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¾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9480" y="2467080"/>
              <a:ext cx="559080" cy="3683520"/>
            </a:xfrm>
            <a:custGeom>
              <a:avLst/>
              <a:gdLst/>
              <a:ahLst/>
              <a:rect l="0" t="0" r="r" b="b"/>
              <a:pathLst>
                <a:path fill="none" w="1553" h="10232">
                  <a:moveTo>
                    <a:pt x="141" y="0"/>
                  </a:moveTo>
                  <a:lnTo>
                    <a:pt x="1553" y="0"/>
                  </a:lnTo>
                  <a:lnTo>
                    <a:pt x="1553" y="10232"/>
                  </a:lnTo>
                  <a:lnTo>
                    <a:pt x="0" y="10232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75040" y="2746440"/>
              <a:ext cx="559080" cy="1537200"/>
            </a:xfrm>
            <a:custGeom>
              <a:avLst/>
              <a:gdLst/>
              <a:ahLst/>
              <a:rect l="0" t="0" r="r" b="b"/>
              <a:pathLst>
                <a:path fill="none" w="1553" h="4270">
                  <a:moveTo>
                    <a:pt x="141" y="0"/>
                  </a:moveTo>
                  <a:lnTo>
                    <a:pt x="1553" y="0"/>
                  </a:lnTo>
                  <a:lnTo>
                    <a:pt x="1553" y="4270"/>
                  </a:lnTo>
                  <a:lnTo>
                    <a:pt x="0" y="4270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5170320" y="5249880"/>
              <a:ext cx="11890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7612200" y="6418440"/>
              <a:ext cx="725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LOOP³»ÀÇ FETCH¸¦ ¾ø¾Ö±â À§ÇØ INLINE VIEW¿Í UNION ALLÀ»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00040" y="1569960"/>
            <a:ext cx="9307440" cy="531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V.BR_NO, B.BR_NM, RAMT, AAMT,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R_NO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SUM(R_AMT)  AS  RAMT,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&lt;--- °¢ ÁöÁ¡º° ÇÕ°è¸¦ ±¸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 SUM( I_AMT) 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 BY  BR_NO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ÃÑ°è' AS BR_NO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SUM(R_AMT) AS RAMT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&lt;---ÀüÃ¼ ÃÑ°è¸¦ ±¸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 SUM( I_AMT) 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)  V,  BRANCH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.BR_NO = B.BR_NO(+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:BRNM,:RAMT,:AAMT,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BRNO, BRNM, RAMT, AAMT, IAMT);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4470480" y="5076720"/>
            <a:ext cx="2554200" cy="533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Ñ°è Ç¥½Ã ÇÏ±â À§Ç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20840" y="1146240"/>
            <a:ext cx="91803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µ¥ÀÌÅ¸ º¹Á¦¸¦ »ç¿ëÇÏ´Â ÇØ°á¹æ¾È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2824200" y="5592600"/>
            <a:ext cx="4776840" cy="1179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CREATE  TABLE REPLICA12  (REPLICA  CHAR(1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 REPLICA12  VALUES ('1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 REPLICA12  VALUES ('2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MMI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785880" y="5402160"/>
            <a:ext cx="2092320" cy="49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Ó½ÃÅ×ÀÌºí »ý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1482840" y="2120760"/>
            <a:ext cx="2673360" cy="10177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 ¿µ¾÷1ºÎ   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2 ¿µ¾÷2ºÎ   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3 ¿µ¾÷3ºÎ   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1482840" y="1795320"/>
            <a:ext cx="267336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-LINE VIEW V1 ÀÇ °á°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1454040" y="4451400"/>
            <a:ext cx="2674800" cy="542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460520" y="4122720"/>
            <a:ext cx="266544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REPLICA12 Å×ÀÌº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2317680" y="3191040"/>
            <a:ext cx="1146240" cy="87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5454720" y="1414440"/>
            <a:ext cx="2944800" cy="2035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B01 ¿µ¾÷1ºÎ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B02 ¿µ¾÷2ºÎ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B03 ¿µ¾÷3ºÎ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   B01 ¿µ¾÷1ºÎ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   B02 ¿µ¾÷2ºÎ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   B03 ¿µ¾÷3ºÎ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5673600" y="4138560"/>
            <a:ext cx="2597040" cy="13568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 ¿µ¾÷1ºÎ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2 ¿µ¾÷2ºÎ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3 ¿µ¾÷3ºÎ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ÃÑ¾×        45  50  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654440" y="3502080"/>
            <a:ext cx="4414680" cy="54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 BY DECODE(C.REPLICA...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735360" y="2886480"/>
            <a:ext cx="1548360" cy="739800"/>
          </a:xfrm>
          <a:custGeom>
            <a:avLst/>
            <a:gdLst/>
            <a:ahLst/>
            <a:rect l="0" t="0" r="r" b="b"/>
            <a:pathLst>
              <a:path fill="none" w="4301" h="2055">
                <a:moveTo>
                  <a:pt x="0" y="2055"/>
                </a:moveTo>
                <a:lnTo>
                  <a:pt x="0" y="2055"/>
                </a:lnTo>
                <a:lnTo>
                  <a:pt x="0" y="2055"/>
                </a:lnTo>
                <a:cubicBezTo>
                  <a:pt x="773" y="2055"/>
                  <a:pt x="1532" y="1934"/>
                  <a:pt x="2201" y="1705"/>
                </a:cubicBezTo>
                <a:cubicBezTo>
                  <a:pt x="2871" y="1476"/>
                  <a:pt x="3426" y="1146"/>
                  <a:pt x="3813" y="749"/>
                </a:cubicBezTo>
                <a:cubicBezTo>
                  <a:pt x="4039" y="516"/>
                  <a:pt x="4204" y="263"/>
                  <a:pt x="4301" y="0"/>
                </a:cubicBez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355680" y="97776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µ¥ÀÌÅ¸ º¹Á¦¸¦ »ç¿ëÇÏ´Â ÇØ°á¹æ¾È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638280" y="1414440"/>
            <a:ext cx="9217080" cy="5594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C.REPLICA, '1', V1.BR_NO, 'ÃÑ°è') AS BR_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C.REPLICA, '1', V1.BR_NM, '    ') AS BR_N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V1.RAMT) AS RAMT, SUM(V1.AAMT) AS AAMT, SUM(V1.I_AMT) AS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BR_NO,  B.BR_NM,  RAMT,   AAMT,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R_NO, SUM(R_AMT)  AS  RAM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SUM(I_AMT)  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BR_NO)  V,   BRANCH 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V.BR_NO = B.BR_NO)  V1,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REPLICA12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DECODE(C.REPLICA, '1', V1.BR_NO, 'ÃÑ°è'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C.REPLICA, '1', V1.BR_NM, '    '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:BRNM,:RAMT,:AAMT,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 BRNO, BRNM, RAMT, AAMT, IAMT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311040" y="100656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µ¥ÀÌÅ¸ º¹Á¦¸¦ »ç¿ëÇÏ´Â ÇØ°á¹æ¾È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954000" y="1420920"/>
            <a:ext cx="8647200" cy="574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DECODE(C.REPLICA, '1', V1.BR_NO, 'ÃÑ¾×') AS BR_N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DECODE(C.REPLICA, '1', V1.BR_NM, '    ') AS BR_N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M(V1.RAMT) AS RAMT, SUM(V1.AAMT) AS AAMT, SUM(V1.I_AMT) AS I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BR_NO,  B.BR_NM,  RAMT,   AAMT,  I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(SELECT  BR_NO, SUM(R_AMT)  AS  RAM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SUM(I_AMT)  AS  I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OUP  BY  BR_NO)  V,  BRANCH  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V.BR_NO = B.BR_NO) V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(SELECT '1' AS REPLICA FROM 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UNON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SELECT '2' AS REPLICA FROM DUAL)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GROUP BY  DECODE(C.REPLICA, '1', V1.BR_NO, 'ÃÑ¾×'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DECODE(C.REPLICA, '1', V1.BR_NM, '    '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:BRNM,:RAMT,:AAMT,:IAM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RINT ( BRNO, BRNM, RAMT, AAMT, IAMT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6181560" y="4051440"/>
            <a:ext cx="2425680" cy="52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AL TABLE ÀÌ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1512720" y="243000"/>
            <a:ext cx="7404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33360" y="1117440"/>
            <a:ext cx="7448400" cy="59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MHA01M00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:  MHA01M00_U1 : STK_CODE  (PRIMARY KE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MHB03T00  A :  MHB03T00_N3 :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D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+ STK_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MHB04T00  C :  MHB04T00_U1 :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D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+ STK_CODE + KEEP_GOOD_TP + S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STK_CODE,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AB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MHB03T00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A.DT  =  :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STK_CODE =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BD_TP = :B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U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C.STK_CODE,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AB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MHB04T00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C.DT  =  :B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C.STK_CODE =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C.KEEP_GOOD_TP = :B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BD_TP = :B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3726000" y="2930400"/>
            <a:ext cx="6119640" cy="4067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a50021"/>
                </a:solidFill>
                <a:latin typeface="XXXXXX"/>
                <a:ea typeface="XXXXXX"/>
              </a:rPr>
              <a:t>ROWS  EXECUTION 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-----  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0  SELECT 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47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PROJECTION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 UNION ¶Ç´Â UNION ALL ¶§ ³ªÅ¸³²(¼öÁ÷Àû ºÎºÐÁýÇ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843  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SORT ( UNIQUE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- UNION Ã³¸®¸¦ À§Ç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843    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UNION-ALL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- PLAN »ó¿¡´Â Ç×»ó UNION-ALL·Î Ç¥½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696         NESTED LO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849           INDEX ( RANGE SCAN ) OF 'MHB03T00_N3' (N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848           TABLE  ACCESS ( BY ROWID ) OF 'MHA01M00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2848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INDEX ( UNIQUE SCAN ) OF 'MHA01M00_U1' (UNIQ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47         NESTED LO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427           INDEX ( RANGE SCAN ) OF 'MHB04T00_U1' (N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426           TABLE  ACCESS ( BY ROWID ) OF 'MHA01M00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426             INDEX ( UNIQUE SCAN ) OF 'MHA01M00_U1' (UNIQ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66760" y="3068640"/>
            <a:ext cx="3459240" cy="344664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7475400" y="2190600"/>
            <a:ext cx="2282760" cy="998640"/>
          </a:xfrm>
          <a:prstGeom prst="rect">
            <a:avLst/>
          </a:prstGeom>
          <a:solidFill>
            <a:srgbClr val="ccecff"/>
          </a:solidFill>
          <a:ln w="12600">
            <a:solidFill>
              <a:srgbClr val="3333cc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Arial"/>
                <a:ea typeface="Arial"/>
              </a:rPr>
              <a:t>Á¶ÀÎÀÇ Ã³¸®ºñ¿ë°ú´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Arial"/>
                <a:ea typeface="Arial"/>
              </a:rPr>
              <a:t>22848°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9244080" y="4727520"/>
            <a:ext cx="628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9244080" y="5773680"/>
            <a:ext cx="628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22200" y="1117440"/>
            <a:ext cx="8888400" cy="43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 Á¶ÀÎ°Ç¼öÀÇ °ú´Ù·Î ÀÎÇÑ Ã³¸®ºñ¿ë Áõ´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 UNIONÀ¸·Î ÀÎÇÑ Áßº¹Á¦°Å ÀÛ¾÷ ÇÊ¿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 ¼³°è»óÀÇ ¹®Á¦ --&gt;&gt;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PER-SUB TYPEÀÇ º¯È¯¿¡ ÁÖÀ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.STK_CODE, B.ABBR --&gt; B.STK_CODE,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ÀýÀÇ ÄÃ·³ÀÌ µ¿ÀÏÇÑ Å×ÀÌºíÀÌ¹Ç·Î »ó´ëÅ×ÀÌºíÀº Á¸ÀçÀ¯¹«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ÆÇ´ÜÀÇ ¿ªÇ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---&gt;  EXISTS »ç¿ëÀ¯µ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31920" y="1136520"/>
            <a:ext cx="40575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8587"/>
              </a:spcBef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2520" y="1552680"/>
            <a:ext cx="8170920" cy="36000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STK_CODE, 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(SELECT  'X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HB03T00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A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DT =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STK_CODE =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TK_BD_TP = :B2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&lt;--  Ã³¸® ¹üÀ§¸¦ °áÁ¤ÇÏ±â À§ÇØ ¸ÕÀú Ç®¸²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STK_CODE, 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EXISTS  (SELECT  'X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HB04T00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.DT = :B3  AND  C.KEEP_GOOD_TP = :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STK_CODE  = 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TK_BD_TP = :B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52440" y="1285920"/>
            <a:ext cx="208764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617400" y="1730520"/>
            <a:ext cx="7967520" cy="3110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STK_CODE, 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(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( SELECT  'X'  FROM  MHB03T00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DT =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STK_CODE =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( SELECT  'X'  FROM  MHB04T00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C.DT = :B3  AND   C.KEEP_GOOD_TP = :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STK_CODE =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TK_BD_TP = :B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¤±ÔÈ­·Î ºó¹øÇÑ Á¶ÀÎ -&gt; ½ÇÇà½Ã°£ÀÌ ¿À·¡ °É¸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15112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0.  ¹ÝÁ¤±ÔÈ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318280" y="2328840"/>
            <a:ext cx="17316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1992240" y="1712880"/>
            <a:ext cx="1409760" cy="2706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S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MPORT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3392640" y="2276640"/>
            <a:ext cx="1143000" cy="203400"/>
            <a:chOff x="3392640" y="2276640"/>
            <a:chExt cx="1143000" cy="203400"/>
          </a:xfrm>
        </p:grpSpPr>
        <p:sp>
          <p:nvSpPr>
            <p:cNvPr id="811" name=""/>
            <p:cNvSpPr/>
            <p:nvPr/>
          </p:nvSpPr>
          <p:spPr>
            <a:xfrm>
              <a:off x="3395520" y="2276640"/>
              <a:ext cx="157680" cy="203400"/>
            </a:xfrm>
            <a:custGeom>
              <a:avLst/>
              <a:gdLst/>
              <a:ahLst/>
              <a:rect l="0" t="0" r="r" b="b"/>
              <a:pathLst>
                <a:path fill="none" w="438" h="565">
                  <a:moveTo>
                    <a:pt x="0" y="565"/>
                  </a:moveTo>
                  <a:lnTo>
                    <a:pt x="438" y="28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3392640" y="2381400"/>
              <a:ext cx="1143000" cy="0"/>
              <a:chOff x="3392640" y="2381400"/>
              <a:chExt cx="1143000" cy="0"/>
            </a:xfrm>
          </p:grpSpPr>
          <p:sp>
            <p:nvSpPr>
              <p:cNvPr id="813" name=""/>
              <p:cNvSpPr/>
              <p:nvPr/>
            </p:nvSpPr>
            <p:spPr>
              <a:xfrm>
                <a:off x="3392640" y="2381400"/>
                <a:ext cx="57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959280" y="2381400"/>
                <a:ext cx="57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5" name=""/>
          <p:cNvSpPr txBox="1"/>
          <p:nvPr/>
        </p:nvSpPr>
        <p:spPr>
          <a:xfrm>
            <a:off x="4443480" y="1630440"/>
            <a:ext cx="1419120" cy="1065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S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S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S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992240" y="2057400"/>
            <a:ext cx="139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440240" y="1909800"/>
            <a:ext cx="140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3392640" y="3695760"/>
            <a:ext cx="1143000" cy="203400"/>
            <a:chOff x="3392640" y="3695760"/>
            <a:chExt cx="1143000" cy="203400"/>
          </a:xfrm>
        </p:grpSpPr>
        <p:sp>
          <p:nvSpPr>
            <p:cNvPr id="819" name=""/>
            <p:cNvSpPr/>
            <p:nvPr/>
          </p:nvSpPr>
          <p:spPr>
            <a:xfrm>
              <a:off x="3395520" y="3695760"/>
              <a:ext cx="157680" cy="203400"/>
            </a:xfrm>
            <a:custGeom>
              <a:avLst/>
              <a:gdLst/>
              <a:ahLst/>
              <a:rect l="0" t="0" r="r" b="b"/>
              <a:pathLst>
                <a:path fill="none" w="438" h="565">
                  <a:moveTo>
                    <a:pt x="0" y="565"/>
                  </a:moveTo>
                  <a:lnTo>
                    <a:pt x="438" y="28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3392640" y="3800520"/>
              <a:ext cx="1143000" cy="0"/>
              <a:chOff x="3392640" y="3800520"/>
              <a:chExt cx="1143000" cy="0"/>
            </a:xfrm>
          </p:grpSpPr>
          <p:sp>
            <p:nvSpPr>
              <p:cNvPr id="821" name=""/>
              <p:cNvSpPr/>
              <p:nvPr/>
            </p:nvSpPr>
            <p:spPr>
              <a:xfrm>
                <a:off x="3392640" y="3800520"/>
                <a:ext cx="57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959280" y="3800520"/>
                <a:ext cx="57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3" name=""/>
          <p:cNvGrpSpPr/>
          <p:nvPr/>
        </p:nvGrpSpPr>
        <p:grpSpPr>
          <a:xfrm>
            <a:off x="5867280" y="3867120"/>
            <a:ext cx="917640" cy="147960"/>
            <a:chOff x="5867280" y="3867120"/>
            <a:chExt cx="917640" cy="147960"/>
          </a:xfrm>
        </p:grpSpPr>
        <p:sp>
          <p:nvSpPr>
            <p:cNvPr id="824" name=""/>
            <p:cNvSpPr/>
            <p:nvPr/>
          </p:nvSpPr>
          <p:spPr>
            <a:xfrm>
              <a:off x="5877000" y="3867120"/>
              <a:ext cx="114840" cy="147960"/>
            </a:xfrm>
            <a:custGeom>
              <a:avLst/>
              <a:gdLst/>
              <a:ahLst/>
              <a:rect l="0" t="0" r="r" b="b"/>
              <a:pathLst>
                <a:path fill="none" w="319" h="411">
                  <a:moveTo>
                    <a:pt x="0" y="411"/>
                  </a:moveTo>
                  <a:lnTo>
                    <a:pt x="319" y="20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67280" y="3943440"/>
              <a:ext cx="9176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 txBox="1"/>
          <p:nvPr/>
        </p:nvSpPr>
        <p:spPr>
          <a:xfrm>
            <a:off x="4429080" y="2857680"/>
            <a:ext cx="1450800" cy="2259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L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AT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MPORT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AX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6811920" y="3381480"/>
            <a:ext cx="1473120" cy="129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835680" y="3700440"/>
            <a:ext cx="1432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435560" y="3129120"/>
            <a:ext cx="1425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6512040" y="2440080"/>
            <a:ext cx="3021120" cy="7858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A_CODE, AREA_NAMEÀ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ÀÌ ÂüÁ¶ÇÏ°í ½Í´Ù¸é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279360" y="4708440"/>
            <a:ext cx="613872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L     B : COL_PK    : YEAR + HOUSE + SERIAL_NO + HS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M     C : COM_PK    : YEAR + HOUSE + SERIAL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M     C : COM_IDX1  : YEAR + D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ATION  A : NATION_PK : 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HSNO      : HSNO_PK   : HS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0.  ¹ÝÁ¤±ÔÈ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279360" y="1117440"/>
            <a:ext cx="8786880" cy="30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075040" y="99864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2066760" y="992160"/>
            <a:ext cx="6508800" cy="1976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AREA_COD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AREA_NAM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SUBSTR(C.DAT, 1, 4), SUM(B.AM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NATION A, COL B, COM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B.IMPORT_NO = C.IMPORT_NO AND B.YEAR = C.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B.HOUSE = C.HOUSE AND B.SERIAL_NO = C.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NATION(+) = C.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DAT BETWEEN '950101' AND '950431' AND C.YEAR = '1995'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GROUP BY  A.AREA_CODE, A.AREA_NAM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SUBSTR(C.DAT, 1, 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ORDER BY  A.AREA_COD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98400" y="3908520"/>
            <a:ext cx="1843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2077920" y="3171960"/>
            <a:ext cx="6843600" cy="3559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CALL     COUNT       CPU    ELAPSED      DISK      QUERY    CURRENT     ROW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-------  --------   ------   --------    ------    -------    -------   -----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PARSE        1        0.05       0.05         0          0          0       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EXECUTE      1        0.00       0.00         0          0          0       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FETCH       29       58.58      </a:t>
            </a: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58.60</a:t>
            </a: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      1559     132102          0       24</a:t>
            </a: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a50021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a50021"/>
                </a:solidFill>
                <a:latin typeface="XXXXXX"/>
                <a:ea typeface="XXXXXX"/>
              </a:rPr>
              <a:t>ROWS  EXECUTION PL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------  -------------------------------------------------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0  SELECT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5205    SORT (GROUP B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5205      NESTED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2641        NESTED LOOPS (OUT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ff0033"/>
                </a:solidFill>
                <a:latin typeface="XXXXXX"/>
                <a:ea typeface="XXXXXX"/>
              </a:rPr>
              <a:t>12688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    TABLE ACCESS (BY ROWID) OF 'COM'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2689             INDEX (RANGE SCAN) OF 'COM_IDX1' (NON-UNIQU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2641           TABLE ACCESS (BY ROWID) OF 'NATION'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ff0033"/>
                </a:solidFill>
                <a:latin typeface="XXXXXX"/>
                <a:ea typeface="XXXXXX"/>
              </a:rPr>
              <a:t>12688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    INDEX (UNIQUE SCAN) OF 'NATION_PK' (UNIQU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5205        TABLE ACCESS (BY ROWID) OF 'COL'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ff0033"/>
                </a:solidFill>
                <a:latin typeface="XXXXXX"/>
                <a:ea typeface="XXXXXX"/>
              </a:rPr>
              <a:t>27893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    INDEX (RANGE SCAN) OF 'COL_PK' (UNIQUE)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500120" y="243000"/>
            <a:ext cx="6788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. Á¶ÀÎÀ» È°¿ëÇÑ GROUP BYÀÇ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2160" y="12240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33240" y="1309680"/>
            <a:ext cx="6076800" cy="24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A.PROD_NO,  SUM (A.SALE_AMT * A.UNIT_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ALE  A,   PRODUCT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.PROD_NO  BETWEEN  'P20150'  AND  'P20200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PROD_NO = B.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A.SALEDATE  LIKE 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 BY  A.PROD_N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41520" y="3389400"/>
            <a:ext cx="6558120" cy="21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A.PROD_NO,  SUM (A.SALE_AMT * A.UNIT_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ALE  A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PROD_NO FROM PRO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PROD_NO BETWEEN 'P20150' AND 'P20200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PROD_NO = B.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SALEDATE  LIKE 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 BY  A.PROD_N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0.  ¹ÝÁ¤±ÔÈ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279360" y="1117440"/>
            <a:ext cx="96235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2,000 ¹ø ÀÌ»ó µÇ´Â °úµµÇÑ Á¶ÀÎÀ¸·Î ¼öÇà ¼Óµµ°¡ 58 ÃÊ ÀÌ»ó ¼Ò¿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REA_CODE, AREA_NAMEÀ»  COM Å×ÀÌºí¿¡ Ãß°¡ÇÏ¿© ¹ÝÁ¤±ÔÈ­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4202280" y="2128680"/>
            <a:ext cx="5398920" cy="372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AREA_CODE, C.AREA_NAM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BSTR(C.DAT, 1, 4), SUM(B.AM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COL B, COM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.IMPORT_NO = C.IMPORT_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YEAR = C.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HOUSE = C.HO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ERIAL_NO = C.SERIAL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DAT BETWEEN '950101' AND '950431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YEAR = '1995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AREA_CODE, C.AREA_NAM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BSTR(C.DAT, 1, 4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6080040" y="5572080"/>
            <a:ext cx="2666880" cy="785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PARALLEL QUERY ±â´ÉÀ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»ç¿ëÇÑ´Ù¸é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1913040" y="3678120"/>
            <a:ext cx="917640" cy="147960"/>
            <a:chOff x="1913040" y="3678120"/>
            <a:chExt cx="917640" cy="147960"/>
          </a:xfrm>
        </p:grpSpPr>
        <p:sp>
          <p:nvSpPr>
            <p:cNvPr id="843" name=""/>
            <p:cNvSpPr/>
            <p:nvPr/>
          </p:nvSpPr>
          <p:spPr>
            <a:xfrm>
              <a:off x="1922400" y="3678120"/>
              <a:ext cx="114840" cy="147960"/>
            </a:xfrm>
            <a:custGeom>
              <a:avLst/>
              <a:gdLst/>
              <a:ahLst/>
              <a:rect l="0" t="0" r="r" b="b"/>
              <a:pathLst>
                <a:path fill="none" w="319" h="411">
                  <a:moveTo>
                    <a:pt x="0" y="411"/>
                  </a:moveTo>
                  <a:lnTo>
                    <a:pt x="319" y="20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913040" y="3754440"/>
              <a:ext cx="9176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"/>
          <p:cNvSpPr txBox="1"/>
          <p:nvPr/>
        </p:nvSpPr>
        <p:spPr>
          <a:xfrm>
            <a:off x="474840" y="2668680"/>
            <a:ext cx="1450800" cy="2743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ff0033"/>
                </a:solidFill>
                <a:latin typeface="Arial"/>
                <a:ea typeface="Arial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REA_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REA_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L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AT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MPORT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AX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2514600" y="3192480"/>
            <a:ext cx="1355760" cy="129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8360" y="3511440"/>
            <a:ext cx="131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80960" y="2940120"/>
            <a:ext cx="1425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363600" y="1074600"/>
            <a:ext cx="9121680" cy="59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QUENCE¸¦ ÀÌ¿ëÇÏ¿© ´ÙÁß »ç¿ëÀÚ°¡ µ¿½Ã¿¡ »ç¿ëÇÒ ¶§ ¹ß»ýÇÏ´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CK WAITINGÀ» ÇØ¼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70000"/>
              </a:lnSpc>
              <a:buClr>
                <a:srgbClr val="ff0033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UPDATE  TA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T  (COL1, COL2) = ('T',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AT &lt;= :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TIME BETWEEN :T1 AND :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STATUS = 'I' OR (STATUS = 'J' AND DAT &lt; SYSDATE -1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ROWNUM = 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7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°Àº ROW¿¡ ROW LOCKÀÌ ÁýÁßµÈ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QUENCE È°¿ëÇÏ¿© »ç¿ëÀÚµéÀÌ ¼­·Î ´Ù¸¥ ROW¸¦ UPDATEÇÏµµ·Ï ºÐ»ê½ÃÅ²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1500120" y="243000"/>
            <a:ext cx="4635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1. ½ÃÄö½º ¹øÈ£ÀÇ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55560" y="2557440"/>
            <a:ext cx="7507440" cy="195264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 txBox="1"/>
          <p:nvPr/>
        </p:nvSpPr>
        <p:spPr>
          <a:xfrm>
            <a:off x="406440" y="1031760"/>
            <a:ext cx="5454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1512720" y="243000"/>
            <a:ext cx="4635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1. ½ÃÄö½º ¹øÈ£ÀÇ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789120" y="1389240"/>
            <a:ext cx="8807400" cy="5996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REATE SEQUENCE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SE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ART WIT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CREMENT B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AXVALU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ACHE 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SEQ1.NEXTVA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TO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 SEQ_NO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DUAL;  </a:t>
            </a:r>
            <a:r>
              <a:rPr b="1" lang="en-US" sz="1400" spc="-1" strike="noStrike">
                <a:solidFill>
                  <a:srgbClr val="800000"/>
                </a:solidFill>
                <a:latin typeface="XXXXXX"/>
                <a:ea typeface="XXXXXX"/>
              </a:rPr>
              <a:t>&lt;-- RNUM = SEQ1.NEXTVAL »ç¿ëºÒ°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UPDATE  TAB1  SET (COL1, COL2) = ('T',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ROWID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</a:t>
            </a:r>
            <a:r>
              <a:rPr b="1" lang="en-US" sz="1800" spc="-1" strike="noStrike">
                <a:solidFill>
                  <a:srgbClr val="00cc99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ROWNUM AS R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ROWID AS 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AB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AT &lt;= :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TIME BETWEEN :T1 AND :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(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ATUS = 'I'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TATUS = 'J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AND DAT &lt; SYSDATE -1)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</a:t>
            </a:r>
            <a:r>
              <a:rPr b="1" lang="en-US" sz="1800" spc="-1" strike="noStrike">
                <a:solidFill>
                  <a:srgbClr val="0033cc"/>
                </a:solidFill>
                <a:latin typeface="XXXXXX"/>
                <a:ea typeface="XXXXXX"/>
              </a:rPr>
              <a:t>R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EQ_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= 1</a:t>
            </a:r>
            <a:r>
              <a:rPr b="1" lang="en-US" sz="1800" spc="-1" strike="noStrike">
                <a:solidFill>
                  <a:srgbClr val="00cc99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279360" y="1117440"/>
            <a:ext cx="88297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©·¯ ¸íÀÌ µ¿½Ã¿¡ °°Àº ·Î¿ì¿¡ ´ëÇØ LOCKÀ» ¾ò°íÀÚ ÇÒ °æ¿ì ¹ú¾îÁö´Â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¹®Á¦¸¦ SEQUENCE¸¦ ÀÌ¿ëÇÏ¿©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1523880" y="241200"/>
            <a:ext cx="8337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773280" y="1738440"/>
            <a:ext cx="8621640" cy="4876920"/>
            <a:chOff x="773280" y="1738440"/>
            <a:chExt cx="8621640" cy="4876920"/>
          </a:xfrm>
        </p:grpSpPr>
        <p:sp>
          <p:nvSpPr>
            <p:cNvPr id="859" name=""/>
            <p:cNvSpPr/>
            <p:nvPr/>
          </p:nvSpPr>
          <p:spPr>
            <a:xfrm flipV="1">
              <a:off x="2036880" y="1971720"/>
              <a:ext cx="1025280" cy="604800"/>
            </a:xfrm>
            <a:prstGeom prst="line">
              <a:avLst/>
            </a:prstGeom>
            <a:ln w="255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1911240" y="2028960"/>
              <a:ext cx="1150920" cy="2757240"/>
            </a:xfrm>
            <a:prstGeom prst="line">
              <a:avLst/>
            </a:prstGeom>
            <a:ln w="255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3084480" y="1738440"/>
              <a:ext cx="1247760" cy="3429000"/>
              <a:chOff x="3084480" y="1738440"/>
              <a:chExt cx="1247760" cy="3429000"/>
            </a:xfrm>
          </p:grpSpPr>
          <p:sp>
            <p:nvSpPr>
              <p:cNvPr id="862" name=""/>
              <p:cNvSpPr/>
              <p:nvPr/>
            </p:nvSpPr>
            <p:spPr>
              <a:xfrm>
                <a:off x="3084480" y="1738440"/>
                <a:ext cx="1247760" cy="342900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084480" y="21193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084480" y="25002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084480" y="28814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084480" y="32623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84480" y="36432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084480" y="40244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084480" y="44053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084480" y="47862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"/>
            <p:cNvSpPr/>
            <p:nvPr/>
          </p:nvSpPr>
          <p:spPr>
            <a:xfrm>
              <a:off x="1030320" y="1824120"/>
              <a:ext cx="106524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 txBox="1"/>
            <p:nvPr/>
          </p:nvSpPr>
          <p:spPr>
            <a:xfrm>
              <a:off x="3143160" y="177624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 txBox="1"/>
            <p:nvPr/>
          </p:nvSpPr>
          <p:spPr>
            <a:xfrm>
              <a:off x="3143160" y="215748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 txBox="1"/>
            <p:nvPr/>
          </p:nvSpPr>
          <p:spPr>
            <a:xfrm>
              <a:off x="3143160" y="4824360"/>
              <a:ext cx="11318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 txBox="1"/>
            <p:nvPr/>
          </p:nvSpPr>
          <p:spPr>
            <a:xfrm>
              <a:off x="1014480" y="1863720"/>
              <a:ext cx="108756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 txBox="1"/>
            <p:nvPr/>
          </p:nvSpPr>
          <p:spPr>
            <a:xfrm>
              <a:off x="3565440" y="2567160"/>
              <a:ext cx="361800" cy="220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015920" y="2433600"/>
              <a:ext cx="109368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 txBox="1"/>
            <p:nvPr/>
          </p:nvSpPr>
          <p:spPr>
            <a:xfrm>
              <a:off x="773280" y="2403360"/>
              <a:ext cx="1676520" cy="54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030320" y="4525920"/>
              <a:ext cx="1128600" cy="531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 txBox="1"/>
            <p:nvPr/>
          </p:nvSpPr>
          <p:spPr>
            <a:xfrm>
              <a:off x="1014480" y="4606920"/>
              <a:ext cx="11206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2066760" y="1884240"/>
              <a:ext cx="1009800" cy="158760"/>
            </a:xfrm>
            <a:prstGeom prst="line">
              <a:avLst/>
            </a:prstGeom>
            <a:ln w="255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 txBox="1"/>
            <p:nvPr/>
          </p:nvSpPr>
          <p:spPr>
            <a:xfrm>
              <a:off x="1380960" y="3033720"/>
              <a:ext cx="361800" cy="14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8147160" y="1814400"/>
              <a:ext cx="1247760" cy="3429000"/>
              <a:chOff x="8147160" y="1814400"/>
              <a:chExt cx="1247760" cy="3429000"/>
            </a:xfrm>
          </p:grpSpPr>
          <p:sp>
            <p:nvSpPr>
              <p:cNvPr id="884" name=""/>
              <p:cNvSpPr/>
              <p:nvPr/>
            </p:nvSpPr>
            <p:spPr>
              <a:xfrm>
                <a:off x="8147160" y="1814400"/>
                <a:ext cx="1247760" cy="3429000"/>
              </a:xfrm>
              <a:prstGeom prst="rect">
                <a:avLst/>
              </a:prstGeom>
              <a:solidFill>
                <a:srgbClr val="99ff99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147160" y="21956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147160" y="25765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147160" y="29574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147160" y="33386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147160" y="37195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147160" y="41004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147160" y="44816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147160" y="48625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>
              <a:off x="6093000" y="2043000"/>
              <a:ext cx="102708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 txBox="1"/>
            <p:nvPr/>
          </p:nvSpPr>
          <p:spPr>
            <a:xfrm>
              <a:off x="8205840" y="185256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 txBox="1"/>
            <p:nvPr/>
          </p:nvSpPr>
          <p:spPr>
            <a:xfrm>
              <a:off x="8205840" y="223344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 txBox="1"/>
            <p:nvPr/>
          </p:nvSpPr>
          <p:spPr>
            <a:xfrm>
              <a:off x="8205840" y="4900680"/>
              <a:ext cx="11318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 txBox="1"/>
            <p:nvPr/>
          </p:nvSpPr>
          <p:spPr>
            <a:xfrm>
              <a:off x="6078600" y="2081160"/>
              <a:ext cx="108756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 txBox="1"/>
            <p:nvPr/>
          </p:nvSpPr>
          <p:spPr>
            <a:xfrm>
              <a:off x="8604360" y="2641680"/>
              <a:ext cx="361800" cy="220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93000" y="2652840"/>
              <a:ext cx="102708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 txBox="1"/>
            <p:nvPr/>
          </p:nvSpPr>
          <p:spPr>
            <a:xfrm>
              <a:off x="6078600" y="2690640"/>
              <a:ext cx="108756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093000" y="4786200"/>
              <a:ext cx="1114560" cy="503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 txBox="1"/>
            <p:nvPr/>
          </p:nvSpPr>
          <p:spPr>
            <a:xfrm>
              <a:off x="6078600" y="4824360"/>
              <a:ext cx="11206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7120080" y="2043000"/>
              <a:ext cx="1027080" cy="228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7120080" y="2347920"/>
              <a:ext cx="1027080" cy="45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6973920" y="4329000"/>
              <a:ext cx="1173240" cy="533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 txBox="1"/>
            <p:nvPr/>
          </p:nvSpPr>
          <p:spPr>
            <a:xfrm>
              <a:off x="6445080" y="3252960"/>
              <a:ext cx="361800" cy="14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626000" y="1817640"/>
              <a:ext cx="1248120" cy="1370520"/>
            </a:xfrm>
            <a:custGeom>
              <a:avLst/>
              <a:gdLst/>
              <a:ahLst/>
              <a:rect l="0" t="0" r="r" b="b"/>
              <a:pathLst>
                <a:path w="3467" h="3807">
                  <a:moveTo>
                    <a:pt x="0" y="1268"/>
                  </a:moveTo>
                  <a:lnTo>
                    <a:pt x="0" y="2535"/>
                  </a:lnTo>
                  <a:lnTo>
                    <a:pt x="2427" y="2535"/>
                  </a:lnTo>
                  <a:lnTo>
                    <a:pt x="2427" y="3807"/>
                  </a:lnTo>
                  <a:lnTo>
                    <a:pt x="3467" y="1903"/>
                  </a:lnTo>
                  <a:lnTo>
                    <a:pt x="2427" y="0"/>
                  </a:lnTo>
                  <a:lnTo>
                    <a:pt x="2427" y="1268"/>
                  </a:lnTo>
                  <a:lnTo>
                    <a:pt x="0" y="1268"/>
                  </a:lnTo>
                  <a:close/>
                </a:path>
              </a:pathLst>
            </a:custGeom>
            <a:solidFill>
              <a:srgbClr val="cccc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 txBox="1"/>
            <p:nvPr/>
          </p:nvSpPr>
          <p:spPr>
            <a:xfrm>
              <a:off x="957240" y="5624640"/>
              <a:ext cx="3741840" cy="990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20000"/>
                </a:lnSpc>
                <a:spcBef>
                  <a:spcPts val="1199"/>
                </a:spcBef>
                <a:buClr>
                  <a:srgbClr val="000000"/>
                </a:buClr>
                <a:buSzPct val="95000"/>
                <a:buFont typeface="Wingdings"/>
                <a:buChar char=""/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µ¿½Ã¿¡ ¿©·¯ »ç¿ëÀÚ°¡  µ¿ÀÏ ROW¿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´ëÇØ¼­  LOCKÀ»  ¿ä±¸Ç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>
              <a:off x="6093000" y="5624640"/>
              <a:ext cx="3228840" cy="990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20000"/>
                </a:lnSpc>
                <a:spcBef>
                  <a:spcPts val="1199"/>
                </a:spcBef>
                <a:buClr>
                  <a:srgbClr val="000000"/>
                </a:buClr>
                <a:buSzPct val="95000"/>
                <a:buFont typeface="Wingdings"/>
                <a:buChar char=""/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µ¿½Ã»ç¿ëÀÚ°¡  ¾Æ¹«¸®  ¸¹¾Æµ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K ÁýÁßÀÌ ¾øÀ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 txBox="1"/>
            <p:nvPr/>
          </p:nvSpPr>
          <p:spPr>
            <a:xfrm>
              <a:off x="4478400" y="3186000"/>
              <a:ext cx="1762200" cy="9907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QUENCE ¿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NUMÀ» ÀÌ¿ë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64000" y="3405240"/>
              <a:ext cx="469800" cy="34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260280" y="1955880"/>
            <a:ext cx="88297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1854360" y="2089080"/>
            <a:ext cx="7361280" cy="21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CALL_DATE, A.SERIAL_NO, A.CUST_ID,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.CUSTNAME, B.PHONE_NO, A.ROW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 SERVICE_CALL A, CUSTOME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A.CALL_DATE = TO_CHAR(SYSDATE, 'YY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A.CUST_ID = B.CUST_ID  AND  A.STATUS IS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ND   ROWNUM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OR   UPD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514440" y="4438800"/>
            <a:ext cx="8969400" cy="177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ALL        COUNT     CPU      ELAPSED     DISK     QUERY   CURRENT   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 --------  ---------- --------- -------- --------- 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1     0.01       0.02         0         0         0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 5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323.04     650.34     23456    345782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0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       5     8.82      15.74         0      7242         0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3238560" y="4395960"/>
            <a:ext cx="2019240" cy="19051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393840" y="132732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SEQUENCE »ý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1104840" y="1979640"/>
            <a:ext cx="6229440" cy="206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REATE  SEQUENCE  SEQ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ART WIT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CREMENT B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AXVALUE  20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990000"/>
                </a:solidFill>
                <a:latin typeface="XXXXXX"/>
                <a:ea typeface="XXXXXX"/>
              </a:rPr>
              <a:t>&lt;--  µ¿½Ã »ç¿ëÀÚ ¼ö¿¡ µû¶ó Á¶Á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ACHE  19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990000"/>
                </a:solidFill>
                <a:latin typeface="XXXXXX"/>
                <a:ea typeface="XXXXXX"/>
              </a:rPr>
              <a:t>&lt;--  "MAXVALUE - 1" ·Î ÁöÁ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98400" y="1830240"/>
            <a:ext cx="184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87360" y="55134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753000" y="4853160"/>
            <a:ext cx="1028880" cy="95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267080" y="44146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533840" y="4510080"/>
            <a:ext cx="13356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4686480" y="4719600"/>
            <a:ext cx="323640" cy="324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4781520" y="5081760"/>
            <a:ext cx="438120" cy="171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781520" y="5462640"/>
            <a:ext cx="476280" cy="57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886200" y="4471920"/>
            <a:ext cx="171360" cy="438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4232160" y="44672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4594320" y="46195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4765680" y="48481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4861080" y="51339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889440" y="448632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67120" y="5595840"/>
            <a:ext cx="476640" cy="914760"/>
          </a:xfrm>
          <a:custGeom>
            <a:avLst/>
            <a:gdLst/>
            <a:ahLst/>
            <a:rect l="0" t="0" r="r" b="b"/>
            <a:pathLst>
              <a:path w="1324" h="2541">
                <a:moveTo>
                  <a:pt x="0" y="845"/>
                </a:moveTo>
                <a:lnTo>
                  <a:pt x="0" y="1692"/>
                </a:lnTo>
                <a:lnTo>
                  <a:pt x="927" y="1692"/>
                </a:lnTo>
                <a:lnTo>
                  <a:pt x="927" y="2541"/>
                </a:lnTo>
                <a:lnTo>
                  <a:pt x="1324" y="1271"/>
                </a:lnTo>
                <a:lnTo>
                  <a:pt x="927" y="0"/>
                </a:lnTo>
                <a:lnTo>
                  <a:pt x="927" y="845"/>
                </a:lnTo>
                <a:lnTo>
                  <a:pt x="0" y="845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ff33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3867120" y="6033960"/>
            <a:ext cx="228600" cy="495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3867120" y="559584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279360" y="1117440"/>
            <a:ext cx="9623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514440" y="1666800"/>
            <a:ext cx="9175680" cy="4705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EQ_NAME.NEXTVA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INTO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:ROW_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FROM DU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A.CALL_DATE, A.SERIAL_NO, A.CUST_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.CUSTNAME, B.PHONE_NO, A.ROW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TO  :CALLREC INDICATOR :CALLREC_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ERVICE_CALL A, CUSTOMER B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 AS  R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ID  AS  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SERVICE_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ALL_DATE = TO_CHAR (SYSDATE,'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TATUS IS NULL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.RNUM   =  :ROW_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CUST_ID = B.CUST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ROWID  =  V.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 = 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XXXXXX"/>
                <a:ea typeface="XXXXXX"/>
              </a:rPr>
              <a:t>&lt;-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¹Ýµå½Ã ÀÌ Á¶°ÇÀÌ µé¾î°¡¾ß 1 °Ç ÀÌ»ó Ã£´Â °ÍÀ» ÁßÁöÇÑ´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OR  UPDAT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5487840" y="4024440"/>
            <a:ext cx="592200" cy="5763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745240" y="3941640"/>
            <a:ext cx="167040" cy="146520"/>
          </a:xfrm>
          <a:custGeom>
            <a:avLst/>
            <a:gdLst/>
            <a:ahLst/>
            <a:rect l="0" t="0" r="r" b="b"/>
            <a:pathLst>
              <a:path fill="none" w="464" h="407">
                <a:moveTo>
                  <a:pt x="127" y="0"/>
                </a:moveTo>
                <a:lnTo>
                  <a:pt x="464" y="319"/>
                </a:lnTo>
                <a:lnTo>
                  <a:pt x="0" y="40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481720" y="4325040"/>
            <a:ext cx="276480" cy="243360"/>
          </a:xfrm>
          <a:custGeom>
            <a:avLst/>
            <a:gdLst/>
            <a:ahLst/>
            <a:rect l="0" t="0" r="r" b="b"/>
            <a:pathLst>
              <a:path w="768" h="676">
                <a:moveTo>
                  <a:pt x="768" y="0"/>
                </a:move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cubicBezTo>
                  <a:pt x="0" y="129"/>
                  <a:pt x="35" y="255"/>
                  <a:pt x="103" y="366"/>
                </a:cubicBezTo>
                <a:cubicBezTo>
                  <a:pt x="170" y="477"/>
                  <a:pt x="267" y="569"/>
                  <a:pt x="384" y="633"/>
                </a:cubicBezTo>
                <a:cubicBezTo>
                  <a:pt x="414" y="649"/>
                  <a:pt x="444" y="664"/>
                  <a:pt x="476" y="676"/>
                </a:cubicBezTo>
                <a:lnTo>
                  <a:pt x="768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279360" y="1117440"/>
            <a:ext cx="878688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  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OM ÇüÅÂÀÇ °èÃþ±¸Á¶¸¦ °¡Áø °èÁ¤ Á¤º¸·ÎºÎÅÍ µ¥ÀÌÅ¸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ý°è(SUMMARY) Å×ÀÌºíÀ» º°µµ·Î À¯ÁöÇÏ¸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±âÀûÀ¸·Î ÀÏº°, ¿ùº°, ºÐ±âº° BATCH ÀÛ¾÷ÀÌ ¹ß»ýÇÏ¿© °ü¸® ¾î·Á¿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OLTP »ó¿¡¼­ ¿Â¶óÀÎ Æ®·£Àè¼Ç¿¡ ¸¹Àº ºÎÇÏ°¡ ÃÊ·¡µÊ.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15238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3692520" y="2960640"/>
            <a:ext cx="2097000" cy="1447920"/>
            <a:chOff x="3692520" y="2960640"/>
            <a:chExt cx="2097000" cy="1447920"/>
          </a:xfrm>
        </p:grpSpPr>
        <p:grpSp>
          <p:nvGrpSpPr>
            <p:cNvPr id="947" name=""/>
            <p:cNvGrpSpPr/>
            <p:nvPr/>
          </p:nvGrpSpPr>
          <p:grpSpPr>
            <a:xfrm>
              <a:off x="3692520" y="2960640"/>
              <a:ext cx="2090880" cy="1447920"/>
              <a:chOff x="3692520" y="2960640"/>
              <a:chExt cx="2090880" cy="1447920"/>
            </a:xfrm>
          </p:grpSpPr>
          <p:sp>
            <p:nvSpPr>
              <p:cNvPr id="948" name=""/>
              <p:cNvSpPr/>
              <p:nvPr/>
            </p:nvSpPr>
            <p:spPr>
              <a:xfrm>
                <a:off x="3692520" y="2960640"/>
                <a:ext cx="2090880" cy="14479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 txBox="1"/>
              <p:nvPr/>
            </p:nvSpPr>
            <p:spPr>
              <a:xfrm>
                <a:off x="4057560" y="3016080"/>
                <a:ext cx="896760" cy="34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marL="285840" indent="-285840">
                  <a:lnSpc>
                    <a:spcPct val="120000"/>
                  </a:lnSpc>
                  <a:spcBef>
                    <a:spcPts val="1199"/>
                  </a:spcBef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°èÁ¤Á¤º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692520" y="3341520"/>
                <a:ext cx="207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 txBox="1"/>
            <p:nvPr/>
          </p:nvSpPr>
          <p:spPr>
            <a:xfrm>
              <a:off x="3749760" y="3403440"/>
              <a:ext cx="203976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# *  °èÁ¤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èÁ¤¸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»óÀ§°èÁ¤¹øÈ£ (FK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682560" y="2960640"/>
            <a:ext cx="1917720" cy="2585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988920" y="3046320"/>
            <a:ext cx="896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731880" y="3419640"/>
            <a:ext cx="185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* °èÁ¤¹øÈ£ (F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* ÁöÁ¡¹øÈ£ (F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* È¸°è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682560" y="3357720"/>
            <a:ext cx="1903320" cy="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8240" bIns="-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692520" y="4700520"/>
            <a:ext cx="2103480" cy="1133640"/>
            <a:chOff x="3692520" y="4700520"/>
            <a:chExt cx="2103480" cy="1133640"/>
          </a:xfrm>
        </p:grpSpPr>
        <p:sp>
          <p:nvSpPr>
            <p:cNvPr id="957" name=""/>
            <p:cNvSpPr/>
            <p:nvPr/>
          </p:nvSpPr>
          <p:spPr>
            <a:xfrm>
              <a:off x="3692520" y="4700520"/>
              <a:ext cx="2100240" cy="11336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 txBox="1"/>
            <p:nvPr/>
          </p:nvSpPr>
          <p:spPr>
            <a:xfrm>
              <a:off x="4065480" y="4767120"/>
              <a:ext cx="896760" cy="34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öÁ¡Á¤º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 txBox="1"/>
            <p:nvPr/>
          </p:nvSpPr>
          <p:spPr>
            <a:xfrm>
              <a:off x="3763800" y="5149800"/>
              <a:ext cx="1916280" cy="6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# *  ÁöÁ¡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öÁ¡¸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692520" y="5091120"/>
              <a:ext cx="210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598840" y="3408480"/>
            <a:ext cx="1060200" cy="326880"/>
            <a:chOff x="2598840" y="3408480"/>
            <a:chExt cx="1060200" cy="326880"/>
          </a:xfrm>
        </p:grpSpPr>
        <p:sp>
          <p:nvSpPr>
            <p:cNvPr id="962" name=""/>
            <p:cNvSpPr/>
            <p:nvPr/>
          </p:nvSpPr>
          <p:spPr>
            <a:xfrm flipH="1">
              <a:off x="2612880" y="3560760"/>
              <a:ext cx="61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612880" y="3408480"/>
              <a:ext cx="15408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2598840" y="3560760"/>
              <a:ext cx="168120" cy="174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197160" y="3560760"/>
              <a:ext cx="46188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351480" y="4060800"/>
            <a:ext cx="3059280" cy="2397240"/>
            <a:chOff x="6351480" y="4060800"/>
            <a:chExt cx="3059280" cy="2397240"/>
          </a:xfrm>
        </p:grpSpPr>
        <p:sp>
          <p:nvSpPr>
            <p:cNvPr id="967" name=""/>
            <p:cNvSpPr/>
            <p:nvPr/>
          </p:nvSpPr>
          <p:spPr>
            <a:xfrm>
              <a:off x="6351480" y="4060800"/>
              <a:ext cx="3059280" cy="2397240"/>
            </a:xfrm>
            <a:prstGeom prst="round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520040" y="4481640"/>
              <a:ext cx="595800" cy="213120"/>
            </a:xfrm>
            <a:custGeom>
              <a:avLst/>
              <a:gdLst/>
              <a:ahLst/>
              <a:rect l="0" t="0" r="r" b="b"/>
              <a:pathLst>
                <a:path fill="none" w="1655" h="592">
                  <a:moveTo>
                    <a:pt x="0" y="592"/>
                  </a:moveTo>
                  <a:lnTo>
                    <a:pt x="838" y="0"/>
                  </a:lnTo>
                  <a:lnTo>
                    <a:pt x="1655" y="5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157880" y="4967280"/>
              <a:ext cx="595800" cy="213120"/>
            </a:xfrm>
            <a:custGeom>
              <a:avLst/>
              <a:gdLst/>
              <a:ahLst/>
              <a:rect l="0" t="0" r="r" b="b"/>
              <a:pathLst>
                <a:path fill="none" w="1655" h="592">
                  <a:moveTo>
                    <a:pt x="0" y="592"/>
                  </a:moveTo>
                  <a:lnTo>
                    <a:pt x="838" y="0"/>
                  </a:lnTo>
                  <a:lnTo>
                    <a:pt x="1655" y="5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815160" y="5415120"/>
              <a:ext cx="595800" cy="213120"/>
            </a:xfrm>
            <a:custGeom>
              <a:avLst/>
              <a:gdLst/>
              <a:ahLst/>
              <a:rect l="0" t="0" r="r" b="b"/>
              <a:pathLst>
                <a:path fill="none" w="1655" h="592">
                  <a:moveTo>
                    <a:pt x="0" y="592"/>
                  </a:moveTo>
                  <a:lnTo>
                    <a:pt x="838" y="0"/>
                  </a:lnTo>
                  <a:lnTo>
                    <a:pt x="1655" y="5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"/>
          <p:cNvSpPr txBox="1"/>
          <p:nvPr/>
        </p:nvSpPr>
        <p:spPr>
          <a:xfrm>
            <a:off x="6386400" y="4194000"/>
            <a:ext cx="3011400" cy="25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000 (ÃÖ»óÀ§°èÁ¤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00    1200  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0    1120  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1    1112  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004080" y="3830760"/>
            <a:ext cx="1471320" cy="354600"/>
          </a:xfrm>
          <a:custGeom>
            <a:avLst/>
            <a:gdLst/>
            <a:ahLst/>
            <a:rect l="0" t="0" r="r" b="b"/>
            <a:pathLst>
              <a:path fill="none" w="4087" h="985">
                <a:moveTo>
                  <a:pt x="4076" y="985"/>
                </a:moveTo>
                <a:lnTo>
                  <a:pt x="4076" y="985"/>
                </a:lnTo>
                <a:cubicBezTo>
                  <a:pt x="4083" y="955"/>
                  <a:pt x="4087" y="924"/>
                  <a:pt x="4087" y="894"/>
                </a:cubicBezTo>
                <a:cubicBezTo>
                  <a:pt x="4087" y="737"/>
                  <a:pt x="3992" y="583"/>
                  <a:pt x="3812" y="447"/>
                </a:cubicBezTo>
                <a:cubicBezTo>
                  <a:pt x="3631" y="311"/>
                  <a:pt x="3372" y="198"/>
                  <a:pt x="3060" y="120"/>
                </a:cubicBezTo>
                <a:cubicBezTo>
                  <a:pt x="2748" y="41"/>
                  <a:pt x="2394" y="0"/>
                  <a:pt x="2034" y="0"/>
                </a:cubicBezTo>
                <a:cubicBezTo>
                  <a:pt x="1673" y="0"/>
                  <a:pt x="1319" y="41"/>
                  <a:pt x="1007" y="120"/>
                </a:cubicBezTo>
                <a:cubicBezTo>
                  <a:pt x="695" y="198"/>
                  <a:pt x="436" y="311"/>
                  <a:pt x="256" y="447"/>
                </a:cubicBezTo>
                <a:cubicBezTo>
                  <a:pt x="123" y="547"/>
                  <a:pt x="36" y="657"/>
                  <a:pt x="0" y="772"/>
                </a:cubicBez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2598840" y="4927680"/>
            <a:ext cx="1073160" cy="333360"/>
            <a:chOff x="2598840" y="4927680"/>
            <a:chExt cx="1073160" cy="333360"/>
          </a:xfrm>
        </p:grpSpPr>
        <p:sp>
          <p:nvSpPr>
            <p:cNvPr id="974" name=""/>
            <p:cNvSpPr/>
            <p:nvPr/>
          </p:nvSpPr>
          <p:spPr>
            <a:xfrm flipH="1">
              <a:off x="2625840" y="5094360"/>
              <a:ext cx="61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2604960" y="5094360"/>
              <a:ext cx="174600" cy="1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209760" y="5094360"/>
              <a:ext cx="4622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98840" y="4927680"/>
              <a:ext cx="174600" cy="1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477720" y="1917720"/>
            <a:ext cx="3625920" cy="36000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èÁ¤¹øÈ£      °èÁ¤¸í         °èÁ¤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°èÁ¤°ú¸ñ-1000    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00         °èÁ¤°ú¸ñ-1100    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0       °èÁ¤°ú¸ñ-111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1     °èÁ¤°ú¸ñ-1111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2     °èÁ¤°ú¸ñ-1112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0       °èÁ¤°ú¸ñ-112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1     °èÁ¤°ú¸ñ-1121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2     °èÁ¤°ú¸ñ-1122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00         °èÁ¤°ú¸ñ-1200    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0       °èÁ¤°ú¸ñ-121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1     °èÁ¤°ú¸ñ-1211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2     °èÁ¤°ú¸ñ-1212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20       °èÁ¤°ú¸ñ-122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5832360" y="1174680"/>
            <a:ext cx="3639960" cy="556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4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èÁ¤¹øÈ£   °èÁ¤¸í    »óÀ§°èÁ¤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i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°èÁ¤°ú¸ñ-1000     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00     °èÁ¤°ú¸ñ-1100     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00     °èÁ¤°ú¸ñ-1200     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0     °èÁ¤°ú¸ñ-1110      1100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0     °èÁ¤°ú¸ñ-1120      1100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0     °èÁ¤°ú¸ñ-1210      1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20     °èÁ¤°ú¸ñ-1240      1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1     °èÁ¤°ú¸ñ-1111      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2     °èÁ¤°ú¸ñ-1112      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1     °èÁ¤°ú¸ñ-1121      1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2     °èÁ¤°ú¸ñ-1122      1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1     °èÁ¤°ú¸ñ-1211      12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2     °èÁ¤°ú¸ñ-1212      12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         .........       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372280" y="1523880"/>
            <a:ext cx="687240" cy="206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554880" y="1711440"/>
            <a:ext cx="1919160" cy="231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568920" y="2028960"/>
            <a:ext cx="1919520" cy="490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550200" y="2921040"/>
            <a:ext cx="1923840" cy="1417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568920" y="2346480"/>
            <a:ext cx="1905120" cy="807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550200" y="2620800"/>
            <a:ext cx="1923840" cy="1111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5589720" y="15318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6635880" y="16272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8278920" y="19890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6635880" y="229392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6635880" y="294948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6635880" y="19368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8273880" y="316224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8302680" y="257184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6635880" y="261144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8273880" y="385776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8290080" y="443880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691160" y="5938920"/>
            <a:ext cx="4762440" cy="879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6600cc"/>
                </a:solidFill>
                <a:latin typeface="XXXXXX"/>
                <a:ea typeface="XXXXXX"/>
              </a:rPr>
              <a:t>¨è,¨ê,¨ì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: CONNECT BY PRIOR °èÁ¤¹øÈ£ = »óÀ§°èÁ¤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6600cc"/>
                </a:solidFill>
                <a:latin typeface="XXXXXX"/>
                <a:ea typeface="XXXXXX"/>
              </a:rPr>
              <a:t>¨é,¨ë,¨í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: »óÀ§°èÁ¤¹øÈ£ = »ó¼ö°ª (INDEX ÇÊ¿ä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2603520" y="1046160"/>
            <a:ext cx="2784600" cy="696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TART WITH °èÁ¤¹øÈ£ =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( INDEX ÇÊ¿ä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834160" y="1582560"/>
            <a:ext cx="363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477280" y="1963800"/>
            <a:ext cx="1440" cy="407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8477280" y="2535120"/>
            <a:ext cx="1440" cy="417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8477280" y="3164040"/>
            <a:ext cx="1440" cy="455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8477280" y="3720960"/>
            <a:ext cx="1440" cy="441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8477280" y="4319640"/>
            <a:ext cx="1440" cy="442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73040" y="2311560"/>
            <a:ext cx="3613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1555920" y="1560600"/>
            <a:ext cx="1165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Ãâ·Â °á°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6823080" y="839880"/>
            <a:ext cx="1851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°èÁ¤Á¤º¸ 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1 (¹üÀ§ Á¼À» °æ¿ì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652320" y="1886040"/>
            <a:ext cx="8832960" cy="2581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°èÁ¤¹øÈ£, SUM (B.°èÁ¤±Ý¾×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A, °èÁ¤±Ý¾×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.°èÁ¤¹øÈ£ IN ( SELECT  D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START WITH  D.°èÁ¤¹øÈ£ = A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CONNECT BY  PRIOR  D.°èÁ¤¹øÈ£ = D.»óÀ§°èÁ¤¹øÈ£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B.È¸°èÀÏÀÚ = '19961010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A.°èÁ¤¹øÈ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652920" y="3968640"/>
            <a:ext cx="3206880" cy="1270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LIKE 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‘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199610%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Ã³·³ ¹üÀ§°¡ ³ÐÀ» °æ¿ì Ã³¸®¿¡ ºÎ´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498680" y="228600"/>
            <a:ext cx="8280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.  DECODE¿Í GROUP BYÀÇ È¿À²ÀûÀ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79320" y="1434960"/>
            <a:ext cx="8712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2 (¹üÀ§ ³ÐÀ» °æ¿ì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658800" y="1889280"/>
            <a:ext cx="8702640" cy="34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°èÁ¤¹øÈ£, SUM (B.°èÁ¤±Ý¾×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( SELECT  °èÁ¤¹øÈ£, SUM(°èÁ¤±Ý¾×) AS °èÁ¤±Ý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FROM  °èÁ¤±Ý¾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WHERE  È¸°èÀÏÀÚ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LIKE '199610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GROUP BY  °èÁ¤¹øÈ£ ) B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.°èÁ¤¹øÈ£ IN ( SELECT  D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ART WITH  D.°èÁ¤¹øÈ£ = A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ONNECT BY  PRIOR D.°èÁ¤¹øÈ£ = D.»óÀ§°èÁ¤¹øÈ£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A.°èÁ¤¹øÈ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5475240" y="1601640"/>
            <a:ext cx="3402000" cy="971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èÁ¤¹øÈ£º°·Î ÇÑ´Þ ¹üÀ§À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ªÀ» ¹Ì¸® ÇÕ°èÇÏ¿©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853920" y="4309920"/>
            <a:ext cx="7446960" cy="2236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151272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336600" y="1015920"/>
            <a:ext cx="628164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4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 »ç°í ³»¿ªÀ» °ü¸®Ç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 ¹ß»ý½Ã - µîÀç±¸ºÐ = '1'·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, µîÀç½Ã°£, ´ã´çÀÚID ÄÃ·³ ÀÔ·ÂµÇ¾î ÀÖÀ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 ÇØ°á½Ã - µîÀç±¸ºÐ = '9'·Î UPD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, µîÀç½Ã°£, ´ã´çÀÚID ÄÃ·³ ÀÔ·ÂµÇ¾î ÀÖÀ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4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¿ä±¸ 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º°·Î µîÀç»çÇ×, ÇØÁ¦»çÇ×À» ÇÑ ÁÙ¿¡ ´ÙÀ½°ú °°ÀÌ Ç¥½ÃÇÏ¶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922320" y="3992400"/>
            <a:ext cx="7596360" cy="30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: 4599-5040-5845-37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³»¿ë                    µîÀç»çÇ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ØÁ¦»çÇ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À¯Çü¸í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µîÀçÀÏÀ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µîÀç½Ã°£  ´ã´çÀÚ  ÇØÁ¦ÀÏÀ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ØÁ¦½Ã°£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´ã´ç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¿¬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5041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5:30    03459   19950424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: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0347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¿¬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6071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7:30    0343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ö±Ý¼­ºñ½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5082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0:30    07155   1995092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: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0667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ö±Ý¼­ºñ½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51223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2:30    04457   1996012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: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0427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2930400" y="4303800"/>
            <a:ext cx="2513160" cy="2243160"/>
            <a:chOff x="2930400" y="4303800"/>
            <a:chExt cx="2513160" cy="2243160"/>
          </a:xfrm>
        </p:grpSpPr>
        <p:sp>
          <p:nvSpPr>
            <p:cNvPr id="1026" name=""/>
            <p:cNvSpPr/>
            <p:nvPr/>
          </p:nvSpPr>
          <p:spPr>
            <a:xfrm>
              <a:off x="2930400" y="4325760"/>
              <a:ext cx="0" cy="220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437080" y="4303800"/>
              <a:ext cx="6480" cy="2243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868320" y="4700520"/>
            <a:ext cx="7418520" cy="455760"/>
            <a:chOff x="868320" y="4700520"/>
            <a:chExt cx="7418520" cy="455760"/>
          </a:xfrm>
        </p:grpSpPr>
        <p:sp>
          <p:nvSpPr>
            <p:cNvPr id="1029" name=""/>
            <p:cNvSpPr/>
            <p:nvPr/>
          </p:nvSpPr>
          <p:spPr>
            <a:xfrm>
              <a:off x="868320" y="4700520"/>
              <a:ext cx="741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68320" y="5156280"/>
              <a:ext cx="741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1790640" y="4700520"/>
            <a:ext cx="0" cy="1843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832200" y="4707000"/>
            <a:ext cx="0" cy="18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707000" y="4703760"/>
            <a:ext cx="0" cy="1843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377040" y="4719600"/>
            <a:ext cx="0" cy="1805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7337520" y="4719600"/>
            <a:ext cx="0" cy="18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6991200" y="1357200"/>
            <a:ext cx="1908360" cy="2214360"/>
            <a:chOff x="6991200" y="1357200"/>
            <a:chExt cx="1908360" cy="2214360"/>
          </a:xfrm>
        </p:grpSpPr>
        <p:sp>
          <p:nvSpPr>
            <p:cNvPr id="1037" name=""/>
            <p:cNvSpPr txBox="1"/>
            <p:nvPr/>
          </p:nvSpPr>
          <p:spPr>
            <a:xfrm>
              <a:off x="6991200" y="1357200"/>
              <a:ext cx="1905120" cy="2214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Ä«µå»ç°í³»¿ª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ÀÏ·Ã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Ä«µå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»ç°íÀ¯ÇüÄÚµ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µîÀç±¸º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µîÀçÀÏÀ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µîÀç½Ã°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´ã´çÀÚ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993000" y="1711440"/>
              <a:ext cx="1906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291960" y="1117440"/>
            <a:ext cx="1469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1630440" y="960480"/>
            <a:ext cx="8169120" cy="654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A.»ç°íÀ¯ÇüÄÚµå, C.»ç°íÀ¯Çü¸í, A.µîÀçÀÏÀÚ, A.µîÀçÀÏ½Ã, A.´ã´çÀÚI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ODE( SIGN(A.µîÀçÀÏÀÚ || A.µîÀçÀÏ½Ã - B.µîÀçÀÏÀÚ || B.µîÀçÀÏ½Ã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, NULL , B.µîÀçÀÏÀÚ)  AS ÇØÁ¦ÀÏÀÚ,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-  ¨ç »ç°íÇØÁ¦ À¯¹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ODE( SIGN(A.µîÀçÀÏÀÚ || A.µîÀçÀÏ½Ã - B.µîÀçÀÏÀÚ || B.µîÀçÀÏ½Ã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, NULL , B.µîÀç½Ã°£)  AS ÇØÁ¦½Ã°£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ODE( SIGN(A.µîÀçÀÏÀÚ || A.µîÀçÀÏ½Ã - B.µîÀçÀÏÀÚ || B.µîÀçÀÏ½Ã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, NULL , B.´ã´çÀÚID)  AS ´ã´çÀÚ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Ä«µå»ç°í³»¿ª  A,  Ä«µå»ç°í³»¿ª  B,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»ç°íÀ¯Çü  C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- ¨è A´Â µîÀç,B´Â ÇØÁ¦ °ü·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»ç°íÀ¯ÇüÄÚµå =  C.»ç°íÀ¯ÇüÄÚµ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µîÀç±¸ºÐ  =  '1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Ä«µå¹øÈ£  =  B.Ä«µå¹øÈ£ 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»ç°íÀ¯ÇüÄÚµå = B.»ç°íÀ¯ÇüÄÚµå 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'9' = B.µîÀç±¸ºÐ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.µîÀçÀÏÀÚ || B.µîÀç½Ã°£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MIN(D.µîÀçÀÏÀÚ || D.µîÀç½Ã°£)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 ¨é ÃÖ¼Ò°ªÀÌ ÇØ´çµîÀçÀÇ ÇØÁ¦ÀÏ½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Ä«µå»ç°í³»¿ª 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Ä«µå¹øÈ£ = D.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»ç°íÀ¯ÇüÄÚµå = D.»ç°íÀ¯Çü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D.µîÀç±¸ºÐ = ' 9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µîÀçÀÏÀÚ || A.µîÀç½Ã°£ &lt; D.µîÀçÀÏÀÚ || D.µîÀç½Ã°£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OR  NOT EXISTS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'X'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- ¨ê µîÀç ÈÄ ¾ÆÁ÷ ÇØÁ¦µÇÁö ¾ÊÀº µ¥ÀÌÅ¸ Ã£±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»ç°í³»¿ª 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Ä«µå¹øÈ£ = D.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»ç°íÀ¯ÇüÄÚµå = D.»ç°íÀ¯Çü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D.µîÀç±¸ºÐ = ' 9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µîÀçÀÏÀÚ || A.µîÀç½Ã°£ &lt; D.µîÀçÀÏÀÚ || D.µîÀç½Ã°£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ORDER BY  A.»ç°íÀ¯ÇüÄÚµå,  A.µîÀçÀÏÀÚ,  A.µîÀç½Ã°£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151272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 txBox="1"/>
          <p:nvPr/>
        </p:nvSpPr>
        <p:spPr>
          <a:xfrm>
            <a:off x="152568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320760" y="1117440"/>
            <a:ext cx="950904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6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¬°á°í¸®¸¦ °í·ÁÇÏÁö ¾ÊÀº ¸ðµ¨¸µÀÇ Àß¸øÀ¸·Î ÀÎÇÑ ÄÚµùÀÇ °úºÎ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3543120" y="5415120"/>
            <a:ext cx="754560" cy="754200"/>
            <a:chOff x="3543120" y="5415120"/>
            <a:chExt cx="754560" cy="754200"/>
          </a:xfrm>
        </p:grpSpPr>
        <p:sp>
          <p:nvSpPr>
            <p:cNvPr id="1047" name=""/>
            <p:cNvSpPr/>
            <p:nvPr/>
          </p:nvSpPr>
          <p:spPr>
            <a:xfrm>
              <a:off x="3543120" y="5415120"/>
              <a:ext cx="754200" cy="754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802320" y="5423040"/>
              <a:ext cx="495360" cy="439200"/>
            </a:xfrm>
            <a:custGeom>
              <a:avLst/>
              <a:gdLst/>
              <a:ahLst/>
              <a:rect l="0" t="0" r="r" b="b"/>
              <a:pathLst>
                <a:path fill="none" w="1376" h="1220">
                  <a:moveTo>
                    <a:pt x="1361" y="1220"/>
                  </a:moveTo>
                  <a:lnTo>
                    <a:pt x="1361" y="1220"/>
                  </a:lnTo>
                  <a:cubicBezTo>
                    <a:pt x="1371" y="1163"/>
                    <a:pt x="1376" y="1106"/>
                    <a:pt x="1376" y="1049"/>
                  </a:cubicBezTo>
                  <a:cubicBezTo>
                    <a:pt x="1376" y="865"/>
                    <a:pt x="1325" y="684"/>
                    <a:pt x="1229" y="524"/>
                  </a:cubicBezTo>
                  <a:cubicBezTo>
                    <a:pt x="1134" y="365"/>
                    <a:pt x="996" y="233"/>
                    <a:pt x="830" y="140"/>
                  </a:cubicBezTo>
                  <a:cubicBezTo>
                    <a:pt x="664" y="48"/>
                    <a:pt x="476" y="0"/>
                    <a:pt x="284" y="0"/>
                  </a:cubicBezTo>
                  <a:cubicBezTo>
                    <a:pt x="188" y="0"/>
                    <a:pt x="93" y="12"/>
                    <a:pt x="0" y="36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9" name=""/>
          <p:cNvSpPr txBox="1"/>
          <p:nvPr/>
        </p:nvSpPr>
        <p:spPr>
          <a:xfrm>
            <a:off x="6172200" y="3048120"/>
            <a:ext cx="2298600" cy="3233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Ä«µå»ç°í³»¿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±¸º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½Ã°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´ã´çÀÚ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µîÀçÀÏ·Ã¹øÈ£ (F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245120" y="3382920"/>
            <a:ext cx="1608120" cy="12603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¹°¸®¼³°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2130480" y="3062160"/>
            <a:ext cx="1763640" cy="2905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Ä«µå»ç°í³»¿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±¸º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½Ã°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´ã´çÀÚ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4129200" y="5256360"/>
            <a:ext cx="998640" cy="5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ÇØÁ¦µÇ¾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3122640" y="6161040"/>
            <a:ext cx="998640" cy="5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ÇØÁ¦ÇÏ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133720" y="362268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184800" y="35751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 txBox="1"/>
          <p:nvPr/>
        </p:nvSpPr>
        <p:spPr>
          <a:xfrm>
            <a:off x="152568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739800" y="1692360"/>
            <a:ext cx="8861400" cy="2830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»ç°íÀ¯ÇüÄÚµå, C.»ç°íÀ¯Çü¸í, A.µîÀçÀÏÀÚ, A.µîÀçÀÏ½Ã, A.´ã´çÀÚ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.µîÀçÀÏÀÚ AS ÇØÁ¦ÀÏÀÚ, B.µîÀçÀÏ½Ã AS ÇØÁ¦½Ã°£, B.´ã´çÀÚ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»ç°í³»¿ª  A,  Ä«µå»ç°í³»¿ª  B,  »ç°íÀ¯Çü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»ç°íÀ¯ÇüÄÚµå = C.»ç°íÀ¯ÇüÄÚµå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µîÀç±¸ºÐ = '1'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ÀÏ·Ã¹øÈ£ = B.µîÀçÀÏ·Ã¹øÈ£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DER BY  A.»ç°íÀ¯ÇüÄÚµå, A.µîÀçÀÏÀÚ, A.µîÀç½Ã°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"/>
          <p:cNvGrpSpPr/>
          <p:nvPr/>
        </p:nvGrpSpPr>
        <p:grpSpPr>
          <a:xfrm>
            <a:off x="3797280" y="1851120"/>
            <a:ext cx="1487520" cy="216360"/>
            <a:chOff x="3797280" y="1851120"/>
            <a:chExt cx="1487520" cy="216360"/>
          </a:xfrm>
        </p:grpSpPr>
        <p:sp>
          <p:nvSpPr>
            <p:cNvPr id="1060" name=""/>
            <p:cNvSpPr/>
            <p:nvPr/>
          </p:nvSpPr>
          <p:spPr>
            <a:xfrm>
              <a:off x="3797280" y="1951200"/>
              <a:ext cx="735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797280" y="1851120"/>
              <a:ext cx="182880" cy="216360"/>
            </a:xfrm>
            <a:custGeom>
              <a:avLst/>
              <a:gdLst/>
              <a:ahLst/>
              <a:rect l="0" t="0" r="r" b="b"/>
              <a:pathLst>
                <a:path fill="none" w="508" h="601">
                  <a:moveTo>
                    <a:pt x="0" y="0"/>
                  </a:moveTo>
                  <a:lnTo>
                    <a:pt x="508" y="305"/>
                  </a:lnTo>
                  <a:lnTo>
                    <a:pt x="0" y="60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549680" y="1951200"/>
              <a:ext cx="73512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322200" y="1117440"/>
            <a:ext cx="12970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346560" y="2635200"/>
            <a:ext cx="928800" cy="750960"/>
            <a:chOff x="3346560" y="2635200"/>
            <a:chExt cx="928800" cy="750960"/>
          </a:xfrm>
        </p:grpSpPr>
        <p:sp>
          <p:nvSpPr>
            <p:cNvPr id="1066" name=""/>
            <p:cNvSpPr/>
            <p:nvPr/>
          </p:nvSpPr>
          <p:spPr>
            <a:xfrm>
              <a:off x="3489480" y="2673360"/>
              <a:ext cx="785880" cy="712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843360" y="2635200"/>
              <a:ext cx="160560" cy="109800"/>
            </a:xfrm>
            <a:custGeom>
              <a:avLst/>
              <a:gdLst/>
              <a:ahLst/>
              <a:rect l="0" t="0" r="r" b="b"/>
              <a:pathLst>
                <a:path fill="none" w="446" h="305">
                  <a:moveTo>
                    <a:pt x="0" y="0"/>
                  </a:moveTo>
                  <a:lnTo>
                    <a:pt x="446" y="150"/>
                  </a:lnTo>
                  <a:lnTo>
                    <a:pt x="0" y="30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489480" y="3038760"/>
              <a:ext cx="433080" cy="283680"/>
            </a:xfrm>
            <a:custGeom>
              <a:avLst/>
              <a:gdLst/>
              <a:ahLst/>
              <a:rect l="0" t="0" r="r" b="b"/>
              <a:pathLst>
                <a:path w="1203" h="788">
                  <a:moveTo>
                    <a:pt x="1203" y="3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"/>
                    <a:pt x="0" y="2"/>
                    <a:pt x="0" y="3"/>
                  </a:cubicBezTo>
                  <a:cubicBezTo>
                    <a:pt x="0" y="176"/>
                    <a:pt x="56" y="346"/>
                    <a:pt x="161" y="496"/>
                  </a:cubicBezTo>
                  <a:cubicBezTo>
                    <a:pt x="241" y="609"/>
                    <a:pt x="348" y="709"/>
                    <a:pt x="476" y="788"/>
                  </a:cubicBezTo>
                  <a:lnTo>
                    <a:pt x="120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489480" y="3040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490920" y="3075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6" y="0"/>
                  </a:moveTo>
                  <a:lnTo>
                    <a:pt x="0" y="0"/>
                  </a:lnTo>
                  <a:lnTo>
                    <a:pt x="15" y="72"/>
                  </a:lnTo>
                  <a:lnTo>
                    <a:pt x="72" y="7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497400" y="3110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8" y="0"/>
                  </a:moveTo>
                  <a:lnTo>
                    <a:pt x="0" y="15"/>
                  </a:lnTo>
                  <a:lnTo>
                    <a:pt x="14" y="72"/>
                  </a:lnTo>
                  <a:lnTo>
                    <a:pt x="72" y="4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506760" y="3143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8" y="0"/>
                  </a:moveTo>
                  <a:lnTo>
                    <a:pt x="0" y="14"/>
                  </a:lnTo>
                  <a:lnTo>
                    <a:pt x="14" y="72"/>
                  </a:lnTo>
                  <a:lnTo>
                    <a:pt x="72" y="43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510000" y="314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510000" y="314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36"/>
                  </a:lnTo>
                  <a:lnTo>
                    <a:pt x="17" y="72"/>
                  </a:lnTo>
                  <a:lnTo>
                    <a:pt x="72" y="3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524400" y="3173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0" y="0"/>
                  </a:moveTo>
                  <a:lnTo>
                    <a:pt x="0" y="24"/>
                  </a:lnTo>
                  <a:lnTo>
                    <a:pt x="7" y="72"/>
                  </a:lnTo>
                  <a:lnTo>
                    <a:pt x="72" y="48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540240" y="3203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3" y="0"/>
                  </a:moveTo>
                  <a:lnTo>
                    <a:pt x="0" y="29"/>
                  </a:lnTo>
                  <a:lnTo>
                    <a:pt x="29" y="72"/>
                  </a:lnTo>
                  <a:lnTo>
                    <a:pt x="72" y="4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562200" y="3232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0" y="29"/>
                  </a:lnTo>
                  <a:lnTo>
                    <a:pt x="36" y="72"/>
                  </a:lnTo>
                  <a:lnTo>
                    <a:pt x="72" y="43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587760" y="3257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3" y="0"/>
                  </a:moveTo>
                  <a:lnTo>
                    <a:pt x="0" y="29"/>
                  </a:lnTo>
                  <a:lnTo>
                    <a:pt x="33" y="72"/>
                  </a:lnTo>
                  <a:lnTo>
                    <a:pt x="72" y="29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614760" y="3281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53"/>
                  </a:lnTo>
                  <a:lnTo>
                    <a:pt x="29" y="72"/>
                  </a:lnTo>
                  <a:lnTo>
                    <a:pt x="72" y="1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614760" y="3281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0" y="53"/>
                  </a:lnTo>
                  <a:lnTo>
                    <a:pt x="29" y="72"/>
                  </a:lnTo>
                  <a:lnTo>
                    <a:pt x="58" y="0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614760" y="3281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2" y="0"/>
                  </a:moveTo>
                  <a:lnTo>
                    <a:pt x="0" y="43"/>
                  </a:lnTo>
                  <a:lnTo>
                    <a:pt x="32" y="72"/>
                  </a:lnTo>
                  <a:lnTo>
                    <a:pt x="72" y="29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643200" y="3301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2" y="0"/>
                  </a:moveTo>
                  <a:lnTo>
                    <a:pt x="0" y="33"/>
                  </a:lnTo>
                  <a:lnTo>
                    <a:pt x="48" y="72"/>
                  </a:lnTo>
                  <a:lnTo>
                    <a:pt x="72" y="3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46560" y="2725560"/>
              <a:ext cx="171360" cy="26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4" name=""/>
          <p:cNvSpPr txBox="1"/>
          <p:nvPr/>
        </p:nvSpPr>
        <p:spPr>
          <a:xfrm>
            <a:off x="1494000" y="228600"/>
            <a:ext cx="825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 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9323280" y="4608360"/>
            <a:ext cx="246600" cy="367200"/>
          </a:xfrm>
          <a:custGeom>
            <a:avLst/>
            <a:gdLst/>
            <a:ahLst/>
            <a:rect l="0" t="0" r="r" b="b"/>
            <a:pathLst>
              <a:path w="685" h="1020">
                <a:moveTo>
                  <a:pt x="685" y="1020"/>
                </a:moveTo>
                <a:lnTo>
                  <a:pt x="685" y="0"/>
                </a:lnTo>
                <a:lnTo>
                  <a:pt x="0" y="0"/>
                </a:lnTo>
                <a:lnTo>
                  <a:pt x="0" y="1020"/>
                </a:lnTo>
                <a:lnTo>
                  <a:pt x="685" y="1020"/>
                </a:lnTo>
                <a:close/>
              </a:path>
            </a:pathLst>
          </a:cu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" descr=""/>
          <p:cNvPicPr/>
          <p:nvPr/>
        </p:nvPicPr>
        <p:blipFill>
          <a:blip r:embed="rId1"/>
          <a:stretch/>
        </p:blipFill>
        <p:spPr>
          <a:xfrm>
            <a:off x="1924200" y="3648240"/>
            <a:ext cx="7648560" cy="3189240"/>
          </a:xfrm>
          <a:prstGeom prst="rect">
            <a:avLst/>
          </a:prstGeom>
          <a:ln w="0">
            <a:noFill/>
          </a:ln>
        </p:spPr>
      </p:pic>
      <p:sp>
        <p:nvSpPr>
          <p:cNvPr id="1087" name=""/>
          <p:cNvSpPr txBox="1"/>
          <p:nvPr/>
        </p:nvSpPr>
        <p:spPr>
          <a:xfrm>
            <a:off x="1682640" y="1154160"/>
            <a:ext cx="2170080" cy="2230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ÀüÇ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Å·¡¼±ÄÚµå (F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èÁ¤°ú¸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´ëÃ¼ÀüÇ¥¹øÈ£ (FK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5238720" y="1252440"/>
            <a:ext cx="1635120" cy="1345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6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Å·¡¼±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°Å·¡¼±ÄÚµå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Å·¡¼±¸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ÁÖ¼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322200" y="3517920"/>
            <a:ext cx="1442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¾÷¹«ÀÌÇ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676520" y="1523880"/>
            <a:ext cx="2165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241960" y="1654200"/>
            <a:ext cx="1616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290840" y="2909880"/>
            <a:ext cx="1124280" cy="706680"/>
          </a:xfrm>
          <a:custGeom>
            <a:avLst/>
            <a:gdLst/>
            <a:ahLst/>
            <a:rect l="0" t="0" r="r" b="b"/>
            <a:pathLst>
              <a:path fill="none" w="3123" h="1963">
                <a:moveTo>
                  <a:pt x="3123" y="1963"/>
                </a:moveTo>
                <a:lnTo>
                  <a:pt x="3123" y="1963"/>
                </a:lnTo>
                <a:lnTo>
                  <a:pt x="3123" y="1963"/>
                </a:lnTo>
                <a:cubicBezTo>
                  <a:pt x="3123" y="1618"/>
                  <a:pt x="2979" y="1280"/>
                  <a:pt x="2705" y="981"/>
                </a:cubicBezTo>
                <a:cubicBezTo>
                  <a:pt x="2430" y="683"/>
                  <a:pt x="2036" y="435"/>
                  <a:pt x="1561" y="263"/>
                </a:cubicBezTo>
                <a:cubicBezTo>
                  <a:pt x="1087" y="91"/>
                  <a:pt x="548" y="0"/>
                  <a:pt x="0" y="0"/>
                </a:cubicBez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 txBox="1"/>
          <p:nvPr/>
        </p:nvSpPr>
        <p:spPr>
          <a:xfrm>
            <a:off x="1517760" y="254160"/>
            <a:ext cx="8645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328680" y="1095480"/>
            <a:ext cx="1549440" cy="39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  º¸°í¼­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º¸°í¼­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2081160" y="1434960"/>
            <a:ext cx="7432560" cy="2809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ÀÏÀÚ  ÀüÇ¥¹øÈ£  ´ëÃ¼¹ß»ýÀÏ  ´ëÃ¼ÀüÇ¥¹øÈ£  ÀüÇ¥ÀÜ¾×    ´ëÃ¼¾×     ´ëÃ¼ÈÄÀÜ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7.21       001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1,000,000    150,000    85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7.29       002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850,000     50,000    8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8.12       004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1,800,000  1,200,000    6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8.17       004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600,000    600,000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3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500,000          0    5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15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8.27       0054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3,000,000  3,000,000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.      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....       ....       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3094200" y="1432080"/>
            <a:ext cx="5209920" cy="2269800"/>
            <a:chOff x="3094200" y="1432080"/>
            <a:chExt cx="5209920" cy="2269800"/>
          </a:xfrm>
        </p:grpSpPr>
        <p:sp>
          <p:nvSpPr>
            <p:cNvPr id="1097" name=""/>
            <p:cNvSpPr/>
            <p:nvPr/>
          </p:nvSpPr>
          <p:spPr>
            <a:xfrm>
              <a:off x="309420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94668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02776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26580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28964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30412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 txBox="1"/>
          <p:nvPr/>
        </p:nvSpPr>
        <p:spPr>
          <a:xfrm>
            <a:off x="4886280" y="1063800"/>
            <a:ext cx="1522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üÇ¥ ´ëÃ¼ ³»¿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2147760" y="1143000"/>
            <a:ext cx="20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Å·¡¼± : 12000 (A»ó»ç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7728120" y="1173240"/>
            <a:ext cx="17683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°ú¸ñ : ¹ÞÀ»¾îÀ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4422600" y="4056120"/>
            <a:ext cx="219060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üÇ¥ ´ëÃ¼ ÀÜ¾× ¸®½ºÆ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1898640" y="4135320"/>
            <a:ext cx="20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Å·¡¼± : 12000 (A»ó»ç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7107120" y="4179960"/>
            <a:ext cx="17683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°ú¸ñ : ¹ÞÀ»¾îÀ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076480" y="1814400"/>
            <a:ext cx="7423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2054160" y="4498920"/>
            <a:ext cx="6699240" cy="2713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ÀÏÀ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ÀüÇ¥¹øÈ£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ÀüÇ¥±Ý¾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ÃÖÁ¾´ëÃ¼ÀÏ    ´ëÃ¼ÀÜ¾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ö´ëÃ¼»óÅÂ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     000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,000,000    96.07.29      800,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ÏºÎ´ëÃ¼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     000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,800,000    96.08.17            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ÏÀü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3     000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500,000                  500,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ÏÀü¹Ì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0015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3,000,000    96.08.2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ÏÀü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24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001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8,500,000    96.08.30    5,500,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ÏºÎ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054160" y="4840200"/>
            <a:ext cx="6681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3102120" y="4502160"/>
            <a:ext cx="4260600" cy="2214720"/>
            <a:chOff x="3102120" y="4502160"/>
            <a:chExt cx="4260600" cy="2214720"/>
          </a:xfrm>
        </p:grpSpPr>
        <p:sp>
          <p:nvSpPr>
            <p:cNvPr id="1113" name=""/>
            <p:cNvSpPr/>
            <p:nvPr/>
          </p:nvSpPr>
          <p:spPr>
            <a:xfrm>
              <a:off x="3102120" y="450216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062240" y="451008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110200" y="450360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286680" y="4511520"/>
              <a:ext cx="0" cy="220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362720" y="450540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 txBox="1"/>
          <p:nvPr/>
        </p:nvSpPr>
        <p:spPr>
          <a:xfrm>
            <a:off x="1527120" y="228600"/>
            <a:ext cx="8213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322200" y="988920"/>
            <a:ext cx="910440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 QUERY ÇüÅÂ·Î Ç®¸®±â ¶§¹®¿¡ ½Ã°£ÀÌ ¸¹ÀÌ ¼Ò¿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º¸°í¼­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976480" y="2765520"/>
            <a:ext cx="17316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017800" y="1407960"/>
            <a:ext cx="7705800" cy="33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A.ÀüÇ¥ÀÏÀÚ, A.ÀüÇ¥¹øÈ£, V.´ëÃ¼¹ß»ýÀÏ, V.ÀüÇ¥¹øÈ£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A.ÀüÇ¥±Ý¾× - NVL(V.´©°è´ëÃ¼¾×,0) + NVL(V.´ëÃ¼¾×,0) AS ÀüÇ¥ÀÜ¾×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V.´ëÃ¼¾×,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A.ÀüÇ¥±Ý¾× - NVL(V.´©°è´ëÃ¼¾×,0) AS ´ëÃ¼ÈÄÀ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 A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(SELECT  B.´ëÃ¼ÀüÇ¥¹øÈ£, B.ÀüÇ¥¹øÈ£, B.ÀüÇ¥ÀÏÀÚ AS ´ëÃ¼¹ß»ýÀÏ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B.ÀüÇ¥±Ý¾× AS ´ëÃ¼¾×,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(C.ÀüÇ¥±Ý¾×) AS ´©°è´ëÃ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 B, ÀüÇ¥Á¤º¸ 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B.´ëÃ¼ÀüÇ¥¹øÈ£ = C. ´ëÃ¼ÀüÇ¥¹øÈ£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B.ÀüÇ¥ÀÏÀÚ &gt;= C.ÀüÇ¥ÀÏÀ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B.°Å·¡¼±ÄÚµå = '120000'  AND  B.°èÁ¤°ú¸ñ = '¹ÞÀ»¾îÀ½'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GROUP BY  B.´ëÃ¼ÀüÇ¥¹øÈ£, B.ÀüÇ¥¹øÈ£, B.ÀüÇ¥ÀÏÀÚ, B.ÀüÇ¥±Ý¾×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) 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A.ÀüÇ¥¹øÈ£ = V.´ëÃ¼ÀüÇ¥¹øÈ£(+)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AND   A.°Å·¡¼±ÄÚµå = '120000'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A.°èÁ¤°ú¸ñ = '¹ÞÀ»¾îÀ½' AND A.´ëÃ¼ÀüÇ¥¹øÈ£ IS NULL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2" name="" descr=""/>
          <p:cNvPicPr/>
          <p:nvPr/>
        </p:nvPicPr>
        <p:blipFill>
          <a:blip r:embed="rId1"/>
          <a:stretch/>
        </p:blipFill>
        <p:spPr>
          <a:xfrm>
            <a:off x="2009880" y="4821120"/>
            <a:ext cx="732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 txBox="1"/>
          <p:nvPr/>
        </p:nvSpPr>
        <p:spPr>
          <a:xfrm>
            <a:off x="1515960" y="271440"/>
            <a:ext cx="825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330120" y="1143000"/>
            <a:ext cx="1909800" cy="8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º¸°í¼­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2227320" y="1042920"/>
            <a:ext cx="7169040" cy="2907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A.ÀüÇ¥ÀÏÀÚ, A.ÀüÇ¥¹øÈ£, A.ÀüÇ¥±Ý¾×, MAX(B.ÀüÇ¥ÀÏÀÚ)  AS  ÃÖÁ¾´ëÃ¼ÀÏ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.ÀüÇ¥±Ý¾× - 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UM(B.ÀüÇ¥±Ý¾×) ,0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AS  ÃÖÁ¾´ëÃ¼ÀÜ¾×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ECODE( A.ÀüÇ¥±Ý¾× - 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SUM(B.ÀüÇ¥±Ý¾×),0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ÀüÇ¥±Ý¾×, '¿ÏÀü¹Ì´ëÃ¼'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0,          '¿ÏÀü´ëÃ¼', 'ÀÏºÎ´ëÃ¼')  AS  Çö´ëÃ¼»óÅ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 A,  ÀüÇ¥Á¤º¸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ÀüÇ¥¹øÈ£ = B.´ëÃ¼ÀüÇ¥¹øÈ£(+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A.´ëÃ¼ÀüÇ¥¹øÈ£ IS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°Å·¡¼±ÄÚµå = '120000'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°èÁ¤°ú¸ñ = '¹ÞÀ»¾îÀ½'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GROUP BY  A.ÀüÇ¥ÀÏÀÚ, A.ÀüÇ¥¹øÈ£, A.ÀüÇ¥±Ý¾×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2247840" y="3882960"/>
            <a:ext cx="7184880" cy="3150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A.ÀüÇ¥ÀÏÀÚ, A.ÀüÇ¥¹øÈ£, A.ÀüÇ¥±Ý¾×, MAX(B.ÀüÇ¥ÀÏÀÚ)  AS  ÃÖÁ¾´ëÃ¼ÀÏ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.ÀüÇ¥±Ý¾×-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UM(B.ÀüÇ¥±Ý¾×) ,0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AS  ÃÖÁ¾´ëÃ¼ÀÜ¾×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ECODE( A.ÀüÇ¥±Ý¾× - 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SUM(B.ÀüÇ¥±Ý¾×),0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ÀüÇ¥±Ý¾×, '¿ÏÀü¹Ì´ëÃ¼'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0,          '¿ÏÀü´ëÃ¼', 'ÀÏºÎ´ëÃ¼')  AS  Çö´ëÃ¼»óÅ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ÀüÇ¥ÀÏÀÚ, ÀüÇ¥¹øÈ£, ÀüÇ¥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´ëÃ¼ÀüÇ¥¹øÈ£ IS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¼±ÄÚµå = '120000'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°èÁ¤°ú¸ñ = '¹ÞÀ»¾îÀ½' )  A, ÀüÇ¥Á¤º¸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ÀüÇ¥¹øÈ£ = B.´ëÃ¼ÀüÇ¥¹øÈ£(+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GROUP BY  A.ÀüÇ¥ÀÏÀÚ, A.ÀüÇ¥¹øÈ£, A.ÀüÇ¥±Ý¾×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392040" y="4962600"/>
            <a:ext cx="1832040" cy="514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-LINE 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399960" y="2282760"/>
            <a:ext cx="1733400" cy="514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OUTER JO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 txBox="1"/>
          <p:nvPr/>
        </p:nvSpPr>
        <p:spPr>
          <a:xfrm>
            <a:off x="4805280" y="2670120"/>
            <a:ext cx="4564080" cy="3847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º»ÀÎÄ«µå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ÃÖÁ¾Ä«µå  </a:t>
            </a:r>
            <a:r>
              <a:rPr b="1" lang="en-US" sz="1800" spc="-1" strike="noStrike">
                <a:solidFill>
                  <a:srgbClr val="9900cc"/>
                </a:solidFill>
                <a:latin typeface="XXXXXX"/>
                <a:ea typeface="XXXXXX"/>
              </a:rPr>
              <a:t>ÀÌÀüÄ«µ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     NULL     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        1 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    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        1 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    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4       </a:t>
            </a:r>
            <a:r>
              <a:rPr b="1" lang="en-US" sz="1800" spc="-1" strike="noStrike">
                <a:solidFill>
                  <a:srgbClr val="dddddd"/>
                </a:solidFill>
                <a:latin typeface="XXXXXX"/>
                <a:ea typeface="XXXXXX"/>
              </a:rPr>
              <a:t>NULL      NU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5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1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6        1 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628560" y="5062680"/>
            <a:ext cx="639720" cy="69048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809640" y="4964040"/>
            <a:ext cx="181440" cy="176400"/>
          </a:xfrm>
          <a:custGeom>
            <a:avLst/>
            <a:gdLst/>
            <a:ahLst/>
            <a:rect l="0" t="0" r="r" b="b"/>
            <a:pathLst>
              <a:path fill="none" w="504" h="490">
                <a:moveTo>
                  <a:pt x="365" y="0"/>
                </a:moveTo>
                <a:lnTo>
                  <a:pt x="0" y="387"/>
                </a:lnTo>
                <a:lnTo>
                  <a:pt x="504" y="49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977760" y="5423040"/>
            <a:ext cx="298800" cy="291240"/>
          </a:xfrm>
          <a:custGeom>
            <a:avLst/>
            <a:gdLst/>
            <a:ahLst/>
            <a:rect l="0" t="0" r="r" b="b"/>
            <a:pathLst>
              <a:path w="830" h="809">
                <a:moveTo>
                  <a:pt x="0" y="0"/>
                </a:moveTo>
                <a:lnTo>
                  <a:pt x="314" y="809"/>
                </a:lnTo>
                <a:lnTo>
                  <a:pt x="314" y="809"/>
                </a:lnTo>
                <a:cubicBezTo>
                  <a:pt x="349" y="794"/>
                  <a:pt x="383" y="777"/>
                  <a:pt x="415" y="757"/>
                </a:cubicBezTo>
                <a:cubicBezTo>
                  <a:pt x="541" y="680"/>
                  <a:pt x="646" y="570"/>
                  <a:pt x="719" y="437"/>
                </a:cubicBezTo>
                <a:cubicBezTo>
                  <a:pt x="791" y="304"/>
                  <a:pt x="830" y="153"/>
                  <a:pt x="83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335320" y="5065560"/>
            <a:ext cx="677880" cy="71604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628720" y="4964040"/>
            <a:ext cx="192600" cy="182880"/>
          </a:xfrm>
          <a:custGeom>
            <a:avLst/>
            <a:gdLst/>
            <a:ahLst/>
            <a:rect l="0" t="0" r="r" b="b"/>
            <a:pathLst>
              <a:path fill="none" w="535" h="508">
                <a:moveTo>
                  <a:pt x="147" y="0"/>
                </a:moveTo>
                <a:lnTo>
                  <a:pt x="535" y="401"/>
                </a:lnTo>
                <a:lnTo>
                  <a:pt x="0" y="50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327400" y="5439600"/>
            <a:ext cx="317160" cy="302040"/>
          </a:xfrm>
          <a:custGeom>
            <a:avLst/>
            <a:gdLst/>
            <a:ahLst/>
            <a:rect l="0" t="0" r="r" b="b"/>
            <a:pathLst>
              <a:path w="881" h="839">
                <a:moveTo>
                  <a:pt x="881" y="0"/>
                </a:moveTo>
                <a:lnTo>
                  <a:pt x="0" y="0"/>
                </a:lnTo>
                <a:lnTo>
                  <a:pt x="0" y="0"/>
                </a:lnTo>
                <a:cubicBezTo>
                  <a:pt x="0" y="159"/>
                  <a:pt x="41" y="316"/>
                  <a:pt x="118" y="453"/>
                </a:cubicBezTo>
                <a:cubicBezTo>
                  <a:pt x="195" y="591"/>
                  <a:pt x="307" y="706"/>
                  <a:pt x="440" y="786"/>
                </a:cubicBezTo>
                <a:cubicBezTo>
                  <a:pt x="475" y="806"/>
                  <a:pt x="510" y="824"/>
                  <a:pt x="546" y="839"/>
                </a:cubicBezTo>
                <a:lnTo>
                  <a:pt x="88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1487520" y="230040"/>
            <a:ext cx="8802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  <a:ea typeface="Arial Narrow"/>
              </a:rPr>
              <a:t>»ç·Ê 26. º¹ÀâÇÑ RECURSIVE °ü°è¸¦ CONNECT BY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923760" y="2522520"/>
            <a:ext cx="1770120" cy="2968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í°´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¯È¿±â°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áÁ¦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»ç¿ë°³½Ã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ÃÖÁ¾Ä«µå±¸º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ÌÀüÄ«µå±¸º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930240" y="3054240"/>
            <a:ext cx="1749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482760" y="5753160"/>
            <a:ext cx="1074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Àç¹ß±ÞµÇ¾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2089080" y="5781600"/>
            <a:ext cx="1252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¡Á·Ä«µå·Î½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653080" y="5538960"/>
            <a:ext cx="598320" cy="0"/>
          </a:xfrm>
          <a:prstGeom prst="line">
            <a:avLst/>
          </a:prstGeom>
          <a:ln w="126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 flipV="1">
            <a:off x="5559480" y="3371760"/>
            <a:ext cx="695160" cy="2165400"/>
          </a:xfrm>
          <a:prstGeom prst="line">
            <a:avLst/>
          </a:prstGeom>
          <a:ln w="126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548320" y="3355920"/>
            <a:ext cx="3056040" cy="130032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5621400" y="4665600"/>
            <a:ext cx="2911320" cy="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616720" y="4670280"/>
            <a:ext cx="2930400" cy="44640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5649840" y="5110200"/>
            <a:ext cx="2900520" cy="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707000" y="5538960"/>
            <a:ext cx="542880" cy="0"/>
          </a:xfrm>
          <a:prstGeom prst="line">
            <a:avLst/>
          </a:prstGeom>
          <a:ln w="255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4683240" y="5095800"/>
            <a:ext cx="542880" cy="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3692520" y="4994280"/>
            <a:ext cx="1170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ÖÁ¾Ä«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3673440" y="5389560"/>
            <a:ext cx="11700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ÖÁ¾Ä«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£±â½ÃÀ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824360" y="311796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184320" y="1114560"/>
            <a:ext cx="9634680" cy="118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Ñ Å×ÀÌºíÀÌ µÎ °³ÀÇ RECURSIVE °ü°è¸¦ °¡Áø °æ¿ì CONNECT BY¸¦ È°¿ëÇÏ¿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Ï³ªÀÇ SQL·Î ÇØ°áÇÏ±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¾îÁø¼ö</dc:creator>
  <dc:description/>
  <dc:language>en-US</dc:language>
  <cp:lastModifiedBy>¾îÁø¼ö</cp:lastModifiedBy>
  <cp:revision>0</cp:revision>
  <dc:subject/>
  <dc:title>½½¶óÀÌµå Á¦¸ñ ¾øÀ½</dc:title>
</cp:coreProperties>
</file>