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ccccff"/>
              </a:buClr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7391520" y="6324480"/>
            <a:ext cx="115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Page </a:t>
            </a:r>
            <a:fld id="{2923869C-EEE6-4095-8D1B-17FB0181E200}" type="slidenum">
              <a:rPr b="0" lang="ko-KR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857160" cy="57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152388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Comic Sans MS"/>
              </a:rPr>
              <a:t>제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13</a:t>
            </a:r>
            <a:r>
              <a:rPr b="1" lang="zh-CN" sz="5400" spc="-1" strike="noStrike">
                <a:solidFill>
                  <a:srgbClr val="3333cc"/>
                </a:solidFill>
                <a:latin typeface="Comic Sans MS"/>
              </a:rPr>
              <a:t>장</a:t>
            </a:r>
            <a:br>
              <a:rPr sz="5400"/>
            </a:br>
            <a:r>
              <a:rPr b="1" lang="zh-CN" sz="5400" spc="-1" strike="noStrike">
                <a:solidFill>
                  <a:srgbClr val="3333cc"/>
                </a:solidFill>
                <a:latin typeface="Comic Sans MS"/>
              </a:rPr>
              <a:t>병렬처리 시스템 운영체제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81280" y="4191120"/>
            <a:ext cx="1962360" cy="1271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rot="19558200">
            <a:off x="2207880" y="387792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컴퓨터 운영체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90840" y="32860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40800">
            <a:off x="5001120" y="3884400"/>
            <a:ext cx="2670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Operating Sys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병렬처리 시스템의 종류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멀티프로세서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multiprocessor)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파이프라인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pipeline)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배열 프로세서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array processo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벡터 프로세서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vector processo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ystolic Array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uperscalar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데이터플로우 컴퓨터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dataflow compute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멀티프로세서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lynn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분류의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MD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에 속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ghtly-coupled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 가짐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때에 따라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osely-coupled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 가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프로세서들간 상호연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nterconnection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ared bus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형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ossbar switch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형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ltistage interconnection network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형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ypercube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형태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대표적인 문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캐쉬 일치성 문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ache coherency proble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2590920"/>
            <a:ext cx="655344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632400">
            <a:off x="6314760" y="3631680"/>
            <a:ext cx="690480" cy="406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21145200">
            <a:off x="3276720" y="3287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20400000">
            <a:off x="2356920" y="355608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27816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57400" y="4267080"/>
            <a:ext cx="5181480" cy="7621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connection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09680" y="3049560"/>
            <a:ext cx="533520" cy="5335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2744640"/>
            <a:ext cx="533160" cy="5335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2744640"/>
            <a:ext cx="533520" cy="5335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3049560"/>
            <a:ext cx="533160" cy="5335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57800" y="3200400"/>
            <a:ext cx="914400" cy="152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43200" y="39625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365760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8320" y="3657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400440" y="40384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62520" y="5486400"/>
            <a:ext cx="1371600" cy="609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57400" y="2209680"/>
            <a:ext cx="50292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캐쉬 일치성 문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파이프라인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연산과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Monotype Sorts" charset="2"/>
              <a:buChar char="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나의 연산 과정을 여러 단계로 분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Monotype Sorts" charset="2"/>
              <a:buChar char="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 단계를 위한 하드웨어 유니트를 독립적으로 구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Monotype Sorts" charset="2"/>
              <a:buChar char="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 단계의 하드웨어 유니트를 순차적으로 연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Monotype Sorts" charset="2"/>
              <a:buChar char="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 단계의 하드웨어 유니트를 동시에 동작시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활용범위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명령어 파이프라인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instruction pipelin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연산 파이프라인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computation pipelin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5029200"/>
            <a:ext cx="701064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5257800"/>
            <a:ext cx="9144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it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19520" y="5257800"/>
            <a:ext cx="9144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it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67080" y="5257800"/>
            <a:ext cx="9144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it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34320" y="5257800"/>
            <a:ext cx="9144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it-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55627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33920" y="55627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8148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0080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4648320"/>
            <a:ext cx="457200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파이프 라인 개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523880" y="13716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8280" y="13716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13716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137160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19051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52680" y="19051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67080" y="190512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81480" y="19051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52680" y="24382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67080" y="2438280"/>
            <a:ext cx="914400" cy="3812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24382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24382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297180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81480" y="29718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5880" y="29718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29718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55960" y="138636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57760" y="198000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972160" y="251352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560" y="304704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219320"/>
            <a:ext cx="73152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762120"/>
            <a:ext cx="487656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명령어 파이프라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3657600"/>
            <a:ext cx="7010640" cy="259092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명령어 사이클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(instruction cycle)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에서 각 단계의 의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IF :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명령어 추출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instruction fetch)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단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ID :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명령어 해독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instruction decode)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및 피연산자 추출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operand fetch)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단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EX :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명령어 실행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instruction execute)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단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WB :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실행 결과를 다시 메모리에 적재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write-back)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하는 단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명령어 사이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하나의 명령 실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각 단계별로 소요 시간이 비슷하도록 시스템에 따라 구분 가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명령어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I1, I2, I3, I4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는 각각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WB, EX, ID, IF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단계에 존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각 단계를 처리하는 하드웨어 유니트들이 같이 작동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4267080"/>
            <a:ext cx="228600" cy="1295640"/>
          </a:xfrm>
          <a:custGeom>
            <a:avLst/>
            <a:gdLst>
              <a:gd name="textAreaLeft" fmla="*/ 35640 w 228600"/>
              <a:gd name="textAreaRight" fmla="*/ 200160 w 22860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배열 프로세서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개념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복수 개의 처리 요소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PE : Processing Element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존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나의 제어 장치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control unit)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에 의해 제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매 클럭마다 처리 요소들이 동일한 작업을 수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공간 병렬성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spatial parallelism)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을 활용하기에 적합한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예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) BSP, Illiac </a:t>
            </a:r>
            <a:r>
              <a:rPr b="1" lang="ko-KR" sz="2000" spc="-1" strike="noStrike">
                <a:solidFill>
                  <a:srgbClr val="000000"/>
                </a:solidFill>
                <a:latin typeface="Comic Sans MS"/>
              </a:rPr>
              <a:t>Ⅳ,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DAP-610, CM-2, MP-1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벡터 프로세서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일종의 파이프라인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벡터 레지스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vector register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사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시간 병렬성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temporal parallelism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활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예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STAR-100, Cray-1, Cray-X/MP, VP-200, SX-2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ystolic Array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rnegie-Mellon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대학의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ung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교수에 의해 제안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배열 프로세서와 유사한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처리 요소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PE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들의 연결 방법이 고정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경계 프로세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boundary processor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에서만 메모리 접근 가능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세서와 메모리 간의 병목현상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bottleneck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해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4114800"/>
            <a:ext cx="685800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5105520"/>
            <a:ext cx="9144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E-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90920" y="5105520"/>
            <a:ext cx="9144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E-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5105520"/>
            <a:ext cx="9144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E-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5105520"/>
            <a:ext cx="12189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38680" y="5105520"/>
            <a:ext cx="9144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E-(n-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53080" y="5105520"/>
            <a:ext cx="9144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E-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00600" y="53341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81280" y="4267080"/>
            <a:ext cx="198144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62720" y="4495680"/>
            <a:ext cx="2133360" cy="838440"/>
          </a:xfrm>
          <a:custGeom>
            <a:avLst/>
            <a:gdLst/>
            <a:ahLst/>
            <a:rect l="l" t="t" r="r" b="b"/>
            <a:pathLst>
              <a:path w="1344" h="1104">
                <a:moveTo>
                  <a:pt x="1200" y="1104"/>
                </a:moveTo>
                <a:lnTo>
                  <a:pt x="1344" y="1104"/>
                </a:lnTo>
                <a:lnTo>
                  <a:pt x="134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447920" y="4495680"/>
            <a:ext cx="2133360" cy="838440"/>
          </a:xfrm>
          <a:custGeom>
            <a:avLst/>
            <a:gdLst/>
            <a:ahLst/>
            <a:rect l="l" t="t" r="r" b="b"/>
            <a:pathLst>
              <a:path w="1344" h="1104">
                <a:moveTo>
                  <a:pt x="1200" y="1104"/>
                </a:moveTo>
                <a:lnTo>
                  <a:pt x="1344" y="1104"/>
                </a:lnTo>
                <a:lnTo>
                  <a:pt x="134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96200" y="5562720"/>
            <a:ext cx="1123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ou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19280" y="5562720"/>
            <a:ext cx="1123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ou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71800" y="3657600"/>
            <a:ext cx="32004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Systolic Array </a:t>
            </a:r>
            <a:r>
              <a:rPr b="0" lang="zh-CN" sz="1600" spc="-1" strike="noStrike">
                <a:solidFill>
                  <a:srgbClr val="3333cc"/>
                </a:solidFill>
                <a:latin typeface="Comic Sans MS"/>
              </a:rPr>
              <a:t>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uperscalar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프로세서 내에 복수 개의 연산 장치 존재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연산 장치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ALU : Arithmetic Logic Uni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파이프라인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매 사이클마다 하나 이상의 명령어들을 동시 실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예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IBM PC/Penti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523880" y="16765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38280" y="16765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16765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67080" y="167652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438280" y="32767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52680" y="32767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67080" y="327672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81480" y="32767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2680" y="38098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67080" y="3809880"/>
            <a:ext cx="914400" cy="3812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81480" y="38098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5880" y="38098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267080" y="487692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81480" y="48769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5880" y="48769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10280" y="48769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55960" y="169128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57760" y="335160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2160" y="388512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6560" y="495180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1523880"/>
            <a:ext cx="716256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09680" y="990720"/>
            <a:ext cx="472464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Superscalar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구조에서의 명령 실행 과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19200" y="22096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33600" y="22096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48000" y="22096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62400" y="2209680"/>
            <a:ext cx="914400" cy="3812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51280" y="222444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38280" y="27432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52680" y="27432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67080" y="274320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1480" y="27432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57760" y="281844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52680" y="43434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434340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181480" y="43434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95880" y="43434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67080" y="5410080"/>
            <a:ext cx="914400" cy="3812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81480" y="54100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5880" y="54100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10280" y="54100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72160" y="441864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86560" y="548532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병렬처리 시스템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복수개의 프로세서를 두어 동시에 여러 작업을 수행할 수 있도록 구성된 컴퓨터 시스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분류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osely-coupled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ghtly-coupled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데이타 플로우 컴퓨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비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폰노이만 구조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Non Von Neumann Architectur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피연산자들이 모두 이용 가능해지는 순간 명령어가 실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firing rule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되도록 하는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명령어 처리 순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데이터 종속성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data dependency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기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데이터플로우 그래프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dataflow graph)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에 의해 표현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fine-grain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수준의 병렬성 이용에 적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새로운 프로그래밍 언어와 컴파일러가 필요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상호연결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hared b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Single shared bu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Multiple shared bu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Corssbar switch matri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Tre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Hypercub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Multistage interconnection net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공유 버스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프로세서간 통신 버스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bus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공동 사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상호간 메시지 교환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특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새로운 장치 추가 용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목현상 발생 가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신뢰성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reliability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문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의 단순성과 효율성으로 많이 사용되는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종류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단일 공유 버스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single shared bu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다중 공유 버스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ultiple shared bu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신뢰성 및 효율성 증진 위해 여러 개의 버스 사용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838080" y="1600200"/>
            <a:ext cx="75438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752480" y="3657600"/>
            <a:ext cx="5715000" cy="0"/>
          </a:xfrm>
          <a:prstGeom prst="line">
            <a:avLst/>
          </a:prstGeom>
          <a:ln w="7632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0" y="4648320"/>
            <a:ext cx="114300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33720" y="2057400"/>
            <a:ext cx="609480" cy="609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2057400"/>
            <a:ext cx="609840" cy="609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48320" y="2057400"/>
            <a:ext cx="609480" cy="609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24480" y="2057400"/>
            <a:ext cx="609840" cy="609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9880" y="4648320"/>
            <a:ext cx="114300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15000" y="4648320"/>
            <a:ext cx="114300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79960" y="4952880"/>
            <a:ext cx="4827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62720" y="2362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438280" y="2666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2666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952880" y="2666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629400" y="2666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95480" y="3657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43400" y="3657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248520" y="3657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84960" y="368784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hared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971800" y="1066680"/>
            <a:ext cx="32004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단일 공유 버스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895480" y="838080"/>
            <a:ext cx="335304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다중 공유 버스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371600"/>
            <a:ext cx="77724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219320" y="3505320"/>
            <a:ext cx="6858000" cy="0"/>
          </a:xfrm>
          <a:prstGeom prst="line">
            <a:avLst/>
          </a:prstGeom>
          <a:ln w="7632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133720" y="5334120"/>
            <a:ext cx="121896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57400" y="1523880"/>
            <a:ext cx="609480" cy="609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76720" y="1523880"/>
            <a:ext cx="609480" cy="609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0" y="1523880"/>
            <a:ext cx="609480" cy="609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48520" y="1523880"/>
            <a:ext cx="609480" cy="609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733920" y="5334120"/>
            <a:ext cx="121896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38680" y="5334120"/>
            <a:ext cx="121932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29200" y="5638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86400" y="18288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133720" y="2057400"/>
            <a:ext cx="0" cy="8380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67560" y="3587760"/>
            <a:ext cx="207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ltiple shared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19320" y="2971800"/>
            <a:ext cx="6858000" cy="0"/>
          </a:xfrm>
          <a:prstGeom prst="line">
            <a:avLst/>
          </a:prstGeom>
          <a:ln w="7632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4419720"/>
            <a:ext cx="6858000" cy="0"/>
          </a:xfrm>
          <a:prstGeom prst="line">
            <a:avLst/>
          </a:prstGeom>
          <a:ln w="7632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810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31520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2133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90920" y="20574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35268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05320" y="2133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20574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4832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00600" y="2133720"/>
            <a:ext cx="0" cy="1295280"/>
          </a:xfrm>
          <a:prstGeom prst="line">
            <a:avLst/>
          </a:prstGeom>
          <a:ln w="9360">
            <a:solidFill>
              <a:srgbClr val="6600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105520" y="20574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32448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77120" y="2133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781680" y="2057400"/>
            <a:ext cx="0" cy="2286000"/>
          </a:xfrm>
          <a:prstGeom prst="line">
            <a:avLst/>
          </a:prstGeom>
          <a:ln w="12600">
            <a:solidFill>
              <a:srgbClr val="00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7432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71800" y="2971800"/>
            <a:ext cx="0" cy="23623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3848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14800" y="3505320"/>
            <a:ext cx="0" cy="1828800"/>
          </a:xfrm>
          <a:prstGeom prst="line">
            <a:avLst/>
          </a:prstGeom>
          <a:ln w="9360">
            <a:solidFill>
              <a:srgbClr val="6600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343400" y="29718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943600" y="4419720"/>
            <a:ext cx="0" cy="914400"/>
          </a:xfrm>
          <a:prstGeom prst="line">
            <a:avLst/>
          </a:prstGeom>
          <a:ln w="12600">
            <a:solidFill>
              <a:srgbClr val="00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1992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29718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크로스바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스위치 행렬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각 메모리 모듈에 접근 가능한 독립적인 경로 제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메모리 모듈의 수만큼 버스 존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두 개 이상의 메모리에 대한 동시 접근 가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크로스바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스위치 하드웨어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crossbar-switch hardwar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세서 버스와 메모리 버스 교차 지점에 위치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충돌 해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onflict resolution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문제 담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여러 프로세서들의 한 메모리 모듈에 대한 동시 접근 해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크로스바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스위치 하드웨어의 고비용 문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대량의 병행성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assive parallelism)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이 요구되는 환경에 부적합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219320" y="1523880"/>
            <a:ext cx="6705360" cy="45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76520" y="1709640"/>
            <a:ext cx="76212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772160" y="1709640"/>
            <a:ext cx="7617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76920" y="1709640"/>
            <a:ext cx="76212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52640" y="2852640"/>
            <a:ext cx="685800" cy="60984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52640" y="3733920"/>
            <a:ext cx="685800" cy="6094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52640" y="5334120"/>
            <a:ext cx="685800" cy="6094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638440" y="3157560"/>
            <a:ext cx="4419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048440" y="2243160"/>
            <a:ext cx="0" cy="324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638440" y="5638680"/>
            <a:ext cx="4419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638440" y="4038480"/>
            <a:ext cx="4419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63880" y="2243160"/>
            <a:ext cx="0" cy="3319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56280" y="2243160"/>
            <a:ext cx="0" cy="3319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05520" y="54864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90552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000760" y="3005280"/>
            <a:ext cx="30456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905520" y="300528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00076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00760" y="54864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05120" y="54864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70512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05120" y="300528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15160" y="193824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5756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172200" y="48006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170680" y="4179960"/>
            <a:ext cx="10875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wit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404800" y="1774800"/>
            <a:ext cx="10051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80120" y="2503440"/>
            <a:ext cx="12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19520" y="990720"/>
            <a:ext cx="350496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크로스바</a:t>
            </a: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-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스위치 행렬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트리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프로세서들을 트리 구조 형태의 상호연결 네트워크로 연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특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부모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자식 관계의 프로세서들간 통신 시간 빠름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서로 다른 부모에 속한 프로세서들간 통신 시간 느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t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트리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트리 구조의 단점 보안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트리 구조의 상위 층에 노드들간의 통신 선로의 수 증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크로스바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스위치 행렬 구조에 비해 구현 비용 낮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nking Machine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사의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M-5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시스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990720" y="1523880"/>
            <a:ext cx="716256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267080" y="1676520"/>
            <a:ext cx="6098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90920" y="251460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943600" y="251460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752480" y="3733920"/>
            <a:ext cx="6098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105520" y="37339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429000" y="37339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781680" y="3733920"/>
            <a:ext cx="6098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3372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4812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09880" y="5105520"/>
            <a:ext cx="6098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24280" y="5105520"/>
            <a:ext cx="6098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8640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40080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16292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236160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0040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403776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87692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571428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739080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81080" y="2666880"/>
            <a:ext cx="609840" cy="1067040"/>
          </a:xfrm>
          <a:custGeom>
            <a:avLst/>
            <a:gdLst/>
            <a:ahLst/>
            <a:rect l="l" t="t" r="r" b="b"/>
            <a:pathLst>
              <a:path w="384" h="672">
                <a:moveTo>
                  <a:pt x="0" y="672"/>
                </a:move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57400" y="2743200"/>
            <a:ext cx="533520" cy="990720"/>
          </a:xfrm>
          <a:custGeom>
            <a:avLst/>
            <a:gdLst/>
            <a:ahLst/>
            <a:rect l="l" t="t" r="r" b="b"/>
            <a:pathLst>
              <a:path w="288" h="624">
                <a:moveTo>
                  <a:pt x="0" y="624"/>
                </a:moveTo>
                <a:lnTo>
                  <a:pt x="0" y="0"/>
                </a:lnTo>
                <a:lnTo>
                  <a:pt x="2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3199680" y="2666880"/>
            <a:ext cx="609480" cy="1067040"/>
          </a:xfrm>
          <a:custGeom>
            <a:avLst/>
            <a:gdLst/>
            <a:ahLst/>
            <a:rect l="l" t="t" r="r" b="b"/>
            <a:pathLst>
              <a:path w="384" h="672">
                <a:moveTo>
                  <a:pt x="0" y="672"/>
                </a:move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3200400" y="2743200"/>
            <a:ext cx="533520" cy="990720"/>
          </a:xfrm>
          <a:custGeom>
            <a:avLst/>
            <a:gdLst/>
            <a:ahLst/>
            <a:rect l="l" t="t" r="r" b="b"/>
            <a:pathLst>
              <a:path w="288" h="624">
                <a:moveTo>
                  <a:pt x="0" y="624"/>
                </a:moveTo>
                <a:lnTo>
                  <a:pt x="0" y="0"/>
                </a:lnTo>
                <a:lnTo>
                  <a:pt x="2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4120" y="2666880"/>
            <a:ext cx="609480" cy="1067040"/>
          </a:xfrm>
          <a:custGeom>
            <a:avLst/>
            <a:gdLst/>
            <a:ahLst/>
            <a:rect l="l" t="t" r="r" b="b"/>
            <a:pathLst>
              <a:path w="384" h="672">
                <a:moveTo>
                  <a:pt x="0" y="672"/>
                </a:move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410080" y="2743200"/>
            <a:ext cx="533520" cy="990720"/>
          </a:xfrm>
          <a:custGeom>
            <a:avLst/>
            <a:gdLst/>
            <a:ahLst/>
            <a:rect l="l" t="t" r="r" b="b"/>
            <a:pathLst>
              <a:path w="288" h="624">
                <a:moveTo>
                  <a:pt x="0" y="624"/>
                </a:moveTo>
                <a:lnTo>
                  <a:pt x="0" y="0"/>
                </a:lnTo>
                <a:lnTo>
                  <a:pt x="2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6553080" y="2666880"/>
            <a:ext cx="609840" cy="1067040"/>
          </a:xfrm>
          <a:custGeom>
            <a:avLst/>
            <a:gdLst/>
            <a:ahLst/>
            <a:rect l="l" t="t" r="r" b="b"/>
            <a:pathLst>
              <a:path w="384" h="672">
                <a:moveTo>
                  <a:pt x="0" y="672"/>
                </a:move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6553080" y="2743200"/>
            <a:ext cx="533520" cy="990720"/>
          </a:xfrm>
          <a:custGeom>
            <a:avLst/>
            <a:gdLst/>
            <a:ahLst/>
            <a:rect l="l" t="t" r="r" b="b"/>
            <a:pathLst>
              <a:path w="288" h="624">
                <a:moveTo>
                  <a:pt x="0" y="624"/>
                </a:moveTo>
                <a:lnTo>
                  <a:pt x="0" y="0"/>
                </a:lnTo>
                <a:lnTo>
                  <a:pt x="2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95480" y="1828800"/>
            <a:ext cx="1371600" cy="68580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19520" y="1752480"/>
            <a:ext cx="1447560" cy="76212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71800" y="1905120"/>
            <a:ext cx="1295280" cy="60948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4876920" y="1828800"/>
            <a:ext cx="1371600" cy="68580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876200" y="1752480"/>
            <a:ext cx="1447560" cy="76212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876920" y="1905120"/>
            <a:ext cx="1295280" cy="60948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057400" y="990720"/>
            <a:ext cx="502920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fat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트리 구조 상호연결 네트워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하이퍼 큐브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매우 많은 프로세서들의 효과적인 상호연결 가능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ko-KR" sz="1800" spc="-1" strike="noStrike" baseline="30000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개의 프로세서들을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n-cube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형태로 연결시키는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하이퍼 큐브 구조의 효율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n-cube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형태에서 모든 프로세서들간의 통신 경로의 길이는   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이하임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Connection mach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16-dimensional hypercube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연결 형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65536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개의 프로세서 연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Intel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사의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iPSC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osely-coupled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시스템 환경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각 프로세서들의 독립적 운영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각 프로세서들이 자신의 메모리를 별도로 가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세서들간의 통신 가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메시지 전달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essage passing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기법 사용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사용 목적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6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세서간 화일 전송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부하 균형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load balancing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609480" y="1371600"/>
            <a:ext cx="792504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05120" y="251460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14400" y="31240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1218960" y="27432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25146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209680" y="31240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514240" y="27432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09680" y="2590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19320" y="32767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05120" y="388620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914400" y="44956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1218960" y="41148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200400" y="38862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09680" y="44956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2514240" y="41148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09680" y="3962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19320" y="4648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52680" y="2743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066680" y="3352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62320" y="3352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057400" y="2743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029200" y="15238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038480" y="213372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4343040" y="17524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324480" y="15238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34120" y="213372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5638320" y="17524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34120" y="1600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43400" y="2286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029200" y="28954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038480" y="350532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4343040" y="31240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324480" y="28954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334120" y="350532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5638320" y="31240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334120" y="297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343400" y="3657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477120" y="1752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191120" y="2362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486400" y="2362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181480" y="1752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629400" y="1752480"/>
            <a:ext cx="1371600" cy="198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629400" y="3124080"/>
            <a:ext cx="1371600" cy="198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34120" y="1752480"/>
            <a:ext cx="1371600" cy="198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638680" y="2362320"/>
            <a:ext cx="1371600" cy="1981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34120" y="3124080"/>
            <a:ext cx="1371600" cy="198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343400" y="2362320"/>
            <a:ext cx="1371600" cy="1981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343400" y="3733920"/>
            <a:ext cx="1371600" cy="1981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05720" y="373392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15000" y="43434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6019560" y="39625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001000" y="373392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10280" y="43434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7314840" y="39625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010280" y="3809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19920" y="4495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05720" y="510552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715000" y="57150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6019560" y="53341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001000" y="510552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10280" y="57150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7314840" y="53341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010280" y="5181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19920" y="5867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153280" y="3962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867280" y="4572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162920" y="4572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58000" y="3962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200400" y="838080"/>
            <a:ext cx="27432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Comic Sans MS"/>
              </a:rPr>
              <a:t>하이퍼 큐브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다단계 상호연결 네트워크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스위치들이 여러 단계로 접속되어 구성되는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각 스위치들은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가지 접속 모드로 구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직진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direc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교차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cros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위 방송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lower broadcas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상위 방송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upper broadcas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동적 연결망 구성 가능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메커니즘이 매우 복잡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BBN Butterfly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1066680" y="1676520"/>
            <a:ext cx="701064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666880" y="1981080"/>
            <a:ext cx="60984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666880" y="2971800"/>
            <a:ext cx="60984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666880" y="3962520"/>
            <a:ext cx="60984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666880" y="4952880"/>
            <a:ext cx="60984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19720" y="198108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419720" y="297180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419720" y="396252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495288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76720" y="2209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276720" y="2438280"/>
            <a:ext cx="114300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172200" y="198108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172200" y="297180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396252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172200" y="495288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3276720" y="243792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276720" y="342900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76720" y="4419720"/>
            <a:ext cx="11430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3276720" y="3429000"/>
            <a:ext cx="11430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76720" y="5410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29200" y="2209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029200" y="3429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029200" y="4191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029200" y="5410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5029200" y="243792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029200" y="24382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5029200" y="4419720"/>
            <a:ext cx="11430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29200" y="4419720"/>
            <a:ext cx="11430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057400" y="2209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057400" y="2438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057400" y="3200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057400" y="3429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057400" y="4191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057400" y="4419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057400" y="5181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057400" y="5410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7816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781680" y="2438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781680" y="3200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781680" y="3429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781680" y="4191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781680" y="4419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781680" y="51814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781680" y="5410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3276720" y="320040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514600" y="1066680"/>
            <a:ext cx="41148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다단계 상호연결 네트워크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개념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병렬처리를 위한 선행 작업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체적인 병렬수행 가능 부분 추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"/>
          <p:cNvSpPr/>
          <p:nvPr/>
        </p:nvSpPr>
        <p:spPr>
          <a:xfrm>
            <a:off x="1295280" y="2971800"/>
            <a:ext cx="655344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133720" y="3200400"/>
            <a:ext cx="2438280" cy="762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133720" y="4876920"/>
            <a:ext cx="2438280" cy="761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133720" y="3962520"/>
            <a:ext cx="243828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133720" y="4419720"/>
            <a:ext cx="243828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786760" y="57150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gram 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352680" y="3429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352680" y="51055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019920" y="3200400"/>
            <a:ext cx="1371600" cy="8380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9920" y="4876920"/>
            <a:ext cx="1371600" cy="8380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4572000" y="365760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572000" y="464832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24080" y="2514600"/>
            <a:ext cx="289584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프로그램의 병렬성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개념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병렬 수행 가능 부분 검출 기법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병렬성 명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explicit parallelism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그래머가 병렬 수행 가능 부분들을 명시하도록 하는 기법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요구사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그래밍 언어에 병렬성 지원을 위한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nguage construct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가 제공되어야 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컴파일러 기능 확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문제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그램의 모든 병렬 수행 가능 부분들의 검출 어려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성을 잘못 검출할 가능성 존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 프로그램의 디버깅 어려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 프로그램의 정확성 증명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orrectness proof, verification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어려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실현 가능성에 한계점 노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개념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병렬 수행 가능 부분 검출 기법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병렬성 자동 검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automatic detection of parallelism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그래머는 순차적 프로그램 작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컴파일러 등의 소프트웨어가 프로그램을 분석하여 병렬 수행  가능 부분들을 자동 검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기계어 코드 생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성 분석 및 검출 부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그래머의 부담 전혀 없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컴파일러 등의 소프트웨어에서 이루어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자동 검출 기법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루프 분배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loop distribution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지정된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op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의 모든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stance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들간에 종속성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dependency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이 존재하지 않는 경우 각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op instance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들을 병렬 실행시킬 수 있도록 하는 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루프 영역에 대한 병렬성 검출의 중요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루프 영역이 프로그램의 총 실행 시간의 대부분을 차지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문장들간의 종속성” 의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한 문장의 실행 결과가 다른 문장의 실행에 영향을 미칠 수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있는가 하는 문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219320" y="1981080"/>
            <a:ext cx="3429000" cy="2286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648320" y="1981080"/>
            <a:ext cx="3429000" cy="2286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219320" y="1523880"/>
            <a:ext cx="3429000" cy="457200"/>
          </a:xfrm>
          <a:prstGeom prst="rect">
            <a:avLst/>
          </a:pr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프로그램상의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648320" y="1523880"/>
            <a:ext cx="3429000" cy="457200"/>
          </a:xfrm>
          <a:prstGeom prst="rect">
            <a:avLst/>
          </a:pr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op instance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들의 분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905120" y="2209680"/>
            <a:ext cx="2438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i = 1 to 5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[i] = B[i] + C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208480" y="2057400"/>
            <a:ext cx="2335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1] </a:t>
            </a:r>
            <a:r>
              <a:rPr b="0" i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1] + C[1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2] </a:t>
            </a:r>
            <a:r>
              <a:rPr b="0" i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2] + C[2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3] </a:t>
            </a:r>
            <a:r>
              <a:rPr b="0" i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3] + C[3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4] </a:t>
            </a:r>
            <a:r>
              <a:rPr b="0" i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4] + C[4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5] </a:t>
            </a:r>
            <a:r>
              <a:rPr b="0" i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5] + C[5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200400" y="990720"/>
            <a:ext cx="274320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Loop distribution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76520" y="4800600"/>
            <a:ext cx="6400800" cy="76212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op instance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인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문장들간에는 상호 종속성이 존재하지 않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때문에 이들의 병렬 실행 가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219320" y="4800600"/>
            <a:ext cx="228600" cy="762120"/>
          </a:xfrm>
          <a:custGeom>
            <a:avLst/>
            <a:gdLst>
              <a:gd name="textAreaLeft" fmla="*/ 35640 w 228600"/>
              <a:gd name="textAreaRight" fmla="*/ 200160 w 228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219320" y="1981080"/>
            <a:ext cx="3429000" cy="2286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648320" y="1981080"/>
            <a:ext cx="3429000" cy="2286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219320" y="1523880"/>
            <a:ext cx="34290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프로그램상의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648320" y="1523880"/>
            <a:ext cx="34290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op instance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들의 분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2057400"/>
            <a:ext cx="2819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[1]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[2]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i = 3 to 5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[i] = A[i-1] + A[i-2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952880" y="2057400"/>
            <a:ext cx="2819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루프 분배 불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133720" y="990720"/>
            <a:ext cx="502920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Loop distribution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이 불가능한 경우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6520" y="4800600"/>
            <a:ext cx="6400800" cy="91440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문장들간에 종속성 존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앞 문장의 실행 결과가 다음 문장의 실행에 영향을 미치게 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루프의 분배 불가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219320" y="4876920"/>
            <a:ext cx="228600" cy="761760"/>
          </a:xfrm>
          <a:custGeom>
            <a:avLst/>
            <a:gdLst>
              <a:gd name="textAreaLeft" fmla="*/ 35640 w 228600"/>
              <a:gd name="textAreaRight" fmla="*/ 200160 w 2286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자동 검출 기법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트리 높이 축소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(tree height reduciton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프로그램상의 하나의 문장 내에서 병렬 수행 가능 부분들을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검출하고 이를 기계어 코드의 생성에 반영시키는 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대수식에서 만족되는 교환 법칙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결합 법칙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배분 법칙 등 이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주의 사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교환 법칙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결합 법칙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배분 법칙의 성립 여부 확인 필요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컴퓨터 시스템과 같은 유한 상태 기계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final state machine)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에서는 결합 법칙과 배분 법칙이 성립하지 않는 경우 존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이 경우 트리 높이 축소 기법의 사용 불가능하게 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43000" y="1523880"/>
            <a:ext cx="685800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5181480"/>
            <a:ext cx="1143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5334120"/>
            <a:ext cx="38124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5334120"/>
            <a:ext cx="30456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81480" y="5181480"/>
            <a:ext cx="1143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57800" y="5334120"/>
            <a:ext cx="38088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5334120"/>
            <a:ext cx="30492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55627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248520" y="2133720"/>
            <a:ext cx="1143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1752480"/>
            <a:ext cx="1143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2133720"/>
            <a:ext cx="1143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3276720"/>
            <a:ext cx="518184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connection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2286000"/>
            <a:ext cx="38088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2209680"/>
            <a:ext cx="914400" cy="1526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38280" y="28195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2520" y="2438280"/>
            <a:ext cx="7596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429000" y="43434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553080" y="2819520"/>
            <a:ext cx="15264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43434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2286000"/>
            <a:ext cx="30492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0968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1905120"/>
            <a:ext cx="38124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62520" y="1905120"/>
            <a:ext cx="30456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33920" y="2057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24480" y="2286000"/>
            <a:ext cx="38124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34320" y="2286000"/>
            <a:ext cx="30456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057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57400" y="914400"/>
            <a:ext cx="5029200" cy="38088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Loosely-coupled </a:t>
            </a:r>
            <a:r>
              <a:rPr b="1" lang="zh-CN" sz="1800" spc="-1" strike="noStrike">
                <a:solidFill>
                  <a:srgbClr val="3333cc"/>
                </a:solidFill>
                <a:latin typeface="Comic Sans MS"/>
              </a:rPr>
              <a:t>시스템 구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4648320" y="1295280"/>
            <a:ext cx="323352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243240" y="1447920"/>
            <a:ext cx="38088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633760" y="2286000"/>
            <a:ext cx="38088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852720" y="2286000"/>
            <a:ext cx="38124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100240" y="3352680"/>
            <a:ext cx="38088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166920" y="3352680"/>
            <a:ext cx="38124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719360" y="4495680"/>
            <a:ext cx="38088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405160" y="4495680"/>
            <a:ext cx="38088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3" name=""/>
          <p:cNvCxnSpPr>
            <a:stCxn id="526" idx="3"/>
            <a:endCxn id="527" idx="0"/>
          </p:cNvCxnSpPr>
          <p:nvPr/>
        </p:nvCxnSpPr>
        <p:spPr>
          <a:xfrm flipH="1">
            <a:off x="2823840" y="1773360"/>
            <a:ext cx="475200" cy="5133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34" name=""/>
          <p:cNvCxnSpPr>
            <a:stCxn id="526" idx="5"/>
            <a:endCxn id="528" idx="0"/>
          </p:cNvCxnSpPr>
          <p:nvPr/>
        </p:nvCxnSpPr>
        <p:spPr>
          <a:xfrm>
            <a:off x="3568320" y="1773360"/>
            <a:ext cx="475560" cy="5133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35" name=""/>
          <p:cNvCxnSpPr>
            <a:stCxn id="527" idx="3"/>
            <a:endCxn id="529" idx="0"/>
          </p:cNvCxnSpPr>
          <p:nvPr/>
        </p:nvCxnSpPr>
        <p:spPr>
          <a:xfrm flipH="1">
            <a:off x="2289960" y="2611080"/>
            <a:ext cx="399240" cy="741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36" name=""/>
          <p:cNvCxnSpPr>
            <a:stCxn id="527" idx="5"/>
            <a:endCxn id="530" idx="0"/>
          </p:cNvCxnSpPr>
          <p:nvPr/>
        </p:nvCxnSpPr>
        <p:spPr>
          <a:xfrm>
            <a:off x="2958840" y="2611080"/>
            <a:ext cx="399240" cy="741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37" name=""/>
          <p:cNvCxnSpPr>
            <a:stCxn id="529" idx="3"/>
            <a:endCxn id="531" idx="0"/>
          </p:cNvCxnSpPr>
          <p:nvPr/>
        </p:nvCxnSpPr>
        <p:spPr>
          <a:xfrm flipH="1">
            <a:off x="1909080" y="3677760"/>
            <a:ext cx="246600" cy="8182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38" name=""/>
          <p:cNvCxnSpPr>
            <a:stCxn id="529" idx="5"/>
            <a:endCxn id="532" idx="0"/>
          </p:cNvCxnSpPr>
          <p:nvPr/>
        </p:nvCxnSpPr>
        <p:spPr>
          <a:xfrm>
            <a:off x="2425680" y="3677760"/>
            <a:ext cx="170640" cy="8182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39" name=""/>
          <p:cNvSpPr/>
          <p:nvPr/>
        </p:nvSpPr>
        <p:spPr>
          <a:xfrm>
            <a:off x="6129360" y="1600200"/>
            <a:ext cx="38088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367240" y="2438280"/>
            <a:ext cx="38124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891480" y="2438280"/>
            <a:ext cx="38088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910040" y="3505320"/>
            <a:ext cx="38124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824440" y="3505320"/>
            <a:ext cx="38124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434280" y="3505320"/>
            <a:ext cx="38088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348680" y="3505320"/>
            <a:ext cx="38088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6" name=""/>
          <p:cNvCxnSpPr>
            <a:stCxn id="539" idx="3"/>
            <a:endCxn id="540" idx="0"/>
          </p:cNvCxnSpPr>
          <p:nvPr/>
        </p:nvCxnSpPr>
        <p:spPr>
          <a:xfrm flipH="1">
            <a:off x="5557320" y="1925640"/>
            <a:ext cx="627840" cy="5133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47" name=""/>
          <p:cNvCxnSpPr>
            <a:stCxn id="540" idx="3"/>
            <a:endCxn id="542" idx="0"/>
          </p:cNvCxnSpPr>
          <p:nvPr/>
        </p:nvCxnSpPr>
        <p:spPr>
          <a:xfrm flipH="1">
            <a:off x="5100480" y="2763720"/>
            <a:ext cx="322920" cy="742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48" name=""/>
          <p:cNvCxnSpPr>
            <a:stCxn id="540" idx="5"/>
            <a:endCxn id="543" idx="0"/>
          </p:cNvCxnSpPr>
          <p:nvPr/>
        </p:nvCxnSpPr>
        <p:spPr>
          <a:xfrm>
            <a:off x="5692320" y="2763720"/>
            <a:ext cx="322920" cy="742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49" name=""/>
          <p:cNvCxnSpPr>
            <a:stCxn id="539" idx="5"/>
            <a:endCxn id="541" idx="0"/>
          </p:cNvCxnSpPr>
          <p:nvPr/>
        </p:nvCxnSpPr>
        <p:spPr>
          <a:xfrm>
            <a:off x="6454800" y="1925640"/>
            <a:ext cx="627840" cy="5133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50" name=""/>
          <p:cNvCxnSpPr>
            <a:stCxn id="541" idx="3"/>
            <a:endCxn id="544" idx="0"/>
          </p:cNvCxnSpPr>
          <p:nvPr/>
        </p:nvCxnSpPr>
        <p:spPr>
          <a:xfrm flipH="1">
            <a:off x="6624000" y="2763720"/>
            <a:ext cx="322920" cy="742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51" name=""/>
          <p:cNvCxnSpPr>
            <a:stCxn id="541" idx="5"/>
            <a:endCxn id="545" idx="0"/>
          </p:cNvCxnSpPr>
          <p:nvPr/>
        </p:nvCxnSpPr>
        <p:spPr>
          <a:xfrm>
            <a:off x="7216560" y="2763720"/>
            <a:ext cx="322920" cy="742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52" name=""/>
          <p:cNvSpPr/>
          <p:nvPr/>
        </p:nvSpPr>
        <p:spPr>
          <a:xfrm>
            <a:off x="2971800" y="762120"/>
            <a:ext cx="320040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트리 높이 축소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414440" y="1295280"/>
            <a:ext cx="3233880" cy="373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752480" y="5181480"/>
            <a:ext cx="6096240" cy="106704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((A + B) + C) + D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(A + B) + (C + 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트리상의 같은 레벨에 있는 연산을 병렬로 실행하는 경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연산 단계 줄일 수 있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프로그램의 실행 시간을 줄일 수 있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447920" y="5334120"/>
            <a:ext cx="228600" cy="838080"/>
          </a:xfrm>
          <a:custGeom>
            <a:avLst/>
            <a:gdLst>
              <a:gd name="textAreaLeft" fmla="*/ 35640 w 228600"/>
              <a:gd name="textAreaRight" fmla="*/ 200160 w 228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447920" y="4038480"/>
            <a:ext cx="6248160" cy="12956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자동 검출 기법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ver wait”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규칙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우선 프로그램 상에 조건부 종속성을 갖는 문장들을 병렬 실행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추후에 이에 대한 검토를 하도록 하는 방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장점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유휴 프로세서들 활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"/>
          <p:cNvSpPr/>
          <p:nvPr/>
        </p:nvSpPr>
        <p:spPr>
          <a:xfrm>
            <a:off x="2438280" y="4114800"/>
            <a:ext cx="441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 = 2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 = A + B * C;                           // 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 (K = 100) THEN L = 10;       // 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 = L + A * 3;                           // 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057400" y="3657600"/>
            <a:ext cx="50292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Never wait”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규칙 활용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752480" y="5486400"/>
            <a:ext cx="5943600" cy="68580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문장 ①과 문장 ③을 우선 병렬 실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문장 ②의 실행 결과에 따라 문장 ③의 재실행 여부 결정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447920" y="5486400"/>
            <a:ext cx="228600" cy="685800"/>
          </a:xfrm>
          <a:custGeom>
            <a:avLst/>
            <a:gdLst>
              <a:gd name="textAreaLeft" fmla="*/ 35640 w 228600"/>
              <a:gd name="textAreaRight" fmla="*/ 200160 w 2286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 프로그래밍을 위한 언어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parbegin/parend 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프로그램 내 특정 블럭의 문장들을 병렬로 실행시키는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사용되는 키워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par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여러 개의 병렬 제어 흐름으로 분열시키는 역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paren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다시 하나의 제어 흐름으로 병합하는 역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"/>
          <p:cNvSpPr/>
          <p:nvPr/>
        </p:nvSpPr>
        <p:spPr>
          <a:xfrm>
            <a:off x="1752480" y="4495680"/>
            <a:ext cx="6248520" cy="685800"/>
          </a:xfrm>
          <a:prstGeom prst="flowChartAlternateProcess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cf)  begin-end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블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  <a:ea typeface="굴림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  <a:ea typeface="굴림"/>
              </a:rPr>
              <a:t>블럭 내의 문장들을 순서대로 실행하도록 지시하는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1447920" y="2133720"/>
            <a:ext cx="6553080" cy="37335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47920" y="1066680"/>
            <a:ext cx="5867280" cy="381240"/>
          </a:xfrm>
          <a:prstGeom prst="flowChartAlternateProcess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-parend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블록 구조로 코딩한 결과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752480" y="1447920"/>
            <a:ext cx="6248520" cy="4572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 = (A + B) * (C + D) - (E / 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200400" y="2362320"/>
            <a:ext cx="33526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T1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A + B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T2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C +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T3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T1 * T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T4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E / 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T3 - T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 프로그래밍을 위한 언어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일반 프로그래밍 언어에서 구분자 역할로 사용되는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세미콜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;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을 키워드 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”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로 대치하여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앞 뒤 문장이 병렬로 실행되도록 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1447920" y="2057400"/>
            <a:ext cx="6553080" cy="25146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447920" y="1066680"/>
            <a:ext cx="5867280" cy="381240"/>
          </a:xfrm>
          <a:prstGeom prst="flowChartAlternateProcess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구조로 코딩한 결과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752480" y="1447920"/>
            <a:ext cx="6248520" cy="4572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 = (A + B) * (C + D) - (E / 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895480" y="2514600"/>
            <a:ext cx="39625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A + B and T2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C +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3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T1 * T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d T4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E / 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T3 - T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447920" y="5029200"/>
            <a:ext cx="6553080" cy="838080"/>
          </a:xfrm>
          <a:prstGeom prst="flowChartAlternateProcess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구조와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-parend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블록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병렬 프로그램을 표현하는 능력 면에서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equival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 프로그래밍을 위한 언어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fork/join/quit 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프로세스가 프로그램상의 임의의 지점에서 새로운 프로세스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생성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병합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marge)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킬 수 있도록 지원하는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가지 명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fork w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레이블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label) w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로 지정된 지점부터 실행하는 새로운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프로세스를 생성 시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이 명령 이후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두 프로세스가 병렬로 실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qui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현재 이 명령을 실행한 프로세스를 종료시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join t, w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정수형 변수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의 값을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만큼 감소시키고 그 결과가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인 경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레이블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w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지점으로 분기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branch)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는 명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분리불가능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indivisible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명령이어야 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4724280" y="2743200"/>
            <a:ext cx="335304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371600" y="2743200"/>
            <a:ext cx="335268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447920" y="914400"/>
            <a:ext cx="5867280" cy="380880"/>
          </a:xfrm>
          <a:prstGeom prst="flowChartAlternateProcess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k-join-quit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언어 구조로 코딩한 결과의 예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828800" y="1295280"/>
            <a:ext cx="6248520" cy="6858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-parend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블록 구조를 사용하여 코딩한 경우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fork-join-quit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구조를사용하여 코딩한 경우의 비교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362320" y="2895480"/>
            <a:ext cx="1981080" cy="266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S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S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S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S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207120" y="4648320"/>
            <a:ext cx="380880" cy="37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199200" y="4038480"/>
            <a:ext cx="457200" cy="60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446160" y="3244680"/>
            <a:ext cx="41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768280" y="4235400"/>
            <a:ext cx="41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S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674760" y="4235400"/>
            <a:ext cx="41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S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462000" y="4952880"/>
            <a:ext cx="41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S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6419520" y="457200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269040" y="4572000"/>
            <a:ext cx="15084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230880" y="3657600"/>
            <a:ext cx="36504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215040" y="2895480"/>
            <a:ext cx="380880" cy="3812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207120" y="5334120"/>
            <a:ext cx="380880" cy="37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435720" y="5022720"/>
            <a:ext cx="0" cy="311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435720" y="3276720"/>
            <a:ext cx="79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416680" y="59425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a)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프로그램 코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987160" y="5942520"/>
            <a:ext cx="101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다이어그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981080" y="2286000"/>
            <a:ext cx="518184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Comic Sans MS"/>
              </a:rPr>
              <a:t>parbegin-parend </a:t>
            </a:r>
            <a:r>
              <a:rPr b="1" lang="ko-KR" sz="1600" spc="-1" strike="noStrike">
                <a:solidFill>
                  <a:srgbClr val="3333cc"/>
                </a:solidFill>
                <a:latin typeface="Comic Sans MS"/>
              </a:rPr>
              <a:t>블록 구조를 사용한 코딩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1447920" y="2286000"/>
            <a:ext cx="6248160" cy="26668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962520" y="2819520"/>
            <a:ext cx="2743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k p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2; join n,p2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3; join n,p2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905120" y="1600200"/>
            <a:ext cx="533376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fork-join-quit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언어 구조를 이용한  코딩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508560" y="3936960"/>
            <a:ext cx="52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1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2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1447920" y="2286000"/>
            <a:ext cx="6553080" cy="3429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447920" y="1143000"/>
            <a:ext cx="5867280" cy="380880"/>
          </a:xfrm>
          <a:prstGeom prst="flowChartAlternateProcess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k-join-quit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언어 구조로 코딩한 결과의 예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752480" y="1523880"/>
            <a:ext cx="6248520" cy="4572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 = (A + B) * (C + D) - (E / 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743200" y="2514600"/>
            <a:ext cx="4343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k p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k p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A + B; join m, p4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2:     T2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C + D; join m, p4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4:     T3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T1 * T2; join n, p5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3:     T4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E / F; join n, p5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5:     K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T3 - T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tightly-coupled 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 환경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모든 프로세서들이 하나의 공유 메모리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shared memory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메모리 내의 하나의 운영체제가 시스템 전체 자원 관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스위칭 하드웨어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switching hardwar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ko-KR" sz="1800" spc="-1" strike="noStrike">
                <a:solidFill>
                  <a:srgbClr val="ff0000"/>
                </a:solidFill>
                <a:latin typeface="Comic Sans MS"/>
              </a:rPr>
              <a:t>•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프로세서들간 메모리 접근 경쟁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memory contention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해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BBN Butterfly, IBM 3090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etch-and-add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명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명령의 목적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공유 메모리 접근 경쟁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emory contention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문제 해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성능 저하 방지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명령의 기능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"/>
          <p:cNvSpPr/>
          <p:nvPr/>
        </p:nvSpPr>
        <p:spPr>
          <a:xfrm>
            <a:off x="1940040" y="3352680"/>
            <a:ext cx="5943600" cy="6858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940040" y="2971800"/>
            <a:ext cx="5943600" cy="3808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etch-and-add(s, 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666880" y="3352680"/>
            <a:ext cx="4226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crements shared variable s by i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s the original value of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5800" y="42670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스위칭 하드웨어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(switching hardware) 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사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여러 프로세서들로부터 수행되는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fetch-and-add()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명령에 대해 필요한 정보 보존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적절한 값을 반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실제로 공유 변수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값 증가 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 프로세서들이 실행한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값들을 모두 모아서 한 번에 증가시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990720" y="1752480"/>
            <a:ext cx="7315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62520" y="3200400"/>
            <a:ext cx="1431720" cy="1143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wit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371600" y="2133720"/>
            <a:ext cx="609480" cy="609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371600" y="2971800"/>
            <a:ext cx="609480" cy="609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371600" y="4648320"/>
            <a:ext cx="609480" cy="609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138680" y="5388120"/>
            <a:ext cx="12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981080" y="2438280"/>
            <a:ext cx="198144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981080" y="327672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1981080" y="4038480"/>
            <a:ext cx="198144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rot="20184600">
            <a:off x="2000520" y="4231800"/>
            <a:ext cx="184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fetch-and-add(s, k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1588200">
            <a:off x="2061360" y="2666520"/>
            <a:ext cx="18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etch-and-add(s, k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667800">
            <a:off x="2017080" y="3199680"/>
            <a:ext cx="18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etch-and-add(s, k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867280" y="3505320"/>
            <a:ext cx="214956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etch-and-add(s, 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394240" y="3733920"/>
            <a:ext cx="47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900040" y="4052880"/>
            <a:ext cx="208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K = k1 + k2 +         + k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151760" y="41911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90920" y="1143000"/>
            <a:ext cx="396216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fetch-and-add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명령의 실행 과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743200" y="3733920"/>
            <a:ext cx="0" cy="3045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1143000" y="2057400"/>
            <a:ext cx="3352680" cy="6858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752480" y="990720"/>
            <a:ext cx="5639040" cy="380880"/>
          </a:xfrm>
          <a:prstGeom prst="flowChartAlternateProcess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루프 프로그램 을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etch-and-add()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구조로 코딩한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447920" y="2209680"/>
            <a:ext cx="26668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i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1 to 100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[i]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B[i] + C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495680" y="2057400"/>
            <a:ext cx="3353040" cy="6858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800600" y="2209680"/>
            <a:ext cx="28494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3333cc"/>
                </a:solidFill>
                <a:latin typeface="Comic Sans MS"/>
              </a:rPr>
              <a:t>forall</a:t>
            </a:r>
            <a:r>
              <a:rPr b="1" lang="ko-KR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1 to 100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i]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i] + C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895480" y="1676520"/>
            <a:ext cx="335304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루프 프로그램 세그먼트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600200" y="3962520"/>
            <a:ext cx="5943600" cy="18288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200400" y="4114800"/>
            <a:ext cx="2666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fetchandadd(s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while (k &lt;= 100)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k]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k] + C[k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fetchandadd(s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905120" y="3581280"/>
            <a:ext cx="533376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fetch-and-add()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명령을 사용하여 코딩한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657600" y="2971800"/>
            <a:ext cx="1981080" cy="3049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cc00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914400" y="4114800"/>
            <a:ext cx="1905120" cy="7621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etch-and-add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명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장점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실행 프로세서의 수에 무관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프로세서 동적 추가 할당에 무관하게 정확한 결과 출력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실행 프로세서들의 상대적인 진행 속도에 무관하게 결과 얻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단점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스위칭 하드웨어 등의 요구로 추가 비용 소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멀티프로세서 운영체제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병렬처리 시스템 운영체제의 기능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일반 다중 프로그래밍 시스템의 운영체제 기능 포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task assignment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및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load balancing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기능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프로세서의 고장 및 복구에 따른 시스템 재구성 기능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reconfiguration capabilit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병렬 프로세스 또는 태스크 관리 기능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병렬 태스크 생성시 커널 자료 구조 갱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분할된 병렬 태스크들의 재병합시 동기화 위한 메커니즘 지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멀티프로세서 운영체제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멀티프로세서 운영체제의 분류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ster-slave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parate executives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mmetrical OS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멀티프로세서 운영체제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440" y="15112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매스터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슬레이브 구조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(master-slave organization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 내의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PE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들 중  하나를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master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로 지정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"/>
          <p:cNvSpPr/>
          <p:nvPr/>
        </p:nvSpPr>
        <p:spPr>
          <a:xfrm>
            <a:off x="1523880" y="2425680"/>
            <a:ext cx="6096240" cy="685800"/>
          </a:xfrm>
          <a:prstGeom prst="flowChartAlternateProcess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프로세서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사용자 프로세스 및 운영체제의 실행 권한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책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lave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프로세서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사용자 프로세스들만을 실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3187800"/>
            <a:ext cx="8001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문제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프로세서에 고부하 초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프로세서의 고장시 신뢰성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reliability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문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프로세서의 고부하 시에 시스템의 프로세서 활용도 저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00200" y="4940280"/>
            <a:ext cx="6400800" cy="83808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프로세서 고부하의 단순한 해결 방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master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프로세서에 입출력 위주 프로세스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I/O-bound process)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할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lave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프로세서들에 연산 위주 프로세스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compute-bound process)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할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219320" y="5016600"/>
            <a:ext cx="228600" cy="685800"/>
          </a:xfrm>
          <a:custGeom>
            <a:avLst/>
            <a:gdLst>
              <a:gd name="textAreaLeft" fmla="*/ 35640 w 228600"/>
              <a:gd name="textAreaRight" fmla="*/ 200160 w 2286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990720" y="1371600"/>
            <a:ext cx="716256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969160" y="1752480"/>
            <a:ext cx="609480" cy="6098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969160" y="2819520"/>
            <a:ext cx="609480" cy="6094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969160" y="4648320"/>
            <a:ext cx="609480" cy="6094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459160" y="3200400"/>
            <a:ext cx="685800" cy="6858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230560" y="3886200"/>
            <a:ext cx="1143000" cy="762120"/>
          </a:xfrm>
          <a:prstGeom prst="upArrowCallout">
            <a:avLst>
              <a:gd name="adj1" fmla="val 37497"/>
              <a:gd name="adj2" fmla="val 37494"/>
              <a:gd name="adj3" fmla="val 16667"/>
              <a:gd name="adj4" fmla="val 6666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per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402880" y="539892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lave proces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889280" y="480528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ster 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86200" y="1676520"/>
            <a:ext cx="1371600" cy="38098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nter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257440" y="3124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50292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5105520" y="4952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3123720" y="3581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273720" y="3809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781680" y="3276720"/>
            <a:ext cx="1295640" cy="457200"/>
          </a:xfrm>
          <a:prstGeom prst="wedgeRoundRectCallout">
            <a:avLst>
              <a:gd name="adj1" fmla="val -72060"/>
              <a:gd name="adj2" fmla="val 101388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698160" y="3340080"/>
            <a:ext cx="149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mpu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239840" y="2590920"/>
            <a:ext cx="1295280" cy="457200"/>
          </a:xfrm>
          <a:prstGeom prst="wedgeRoundRectCallout">
            <a:avLst>
              <a:gd name="adj1" fmla="val 58087"/>
              <a:gd name="adj2" fmla="val 9826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260720" y="2629080"/>
            <a:ext cx="1224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ystem c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666880" y="838080"/>
            <a:ext cx="381024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Master-slave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시스템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멀티프로세서 운영체제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독립 운영체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separate executives)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시스템 내의 각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(Processing Elemen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각자 자신의 운영체제 탑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단일 컴퓨터 시스템의 경우와 동일하게 운영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사용 목적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부하 균형을 통한 시스템 성능 향상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특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성의 이용을 위한 구조로 사용 곤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ster-slave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에 비해 신뢰성 높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ster-slave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에 비해 메모리 접근 경쟁 발생 확률 적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시스템 재구성이 복잡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1066680" y="1295280"/>
            <a:ext cx="701064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057400" y="3200400"/>
            <a:ext cx="510552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connection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209680" y="2133720"/>
            <a:ext cx="609840" cy="5331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886200" y="175248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58000" y="2133720"/>
            <a:ext cx="609480" cy="5331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09680" y="4572000"/>
            <a:ext cx="60984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886200" y="495288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858000" y="457200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514600" y="26668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191120" y="2286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6629400" y="266688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2514240" y="380988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477120" y="3886200"/>
            <a:ext cx="53316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191120" y="4038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752480" y="510552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257800" y="2057400"/>
            <a:ext cx="685800" cy="76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5257800" y="5181480"/>
            <a:ext cx="762120" cy="76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676520" y="198108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352680" y="160020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324480" y="190512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400800" y="510552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352680" y="541008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276720" y="838080"/>
            <a:ext cx="259056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독립 운영체제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1447920"/>
            <a:ext cx="640080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3048120"/>
            <a:ext cx="5181840" cy="12189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connection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33720" y="213372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182880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43400" y="175248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213372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57800" y="1981080"/>
            <a:ext cx="914400" cy="1526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2590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228600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2209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553080" y="2590920"/>
            <a:ext cx="15264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5105520"/>
            <a:ext cx="137160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42670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914400"/>
            <a:ext cx="4724640" cy="38088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Tightly-coupled </a:t>
            </a:r>
            <a:r>
              <a:rPr b="1" lang="zh-CN" sz="1800" spc="-1" strike="noStrike">
                <a:solidFill>
                  <a:srgbClr val="3333cc"/>
                </a:solidFill>
                <a:latin typeface="Comic Sans MS"/>
              </a:rPr>
              <a:t>시스템 구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멀티프로세서 운영체제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대칭적 운영체제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(symmetrical OS) 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master-slave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구조의 단점 보완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 내의 어느 프로세서나 운영체제 실행 권한 가짐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임의의 순간에 운영체제 실행중인 프로세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종 시스템 호출에 대한 서비스 제공 의무 가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종 자원의 관리 등의 의무 가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장점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신뢰성 매우 높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 자원 활용도 높일 수 있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한 프로세스에 대한 병렬처리 요구시 여러 프로세서들의 공동 작업 가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990720" y="1295280"/>
            <a:ext cx="716256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905120" y="3124080"/>
            <a:ext cx="5410080" cy="12193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connection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057400" y="1905120"/>
            <a:ext cx="609480" cy="5331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733920" y="152388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705720" y="1905120"/>
            <a:ext cx="609480" cy="5331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057400" y="502920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733920" y="541008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705720" y="502920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362320" y="243828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038480" y="2057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6705720" y="2438280"/>
            <a:ext cx="30456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2285640" y="411480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705720" y="41148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038480" y="4343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219320" y="350532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105520" y="1828800"/>
            <a:ext cx="609480" cy="76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5105520" y="5638680"/>
            <a:ext cx="761760" cy="76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8" name=""/>
          <p:cNvCxnSpPr>
            <a:stCxn id="715" idx="0"/>
            <a:endCxn id="703" idx="3"/>
          </p:cNvCxnSpPr>
          <p:nvPr/>
        </p:nvCxnSpPr>
        <p:spPr>
          <a:xfrm flipV="1">
            <a:off x="1630080" y="2360160"/>
            <a:ext cx="516600" cy="11455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19" name=""/>
          <p:cNvCxnSpPr>
            <a:stCxn id="703" idx="7"/>
            <a:endCxn id="704" idx="2"/>
          </p:cNvCxnSpPr>
          <p:nvPr/>
        </p:nvCxnSpPr>
        <p:spPr>
          <a:xfrm flipV="1">
            <a:off x="2577600" y="1790280"/>
            <a:ext cx="1156680" cy="1929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720" name=""/>
          <p:cNvSpPr/>
          <p:nvPr/>
        </p:nvSpPr>
        <p:spPr>
          <a:xfrm>
            <a:off x="4343400" y="175248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019920" y="1905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6095880" y="5486400"/>
            <a:ext cx="609840" cy="152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4343400" y="5715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4" name=""/>
          <p:cNvCxnSpPr>
            <a:stCxn id="707" idx="2"/>
            <a:endCxn id="706" idx="5"/>
          </p:cNvCxnSpPr>
          <p:nvPr/>
        </p:nvCxnSpPr>
        <p:spPr>
          <a:xfrm flipH="1" flipV="1">
            <a:off x="2577240" y="5484240"/>
            <a:ext cx="1156680" cy="1926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25" name=""/>
          <p:cNvCxnSpPr>
            <a:stCxn id="706" idx="2"/>
            <a:endCxn id="715" idx="4"/>
          </p:cNvCxnSpPr>
          <p:nvPr/>
        </p:nvCxnSpPr>
        <p:spPr>
          <a:xfrm flipH="1" flipV="1">
            <a:off x="1561680" y="3962160"/>
            <a:ext cx="496080" cy="13341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26" name=""/>
          <p:cNvCxnSpPr>
            <a:stCxn id="705" idx="6"/>
            <a:endCxn id="708" idx="6"/>
          </p:cNvCxnSpPr>
          <p:nvPr/>
        </p:nvCxnSpPr>
        <p:spPr>
          <a:xfrm>
            <a:off x="7315200" y="2171880"/>
            <a:ext cx="2160" cy="3124800"/>
          </a:xfrm>
          <a:prstGeom prst="curvedConnector5">
            <a:avLst>
              <a:gd name="adj1" fmla="val 36100000"/>
              <a:gd name="adj2" fmla="val 49994"/>
              <a:gd name="adj3" fmla="val 36100000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727" name=""/>
          <p:cNvSpPr/>
          <p:nvPr/>
        </p:nvSpPr>
        <p:spPr>
          <a:xfrm>
            <a:off x="3124080" y="838080"/>
            <a:ext cx="289584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대칭적 운영체제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결론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병렬처리 시스템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병렬처리 시스템의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주로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ghtly-coupled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0000"/>
              </a:buClr>
              <a:buFont typeface="Monotype Sorts" charset="2"/>
              <a:buChar char="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osely-coupled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는 분산 시스템 구조로 보는 경향 많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체적인 병렬처리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ltiprocessor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pipeline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array processor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ector processor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systolic array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erscalar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dataflow computer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병렬성 검출 기법들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성 지원하는 언어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명시적인 병렬 프로그램 작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성 자동 검출 기법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결론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병렬성 지원을 위한 운영체제의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병렬처리 시스템을 위한 운영체제가 가져야 할 기능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다중 프로세서들에 대한 관리 및 태스크 할당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부하 균형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 재구성 등의 기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병렬 태스크들 생성시 관리 기능 및 생성된 병렬 태스크들의 재병합시 동기화 지원 기능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운영체제의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master-slave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separate executives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symmetrical OS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구조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기타 병렬처리 시스템 분류 기법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lynn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의 분류 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세스측에 전달되는 명령어 흐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instruction stream)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과      자료 흐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data stream)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을 기준으로 분류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병렬처리 시스템의 구체적인 구조에 따라 분류하는 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Flynn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의 분류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ISD(Single-stream Instruction Single-stream Dat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나의 프로세서에 하나의 연산 장치를 두어 명령 처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스칼라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scalar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연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사실상 병렬처리 개념을 갖지 않는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IMD(Single-stream Instruction Multiple-stream Dat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복수 개의 프로세서가 서로 다른 데이터에 대해 지정된 연산 수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응용 분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7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벡터 연산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행렬 곱셈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역행렬 등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)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화상 처리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7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Connection Machine, ILLIAC </a:t>
            </a:r>
            <a:r>
              <a:rPr b="1" lang="ko-KR" sz="1800" spc="-1" strike="noStrike">
                <a:solidFill>
                  <a:srgbClr val="000000"/>
                </a:solidFill>
                <a:latin typeface="Comic Sans MS"/>
              </a:rPr>
              <a:t>Ⅳ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MPP, DAP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MISD(Multiple-stream Instruction Single-stream Dat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나의 자료 흐름에 대해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복수 개의 연산 장치들이 서로 다른 종류의 연산을 수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응용 분야가 많지 않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MIMD(Multiple-stream Instruction Multiple-stream Dat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복수 개의 프로세서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기억장치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입출력 처리 장치 등을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상호 연결망으로 묶어 사용하는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 프로세서들이 서로 다른 데이터에 대해 서로 다른 연산 수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7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Cm*, nCUBE, BBN Butterfly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6T01:32:34Z</dcterms:created>
  <dc:creator>엄영익</dc:creator>
  <dc:description/>
  <dc:language>en-US</dc:language>
  <cp:lastModifiedBy>dwa2007</cp:lastModifiedBy>
  <dcterms:modified xsi:type="dcterms:W3CDTF">2009-06-23T07:32:42Z</dcterms:modified>
  <cp:revision>1052</cp:revision>
  <dc:subject/>
  <dc:title>슬라이드 제목 없음</dc:title>
</cp:coreProperties>
</file>