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6583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D2784-C82B-4CC8-BA4A-6B79F8074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432936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04CBF-3504-4BFE-8962-CAEB62A33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82472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641BE-3260-4A93-8534-BE9F0D9F5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1640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4772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1640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4772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75E5A-AD4A-4F8F-BBF5-1C1D97CD8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4EB88-4AA6-402F-8BF0-C6392D8CB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33494-A64D-490B-AB44-0885CF166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77903-4421-4612-9758-9C8F0F286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01528-6A84-4038-A5FD-C08968747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6DE28-ACF0-41C8-A0A8-B79C5DBC5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42640" y="685440"/>
            <a:ext cx="77929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60FD1-3FB1-4926-8943-4CED20A00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41EA2-E30B-4492-BF57-7263E274C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47898-F219-4885-BC9D-38D37A65A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82472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B2921-4C2D-4807-BAD1-A67B6B254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E235F-E6B1-4798-A59D-BFD8C87F4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85440" y="432936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9C12C-C693-4AC1-8EDD-9C9A12892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82472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3DB4A-5754-4807-8409-D63C29F49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41640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14772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8544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41640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14772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D8F39-EAC8-44D4-9C15-FD23BAADD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DE9E3-5135-46F8-8113-865FAE057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42735-F7EC-407D-B1B8-50F6DAA3B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3583C-9231-4C35-B22F-417955296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42640" y="685440"/>
            <a:ext cx="77929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50B3F-365D-4D1F-98BC-3E1552C22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8A78A-F8C6-4221-87B3-E0F1C2B77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82472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1D3AE-2006-4106-AF11-C74B61B33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5539F-C4BE-4BE8-A85F-C45B7433A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33360" y="720720"/>
            <a:ext cx="438120" cy="474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16040" y="720720"/>
            <a:ext cx="3286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114300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26920" y="1143000"/>
            <a:ext cx="36864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57320" y="12542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77880" y="61272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58920" y="1403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52280" y="6324480"/>
            <a:ext cx="1905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ahoma"/>
                <a:ea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E0280-9ED6-4B13-8D05-16FF88CE6DC0}" type="datetime3"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2026년 7월 30일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200040" y="6324480"/>
            <a:ext cx="2895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ahoma"/>
                <a:ea typeface="굴림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ahoma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5FB27-77AB-4CB0-93DE-85F9AD78853A}" type="slidenum"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c1c1c"/>
                </a:solidFill>
                <a:latin typeface="Tahoma"/>
                <a:ea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36C2E-868C-4552-929C-003D86917836}" type="datetime3">
              <a:rPr b="0" lang="ko-KR" sz="1400" spc="-1" strike="noStrike">
                <a:solidFill>
                  <a:srgbClr val="1c1c1c"/>
                </a:solidFill>
                <a:latin typeface="Tahoma"/>
                <a:ea typeface="굴림"/>
              </a:rPr>
              <a:t>2026년 7월 30일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c1c1c"/>
                </a:solidFill>
                <a:latin typeface="Tahoma"/>
                <a:ea typeface="굴림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c1c1c"/>
                </a:solidFill>
                <a:latin typeface="Tahoma"/>
                <a:ea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c1c1c"/>
                </a:solidFill>
                <a:latin typeface="Tahoma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FA5DC-EF84-4353-ABF7-BDF0F0A8A4B4}" type="slidenum">
              <a:rPr b="0" lang="ko-KR" sz="1400" spc="-1" strike="noStrike">
                <a:solidFill>
                  <a:srgbClr val="1c1c1c"/>
                </a:solidFill>
                <a:latin typeface="Tahoma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toc.org/" TargetMode="External"/><Relationship Id="rId2" Type="http://schemas.openxmlformats.org/officeDocument/2006/relationships/hyperlink" Target="http://www.toc.org/" TargetMode="External"/><Relationship Id="rId3" Type="http://schemas.openxmlformats.org/officeDocument/2006/relationships/hyperlink" Target="http://www.toc.org/" TargetMode="External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440" y="1294920"/>
            <a:ext cx="807732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400" spc="-1" strike="noStrike">
                <a:solidFill>
                  <a:srgbClr val="333399"/>
                </a:solidFill>
                <a:latin typeface="Tahoma"/>
                <a:ea typeface="굴림"/>
              </a:rPr>
              <a:t>제 </a:t>
            </a:r>
            <a:r>
              <a:rPr b="0" lang="ko-KR" sz="5400" spc="-1" strike="noStrike">
                <a:solidFill>
                  <a:srgbClr val="333399"/>
                </a:solidFill>
                <a:latin typeface="Tahoma"/>
                <a:ea typeface="굴림"/>
              </a:rPr>
              <a:t>7 </a:t>
            </a:r>
            <a:r>
              <a:rPr b="0" lang="ko-KR" sz="5400" spc="-1" strike="noStrike">
                <a:solidFill>
                  <a:srgbClr val="333399"/>
                </a:solidFill>
                <a:latin typeface="Tahoma"/>
                <a:ea typeface="굴림"/>
              </a:rPr>
              <a:t>장</a:t>
            </a:r>
            <a:br>
              <a:rPr sz="5400"/>
            </a:br>
            <a:r>
              <a:rPr b="0" lang="ko-KR" sz="5400" spc="-1" strike="noStrike">
                <a:solidFill>
                  <a:srgbClr val="333399"/>
                </a:solidFill>
                <a:latin typeface="Tahoma"/>
                <a:ea typeface="굴림"/>
              </a:rPr>
              <a:t>하드웨어와 데이터 웨어하우스</a:t>
            </a:r>
            <a:r>
              <a:rPr b="0" lang="en-US" sz="5400" spc="-1" strike="noStrike">
                <a:solidFill>
                  <a:srgbClr val="333399"/>
                </a:solidFill>
                <a:latin typeface="Tahoma"/>
                <a:ea typeface="굴림"/>
              </a:rPr>
              <a:t> 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28600" y="4952520"/>
            <a:ext cx="830592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Jong Soo Pa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jpark@cs.sungshin.ac.k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D5454-4157-4A00-B96D-2D57354535AE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39A48B-9F02-46BB-AB9D-5D15C4672B18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2. 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DW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와 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DB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DW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를 지원하는 데이터베이스의 방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spcBef>
                <a:spcPts val="601"/>
              </a:spcBef>
              <a:buClr>
                <a:srgbClr val="ff0000"/>
              </a:buClr>
              <a:buSzPct val="70000"/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특정한 하드웨어에만 사용되는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W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용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spcBef>
                <a:spcPts val="601"/>
              </a:spcBef>
              <a:buClr>
                <a:srgbClr val="ff0000"/>
              </a:buClr>
              <a:buSzPct val="70000"/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범용 하드웨어에 사용되는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W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용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spcBef>
                <a:spcPts val="601"/>
              </a:spcBef>
              <a:buClr>
                <a:srgbClr val="ff0000"/>
              </a:buClr>
              <a:buSzPct val="70000"/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범용 하드웨어에 사용되며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W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기능을 포함하는 범용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개방형 컴퓨터 기술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범용 하드웨어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범용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3F829-894B-4545-8429-E48F78882041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820F38-A8BA-40DC-A046-E122143993ED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DW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를 지원하는 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DB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의 기능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(1/2)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Partition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기능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한 테이블의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row(tuple)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수가 수억 건 이상 되는 경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파티션과 인덱스 파티션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파티션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Static partition and hash part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Star query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기능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Row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수가 적은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table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부터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join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하여 최종적으로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fact table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과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join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하는 경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W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구축시 꼭 필요하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F1CBD-5744-414F-9B1B-D4C120CC4F3A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6AA703-7032-4EF6-9A32-3E77CFD50BCA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DW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를 지원하는 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DB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의 기능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(2/2)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Bitmap ind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빠르고 인덱스 테이블도 작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Parallel Loading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W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는 한꺼번에 많은 데이터를 로딩할 경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Portable table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운영 시스템의 테이블을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W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서버에서 바로 데이터베이스에 사용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Loadable Table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범용 데이터베이스에 있는 기능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84CE5-7E6C-40A8-80CB-7A743245F1C3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EE3C72-4BB6-43FC-8075-D882EC7ADC36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3. 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TPC-D 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벤치 마크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TPC(Transaction Processing Performance Counci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ea typeface="굴림"/>
                <a:hlinkClick r:id="rId1"/>
              </a:rPr>
              <a:t>www.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ea typeface="굴림"/>
                <a:hlinkClick r:id="rId2"/>
              </a:rPr>
              <a:t>tpc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ea typeface="굴림"/>
                <a:hlinkClick r:id="rId3"/>
              </a:rPr>
              <a:t>.or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Verdana"/>
                <a:ea typeface="굴림"/>
              </a:rPr>
              <a:t>TPC-D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굴림"/>
              </a:rPr>
              <a:t> represents a broad range of decision support (DS) applications that require complex, long running queries against large complex data structures. (</a:t>
            </a:r>
            <a:r>
              <a:rPr b="0" i="1" lang="en-US" sz="2400" spc="-1" strike="noStrike">
                <a:solidFill>
                  <a:srgbClr val="3333cc"/>
                </a:solidFill>
                <a:latin typeface="Verdana"/>
                <a:ea typeface="굴림"/>
              </a:rPr>
              <a:t>Obsolete as of 4/6/99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AE00D-9AD6-40D5-929D-9AC56DD9181A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9EE3CE-D70D-40AA-8337-56814D712FE1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TPC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Verdana"/>
                <a:ea typeface="굴림"/>
              </a:rPr>
              <a:t>TPC-C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  <a:ea typeface="굴림"/>
              </a:rPr>
              <a:t> is an on-line transaction processing benchmark, Version 5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Verdana"/>
                <a:ea typeface="굴림"/>
              </a:rPr>
              <a:t>TPC-H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  <a:ea typeface="굴림"/>
              </a:rPr>
              <a:t> is an ad-hoc, decision support benchmar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Verdana"/>
                <a:ea typeface="굴림"/>
              </a:rPr>
              <a:t>TPC-R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  <a:ea typeface="굴림"/>
              </a:rPr>
              <a:t> is a business reporting, decision support benchmar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Verdana"/>
                <a:ea typeface="굴림"/>
              </a:rPr>
              <a:t>TPC-W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  <a:ea typeface="굴림"/>
              </a:rPr>
              <a:t> is a transactional web e-Commerce benchma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E6837-7CEC-4EED-9FC7-B68D198DBBFE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AF21C6-8BA5-408B-959E-A37505ADE762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제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7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장 하드웨어와 데이터베이스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스와 하드웨어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스와 데이터베이스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TPC-D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벤치마크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D60E5-E61A-4F52-9975-7ED851F9A616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5750DE-ACAC-448E-BF4C-CE4A03D86935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1. 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데이터 웨어하우스와 하드웨어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스를 위한 하드웨어 기능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강력한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tch process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지원 기능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확장성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scalabilit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시스템의 안정화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64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it archite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0B071-689F-4ED7-98FE-22A85523E04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4FF359-F4C4-4A1E-B173-CD56A81F8298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SMP(Symmetric Multi Processing)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여러 개의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CPU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가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Memory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및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Disk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를 공유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CPU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들은 서로 독립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메모리에 있는 프로그램과 데이터를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shared bus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를 통해서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공유 버스에서 충돌 현상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해결방법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rossbar switch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사용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장점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사용하기 편리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OS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수준에서 로드 분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디스크 액세스 시에 충돌이 일어나지 않는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4458A-5211-4DA6-BD3E-49AF825E6C4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1C9F01-6CDB-4B44-8338-3D1F196B4081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MPP(Massively Parallel Processing)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일반적인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Node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구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노드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PU-Memory-Disk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가 한조가 되어 운영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노드마다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OS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와 데이터베이스가 있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한 노드는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SMP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처럼 구성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MP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여러 개의 노드로 구성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Internode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LAN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형태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Mesh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형태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ta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형태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1C182-43BA-4D6C-8615-A2BFFE3B804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E2889D-D2C0-4D84-BC50-67F4D48FC1AE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MPP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의 지역성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(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locality)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Local disk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를 액세스하는 것은 빠르다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Remote disk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액세스는 느리다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의 지역성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노드간 데이터의 분산 정도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좋다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로컬 디스크에 있는 데이터를 노드 내부에서 액세스하는 경우가 많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나쁘다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원격 디스크의 데이터를 자주 액세스한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분산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의 내용과 액세스 형태를 고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E09E9-20D8-4402-9AD0-6499ECA26C5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5E0631-4F4F-4D1B-82A9-85B3CE2B6417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NUMA(Non-Uniform Memory Access)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SMP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의 장점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+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MPP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의 장점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NUMA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는 메모리를 공유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프로그램과 데이터는 동일한 주소 환경에 존재하므로 지역성이 매우 강하다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OS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나 데이터베이스도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SMP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처럼 하나만 존재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35486-E98F-402F-9923-F031979AAC5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17E80B-84DF-45E1-9BCD-CB8C784F6488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하드웨어를 도입할 때 고려사항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DW server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의 </a:t>
            </a:r>
            <a:r>
              <a:rPr b="0" lang="ko-KR" sz="2800" spc="-1" strike="noStrike">
                <a:solidFill>
                  <a:srgbClr val="ff0000"/>
                </a:solidFill>
                <a:latin typeface="Tahoma"/>
                <a:ea typeface="굴림"/>
              </a:rPr>
              <a:t>하드웨어의 기능들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 검토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하드웨어의 아키텍처만 보고 속단 금지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자사의 데이터 양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의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Update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주기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Access pattern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등을 고려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여러 하드웨어를 비교 검토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일반적인 </a:t>
            </a:r>
            <a:r>
              <a:rPr b="0" lang="ko-KR" sz="2800" spc="-1" strike="noStrike">
                <a:solidFill>
                  <a:srgbClr val="ff0000"/>
                </a:solidFill>
                <a:latin typeface="Tahoma"/>
                <a:ea typeface="굴림"/>
              </a:rPr>
              <a:t>하드웨어 선정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800" spc="-1" strike="noStrike">
                <a:solidFill>
                  <a:srgbClr val="ff0000"/>
                </a:solidFill>
                <a:latin typeface="Tahoma"/>
                <a:ea typeface="굴림"/>
              </a:rPr>
              <a:t>요건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에 대한 면밀한 고려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성능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가격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안정성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확장성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지원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교육 등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B2E3C-22F5-4D27-A5A2-44EC4E8133CF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692594-D5FF-4D20-B065-D0AB499C2FFF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하드웨어의 용량 산정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(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sizing)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디스크 용량 산정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133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페이지 테이블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814% +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약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G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메모리 용량 산정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보통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GB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이상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CPU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용량 산정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요약 테이블을 생성시 시간이 많이 걸리는 경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스에서 주기적으로 일어나는 중요한 프로세서들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tch pro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8A224-C0DB-4DCA-A05D-BAD0DE0FB38B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B741E4-B9C3-4262-8E89-634EF4FFAF9B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19T04:38:52Z</dcterms:created>
  <dc:creator>Jong Soo Park</dc:creator>
  <dc:description/>
  <dc:language>en-US</dc:language>
  <cp:lastModifiedBy>dwa2007</cp:lastModifiedBy>
  <cp:lastPrinted>1999-09-10T20:38:56Z</cp:lastPrinted>
  <dcterms:modified xsi:type="dcterms:W3CDTF">2009-06-23T07:32:58Z</dcterms:modified>
  <cp:revision>237</cp:revision>
  <dc:subject/>
  <dc:title>제6장 데이터 웨어하우스의 관리</dc:title>
</cp:coreProperties>
</file>