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BDF8-912D-4E1E-B443-4A5FBA1D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1A50-A1A2-4B3B-96CB-8B2A8CF0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A456-B959-4F0D-9A6F-A9CB4C1D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1684-91A2-4A6F-9EE1-736EA791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D882-3CA8-4CDD-851E-475A1480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D6AF-1756-45AE-AE85-A9BF9C88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E059-737F-45BF-B077-1442A672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EEA3-F280-4185-B5D6-0C67B04F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ED07-5700-44A5-B6A7-4759018A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534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27FB-865A-4609-A562-261ABD5E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FA7A-F0DC-4028-9CEB-C5B384D4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A8F7-0FAF-416B-ABBB-1C90C9DE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9F00-42CB-46BB-AFC2-A162FCD8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3F71-C1F5-4FD5-8A87-583F3C5D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0347-F08E-499D-A3BB-3FE527C3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A0FA-2DD4-4C2E-AAE8-B291F943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B2B5-2B89-4D12-82A0-7B51C115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2B0F-62CF-4E41-AA20-66CBE157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81A6-5CCE-415E-AC60-114C0902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16E6-237D-4332-8AAA-1275076F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534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EED0-8E3E-4C94-BAB2-2D446410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0029-06E9-4487-A7C9-CAF3E8CF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E932-6BFC-4058-8DB8-5BDDFA2C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8680-8A09-477F-AB8B-A16B4FE6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7524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572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2-</a:t>
            </a:r>
            <a:fld id="{40C6E620-1911-41F5-93AA-91E284ECBE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7524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Parallel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1-</a:t>
            </a:r>
            <a:fld id="{CD1535B9-5C9F-4B89-BBC4-BECB706176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" Target="slide38.xm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00"/>
                </a:solidFill>
                <a:latin typeface="굴림"/>
                <a:ea typeface="굴림"/>
              </a:rPr>
              <a:t>제</a:t>
            </a:r>
            <a:r>
              <a:rPr b="1" lang="en-US" sz="3200" spc="-1" strike="noStrike">
                <a:solidFill>
                  <a:srgbClr val="006600"/>
                </a:solidFill>
                <a:latin typeface="굴림"/>
                <a:ea typeface="굴림"/>
              </a:rPr>
              <a:t>2</a:t>
            </a:r>
            <a:r>
              <a:rPr b="1" lang="ko-KR" sz="3200" spc="-1" strike="noStrike">
                <a:solidFill>
                  <a:srgbClr val="006600"/>
                </a:solidFill>
                <a:latin typeface="굴림"/>
                <a:ea typeface="굴림"/>
              </a:rPr>
              <a:t>장</a:t>
            </a:r>
            <a:r>
              <a:rPr b="1" lang="en-US" sz="3200" spc="-1" strike="noStrike">
                <a:solidFill>
                  <a:srgbClr val="006600"/>
                </a:solidFill>
                <a:latin typeface="굴림"/>
                <a:ea typeface="굴림"/>
              </a:rPr>
              <a:t> </a:t>
            </a:r>
            <a:r>
              <a:rPr b="1" lang="ko-KR" sz="3200" spc="-1" strike="noStrike">
                <a:solidFill>
                  <a:srgbClr val="006600"/>
                </a:solidFill>
                <a:latin typeface="굴림"/>
                <a:ea typeface="굴림"/>
              </a:rPr>
              <a:t>병렬처리를 위한 하드웨어 기술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43200" y="3124080"/>
            <a:ext cx="418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1 </a:t>
            </a:r>
            <a:r>
              <a:rPr b="1" lang="ko-KR" sz="2800" spc="-1" strike="noStrike" u="sng">
                <a:solidFill>
                  <a:srgbClr val="0066ff"/>
                </a:solidFill>
                <a:uFillTx/>
                <a:latin typeface="굴림"/>
                <a:hlinkClick r:id="rId1" action="ppaction://hlinksldjump"/>
              </a:rPr>
              <a:t>시스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2 </a:t>
            </a:r>
            <a:r>
              <a:rPr b="1" lang="ko-KR" sz="2800" spc="-1" strike="noStrike" u="sng">
                <a:solidFill>
                  <a:srgbClr val="0066ff"/>
                </a:solidFill>
                <a:uFillTx/>
                <a:latin typeface="굴림"/>
                <a:hlinkClick r:id="rId2" action="ppaction://hlinksldjump"/>
              </a:rPr>
              <a:t>프로세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3 </a:t>
            </a:r>
            <a:r>
              <a:rPr b="1" lang="ko-KR" sz="2800" spc="-1" strike="noStrike" u="sng">
                <a:solidFill>
                  <a:srgbClr val="0066ff"/>
                </a:solidFill>
                <a:uFillTx/>
                <a:latin typeface="굴림"/>
                <a:hlinkClick r:id="rId3" action="ppaction://hlinksldjump"/>
              </a:rPr>
              <a:t>기억장치시스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1A03368-FA78-43CD-BBF0-2EC69DC2BA4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Comic Sans MS"/>
              </a:rPr>
              <a:t>Shared-memory multiprocessor</a:t>
            </a:r>
            <a:r>
              <a:rPr b="0" lang="ko-KR" sz="2200" spc="-1" strike="noStrike" u="sng">
                <a:solidFill>
                  <a:srgbClr val="0000ff"/>
                </a:solidFill>
                <a:uFillTx/>
                <a:latin typeface="Comic Sans MS"/>
              </a:rPr>
              <a:t>를 위한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omic Sans MS"/>
              </a:rPr>
              <a:t>interconnection </a:t>
            </a:r>
            <a:r>
              <a:rPr b="0" lang="ko-KR" sz="2200" spc="-1" strike="noStrike" u="sng">
                <a:solidFill>
                  <a:srgbClr val="0000ff"/>
                </a:solidFill>
                <a:uFillTx/>
                <a:latin typeface="Comic Sans MS"/>
              </a:rPr>
              <a:t>방식</a:t>
            </a:r>
            <a:endParaRPr b="0" lang="en-US" sz="2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버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bus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크로스바 스위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crossbar switch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단계 상호연결망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multistage interconnection network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34E6BC6-1EF1-4394-83D4-6B2DE739C5A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hared-bus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를 이용한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multiprocessor system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24" name="Picture 10" descr="2-5"/>
          <p:cNvPicPr/>
          <p:nvPr/>
        </p:nvPicPr>
        <p:blipFill>
          <a:blip r:embed="rId1"/>
          <a:stretch/>
        </p:blipFill>
        <p:spPr>
          <a:xfrm>
            <a:off x="971640" y="1844640"/>
            <a:ext cx="720072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CA102A5-F74C-4AA1-8513-FF0DE1C14AA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버스 구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533520" y="1143000"/>
            <a:ext cx="8001000" cy="46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장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가장 간단한 연결 구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단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경합으로 인한 지연 증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  <a:ea typeface="굴림"/>
              </a:rPr>
              <a:t>성능저하 보완방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전송 속도 증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캐쉬 기억장치 사용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캐쉬 일관성 문제 발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수 증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다중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시스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(multiple-bus syst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  <a:ea typeface="굴림"/>
              </a:rPr>
              <a:t>UMA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모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3CEFD3E-76E2-47E5-BFFD-DB7011D7502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층버스 구조를 가진 다중프로세서시스템의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907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NUMA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모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3" name="Picture 1029" descr="2-6"/>
          <p:cNvPicPr/>
          <p:nvPr/>
        </p:nvPicPr>
        <p:blipFill>
          <a:blip r:embed="rId1"/>
          <a:stretch/>
        </p:blipFill>
        <p:spPr>
          <a:xfrm>
            <a:off x="1116000" y="1413000"/>
            <a:ext cx="691200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ABABA9E-D159-4004-97E3-F0EF18D38B7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rossbar switch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를 이용한 시스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43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들과 기억장치들 사이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ull connectivity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제공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단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H/W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복잡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비용 증가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 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굴림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굴림"/>
              </a:rPr>
              <a:t> 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의 크로스바 스위치 필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8" name="Picture 9" descr="2-7"/>
          <p:cNvPicPr/>
          <p:nvPr/>
        </p:nvPicPr>
        <p:blipFill>
          <a:blip r:embed="rId1"/>
          <a:stretch/>
        </p:blipFill>
        <p:spPr>
          <a:xfrm>
            <a:off x="1476360" y="3141720"/>
            <a:ext cx="55450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594391F-927D-4939-BA6B-674233C9F1A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다단계 상호연결망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MIN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Multistage Interconnection Network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Bus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rossbar switch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중간 정도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/W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복잡도와 성능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] Multistage Cube Network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3" name="Picture 9" descr="2-8"/>
          <p:cNvPicPr/>
          <p:nvPr/>
        </p:nvPicPr>
        <p:blipFill>
          <a:blip r:embed="rId1"/>
          <a:stretch/>
        </p:blipFill>
        <p:spPr>
          <a:xfrm>
            <a:off x="914400" y="2971800"/>
            <a:ext cx="6705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76C94D4-6E89-4B81-A1AF-7DDE1DC1E9C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단계 상호연결망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입력단 및 출력단의 노드 수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일 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필요한 단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stage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m =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각 단계의 스위칭 소자 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s = N/2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접속 모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8" name="Picture 6" descr="2-9"/>
          <p:cNvPicPr/>
          <p:nvPr/>
        </p:nvPicPr>
        <p:blipFill>
          <a:blip r:embed="rId1"/>
          <a:stretch/>
        </p:blipFill>
        <p:spPr>
          <a:xfrm>
            <a:off x="971640" y="4653000"/>
            <a:ext cx="730872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985D81E4-9A94-48B5-8D56-FFBF3A842FA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2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분산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기억장치 시스템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소결합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IMD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loosely-coupled MIMD syste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들이 자신의 기억장치를 별도로 가지고 있는 구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다중</a:t>
            </a: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컴퓨터시스템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이라고도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부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장단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장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각 프로세서가 프로그램과 데이터를 지역 기억장치에 저장하므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간 통신량 감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메시지 전송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message-passing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방식을 사용하기 때문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통신 시간 증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상호연결망의 예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이퍼큐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hypercube)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83B230D-6E6A-40D2-A85D-346B4FA7AE8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하이퍼큐브의 기본 구조</a:t>
            </a:r>
            <a:r>
              <a:rPr b="0" lang="ko-KR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56" name="Picture 6" descr="2-10"/>
          <p:cNvPicPr/>
          <p:nvPr/>
        </p:nvPicPr>
        <p:blipFill>
          <a:blip r:embed="rId1"/>
          <a:stretch/>
        </p:blipFill>
        <p:spPr>
          <a:xfrm>
            <a:off x="1763640" y="1557360"/>
            <a:ext cx="554364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839269A-5AA9-4773-9EBE-B9D0C87DA32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2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프로세서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병렬컴퓨터에서 사용되는 프로세서의 복잡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omplexity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는 병렬처리 단위의 크기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즉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granularity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 의해 결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단위 작업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grain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크기와 프로세서 구조의 관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큰 그레인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coarse-grain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복잡한 연산을 포함한 작업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복잡한 구조의 프로세서 필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작은 그레인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fine-grain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간단한 연산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작고 간단한 구조의 프로세서 사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0B40FE3-BE28-41F3-8AF8-33D4DF6D4B8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2.1 </a:t>
            </a:r>
            <a:r>
              <a:rPr b="0" lang="ko-KR" sz="3200" spc="-1" strike="noStrike">
                <a:solidFill>
                  <a:srgbClr val="006600"/>
                </a:solidFill>
                <a:latin typeface="Comic Sans MS"/>
              </a:rPr>
              <a:t>시스템  구조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굴림"/>
              </a:rPr>
              <a:t>2.1.1 </a:t>
            </a:r>
            <a:r>
              <a:rPr b="1" lang="ko-KR" sz="2800" spc="-1" strike="noStrike">
                <a:solidFill>
                  <a:srgbClr val="3333cc"/>
                </a:solidFill>
                <a:latin typeface="굴림"/>
              </a:rPr>
              <a:t>배열 프로세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 내 모든 프로세싱 요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PE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들이 하나의 제어 유니트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U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통제 하에 동기적으로 동작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로 계산 전용 컴퓨터로 활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PE (processing element) :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ALU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와 레지스터들로 구성되어 간단한 연산만 수행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CU (control unit)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명령어를 해독하고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그것을 실행할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PE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들을 결정하고 통제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호스트 컴퓨터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host computer)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프로그램을 컴파일하고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CU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로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download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시키는 외부 범용 컴퓨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9C780F0-E60C-49BD-99EB-26EA0469383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그레인 크기에 따른 프로세서 구조의 특성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그레인 크기에 따른 병렬성의 분류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미세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그레인 병렬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fine-grain parallelis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중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그레인 병렬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edium-grain parallelis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큰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그레인 병렬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oarse-grain parallelis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3A5B79E-CFB8-4E99-8EBF-C3A39D332F0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미세 그레인 병렬처리를 위한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프로그램을 가장 작은 단위로 분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고급언어 프로그램의 한 문장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, 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어셈블리 명령어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혹은 산술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논리 연산 단위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간단한 프로세서 구조 필요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많은 프로세서간 통신량 발생 </a:t>
            </a:r>
            <a:r>
              <a:rPr b="1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고속 상호연결망 필요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미세 그레인 병렬성을 이용한 시스템의 예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5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Thinking Machine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사의 </a:t>
            </a: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CM-1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병렬 프로세서 유니트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유니트 당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024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프로세서 모듈로 구성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각 프로세서 모듈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6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억장치 및 라우터 등으로 구성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64K (65,536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5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MIT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의 </a:t>
            </a: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J-machine, STARAN 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시스템</a:t>
            </a: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, MPP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등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1EA776B-2FEE-4FF1-9898-2F7E0277E2A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M-1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시스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72" name="Picture 4" descr="fig2-15a"/>
          <p:cNvPicPr/>
          <p:nvPr/>
        </p:nvPicPr>
        <p:blipFill>
          <a:blip r:embed="rId1"/>
          <a:stretch/>
        </p:blipFill>
        <p:spPr>
          <a:xfrm>
            <a:off x="1981080" y="990720"/>
            <a:ext cx="521676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AD32020-599D-41BF-A6BF-2679BF2FCD7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M-1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77" name="Picture 4" descr="fig2-15b"/>
          <p:cNvPicPr/>
          <p:nvPr/>
        </p:nvPicPr>
        <p:blipFill>
          <a:blip r:embed="rId1"/>
          <a:stretch/>
        </p:blipFill>
        <p:spPr>
          <a:xfrm>
            <a:off x="2057400" y="990720"/>
            <a:ext cx="5133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7851855-53FE-4EE6-9916-E06F056A900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큰 그레인 병렬처리를 위한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267920"/>
            <a:ext cx="830556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많은 계산을 필요로 하는 작업 단위의 병렬처리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벡터 혹은 매트릭스 계산을 위한 전체 반복 루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고속 벡터 계산을 위한 파이프라인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ALU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필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적은 수의 크고 복잡한 프로세서들로 구성된 슈퍼컴퓨터 사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 미만의 고성능 프로세서들로 구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RAY Y-MP : 16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RAY-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들로 구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14AB0F6-E2F0-421C-9FEA-D7AAF55C222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RAY-1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내부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85" name="Picture 6" descr="fig2-16"/>
          <p:cNvPicPr/>
          <p:nvPr/>
        </p:nvPicPr>
        <p:blipFill>
          <a:blip r:embed="rId1"/>
          <a:stretch/>
        </p:blipFill>
        <p:spPr>
          <a:xfrm>
            <a:off x="2411280" y="1125360"/>
            <a:ext cx="46418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7C4AED7-BE9A-40FA-B9E5-6CC67BDF869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중간 그레인 병렬처리를 위한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미세 및 큰 그레인의 중간 크기로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반복 계산 루프의 내부 루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다중 사용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ulti -user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의 한 작업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job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이나 프로세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process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단위의 병렬처리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PU : 32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 혹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64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 마이크로프로세서 사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수십 혹은 수백 개의 프로세서들로 이루어진 다중프로세서시스템으로 처리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수천 개의 프로세서들을 가진 대규모 병렬처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PP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구조로 발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사례 시스템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] SGI  Origin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, HP 9000 SuperDome, Intel iPSC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BF93E9A-27ED-4DC5-BBB8-F23E5423CD6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2.2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스칼라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, VLIW,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파이프라인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341360"/>
            <a:ext cx="830556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 속도 향상을 위하여 각 명령어 실행 시간을 한 사이클 이하로 줄이기 위한 시도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대표적인 방식들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슈퍼스칼라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uperscalar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VLIW(Very Long Instruction Word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슈퍼파이프라인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uperpipeline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B6D9FC0-69B7-4955-BD8D-DA3081B8F84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1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스칼라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superscalar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 내에 파이프라인 된 기능 유니트를 여러 개 포함시켜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매 사이클 마다 한 개 이상의 명령어들이 동시에 실행되게 하는 기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8" name="Picture 11" descr="2-13"/>
          <p:cNvPicPr/>
          <p:nvPr/>
        </p:nvPicPr>
        <p:blipFill>
          <a:blip r:embed="rId1"/>
          <a:stretch/>
        </p:blipFill>
        <p:spPr>
          <a:xfrm>
            <a:off x="1835280" y="2852640"/>
            <a:ext cx="496728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5135349-4656-4DF2-AABF-4B7A6B8EC74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슈퍼스칼라 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효율 향상을 위한 조건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시에 실행하는 명령어들 간에 데이터 의존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data dependency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이 존재하지 않아야 한다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속도 향상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k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계 수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N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수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슈퍼스칼라의 정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degree of superscalar) =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능 유니트의 수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= 1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 T(1, 1) = k + N – 1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= m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T(m, 1) = k + (N - m) / m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∞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수가 많아지면 속도 향상은 기능 유니트의 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접근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신 프로세서들은 대부분 슈퍼스칼라 구조를 가지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m = 6~8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로 증가되는 경향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1523880" y="4191120"/>
                <a:ext cx="4648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9E24072-603E-441B-99D0-05ABA84650D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배열 프로세서의 기본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91" name="Picture 5" descr="2-1"/>
          <p:cNvPicPr/>
          <p:nvPr/>
        </p:nvPicPr>
        <p:blipFill>
          <a:blip r:embed="rId1"/>
          <a:stretch/>
        </p:blipFill>
        <p:spPr>
          <a:xfrm>
            <a:off x="1187280" y="1413000"/>
            <a:ext cx="69343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44E4655-AEE4-406D-9D3D-1F81EBA1EE4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펜티엄 프로세서의 슈퍼스칼라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207" name="Picture 4" descr="fig2-18"/>
          <p:cNvPicPr/>
          <p:nvPr/>
        </p:nvPicPr>
        <p:blipFill>
          <a:blip r:embed="rId1"/>
          <a:stretch/>
        </p:blipFill>
        <p:spPr>
          <a:xfrm>
            <a:off x="1828800" y="1219320"/>
            <a:ext cx="50306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3AA4A53-51F3-4166-89B5-A15BA3C3AE8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2) VLIW (Very Long Instruction Word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동시에 실행 가능한 명령어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산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을 하나의 긴 명령어로 재배열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통합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여 동시 처리하는 기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2" name="Picture 9" descr="fig2-19"/>
          <p:cNvPicPr/>
          <p:nvPr/>
        </p:nvPicPr>
        <p:blipFill>
          <a:blip r:embed="rId1"/>
          <a:stretch/>
        </p:blipFill>
        <p:spPr>
          <a:xfrm>
            <a:off x="2209680" y="2514600"/>
            <a:ext cx="47325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6CB19A5-C588-49FA-8468-61D69DE52AB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VLIW 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프로세서의 실행 시간도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216" name="Picture 5" descr="2-16"/>
          <p:cNvPicPr/>
          <p:nvPr/>
        </p:nvPicPr>
        <p:blipFill>
          <a:blip r:embed="rId1"/>
          <a:stretch/>
        </p:blipFill>
        <p:spPr>
          <a:xfrm>
            <a:off x="1447920" y="1752480"/>
            <a:ext cx="63244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2475D86-89AF-445B-8E74-0E619C50CED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VLIW 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나의 명령어 내에 포함시킬 수 있는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동시 실행 가능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산들을 어느 정도 찾을 수 있는지가 효율을 결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스칼라와의 차이점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코드가 길지만 하나로 취급되기 때문에 인출과 해독은 하나의 회로에 의해 이루어지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각 연산의 실행 사이클만 여러 개의 유니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ALU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들로 나누어져 동시에 처리된다는 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예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]  TRACE-7 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시스템 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: 7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개의 기능 유니트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, 256-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비트 명령어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TRACE-28 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시스템 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: 28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개의 기능 유니트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, 1024-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비트 명령어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B149CA3-91D0-4F88-BBF3-299523B4286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3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파이프라인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superpipeline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7777080" cy="53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파이프라인의 클럭 사이클 시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lock cycle time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을 줄이는 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파이프라이닝의 정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degree of superpipeline) = 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능 유니트의 클럭 사이클 시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 1/n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] n = 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인 경우의 프로세서 실행 시간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5" name="Picture 11" descr="2-17"/>
          <p:cNvPicPr/>
          <p:nvPr/>
        </p:nvPicPr>
        <p:blipFill>
          <a:blip r:embed="rId1"/>
          <a:stretch/>
        </p:blipFill>
        <p:spPr>
          <a:xfrm>
            <a:off x="755640" y="4221000"/>
            <a:ext cx="748836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FB47D32-6837-454C-ACCA-2FFEEA4CC69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슈퍼파이프라인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속도 향상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k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계 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N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슈퍼파이프라이닝의 정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클록 사이클의 분할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= 1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T(1, 1) = k + N – 1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= n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T(1, n) = k + (1/n) (N -1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∞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수의 많아지면 따라 속도 향상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 접근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] CDC 7600, CRAY-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정술 산술 유니트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n = 3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5"/>
              <p:cNvSpPr txBox="1"/>
              <p:nvPr/>
            </p:nvSpPr>
            <p:spPr>
              <a:xfrm>
                <a:off x="1905120" y="3733920"/>
                <a:ext cx="4343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109D601-9343-4205-9D14-D5A1CFD44CE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uperpipelined Superscalar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 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파이프라인과 슈퍼스칼라가 결합된 구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 → ∞ ,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속도 향상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p = mn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13"/>
              <p:cNvSpPr txBox="1"/>
              <p:nvPr/>
            </p:nvSpPr>
            <p:spPr>
              <a:xfrm>
                <a:off x="1143000" y="1828800"/>
                <a:ext cx="5257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6" name="Picture 14" descr="2-18"/>
          <p:cNvPicPr/>
          <p:nvPr/>
        </p:nvPicPr>
        <p:blipFill>
          <a:blip r:embed="rId1"/>
          <a:stretch/>
        </p:blipFill>
        <p:spPr>
          <a:xfrm>
            <a:off x="1676520" y="3809880"/>
            <a:ext cx="50292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83A8CCD-A85B-44B6-8652-89F1AB40DF5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첨단 프로세서 구조의 문제점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스칼라 및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VLIW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시 실행 가능한 명령어 수가 충분하지 않는 경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즉 명령어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수준의 병렬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instruction-level parallelism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이 높지 않으면 하드웨어 이용률이 낮아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하는 정도의 성능을 얻기 어려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파이프라인 구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고속의 부품들로 구성되는 스위칭 메커니즘을 구현할 수 있어야 함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8FAE031-08AE-4A42-BD3E-ACC378437D3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2.3 </a:t>
            </a:r>
            <a:r>
              <a:rPr b="0" lang="ko-KR" sz="3200" spc="-1" strike="noStrike">
                <a:solidFill>
                  <a:srgbClr val="0000ff"/>
                </a:solidFill>
                <a:latin typeface="Comic Sans MS"/>
              </a:rPr>
              <a:t>기억장치 시스템 구조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5341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로 인한 병렬컴퓨터시스템의 성능 저하 요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는 프로세서에 비하여 속도가 현저히 느림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충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emory conflict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 의한 지연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공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구조를 가진 병렬컴퓨터에서 여러 개의 프로세서들이 동시에 같은 기억장치 모듈을 액세스하는 경우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캐쉬 기억장치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cache memory) 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및 기억장치 인터리빙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memory interleaving)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방식을 사용하여 성능 개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4413C07-8465-4C9A-A9EC-3C54B7D0FD3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3.1 Cache memory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와 주기억장치간의 속도 차이를 보완하여 프로세서의 대기 시간을 최소화 시키도록 프로세서와 주기억장치 사이에 위치시키는  고속 반도체 기억장치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속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기억장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용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기억장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용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l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l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기억장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9" name="Picture 4" descr="fig2-23"/>
          <p:cNvPicPr/>
          <p:nvPr/>
        </p:nvPicPr>
        <p:blipFill>
          <a:blip r:embed="rId1"/>
          <a:stretch/>
        </p:blipFill>
        <p:spPr>
          <a:xfrm>
            <a:off x="1523880" y="4876920"/>
            <a:ext cx="5856480" cy="12096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5"/>
          <p:cNvSpPr/>
          <p:nvPr/>
        </p:nvSpPr>
        <p:spPr>
          <a:xfrm>
            <a:off x="6629400" y="4952880"/>
            <a:ext cx="1066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D29373E-E9D4-4FAB-8158-43086FC8D2C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PE</a:t>
            </a: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의 내부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내부 구성요소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R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내부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A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소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I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인덱스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T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데이터 전송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F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플래그 레지스터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= 1 : PE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가 계산 에 참여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= 0 : PE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가 대기 상태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ALU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6" name="Picture 1028" descr="2-2"/>
          <p:cNvPicPr/>
          <p:nvPr/>
        </p:nvPicPr>
        <p:blipFill>
          <a:blip r:embed="rId1"/>
          <a:stretch/>
        </p:blipFill>
        <p:spPr>
          <a:xfrm>
            <a:off x="5003640" y="1268280"/>
            <a:ext cx="43434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B1D7877-C00F-4CF3-AC32-B226CD0741A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6600"/>
                </a:solidFill>
                <a:uFillTx/>
                <a:latin typeface="Comic Sans MS"/>
              </a:rPr>
              <a:t>평균 기억장치 액세스 시간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적중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ache hit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가 원하는 데이터가 캐쉬 내에 있을 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적중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hit ratio) h =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그램과 데이터의 지역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locality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 크게 의존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미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ache miss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가 원하는 데이터가 캐쉬에 없을 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미스율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(1-h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평균 기억장치 액세스 시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액세스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액세스 시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3809880" y="2209680"/>
                <a:ext cx="3048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원하는</m:t>
                        </m:r>
                        <m:r>
                          <m:rPr>
                            <m:lit/>
                            <m:nor/>
                          </m:rPr>
                          <m:t xml:space="preserve">데이터가</m:t>
                        </m:r>
                        <m:r>
                          <m:rPr>
                            <m:lit/>
                            <m:nor/>
                          </m:rPr>
                          <m:t xml:space="preserve">캐쉬에</m:t>
                        </m:r>
                        <m:r>
                          <m:rPr>
                            <m:lit/>
                            <m:nor/>
                          </m:rPr>
                          <m:t xml:space="preserve">있는</m:t>
                        </m:r>
                        <m:r>
                          <m:rPr>
                            <m:lit/>
                            <m:nor/>
                          </m:rPr>
                          <m:t xml:space="preserve">횟수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전체</m:t>
                        </m:r>
                        <m:r>
                          <m:rPr>
                            <m:lit/>
                            <m:nor/>
                          </m:rPr>
                          <m:t xml:space="preserve">기억장치</m:t>
                        </m:r>
                        <m:r>
                          <m:rPr>
                            <m:lit/>
                            <m:nor/>
                          </m:rPr>
                          <m:t xml:space="preserve">액세스</m:t>
                        </m:r>
                        <m:r>
                          <m:rPr>
                            <m:lit/>
                            <m:nor/>
                          </m:rPr>
                          <m:t xml:space="preserve">횟수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4343400" y="5029200"/>
                <a:ext cx="32004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91CE919-7FCB-4AFC-93C4-38C437FC579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캐쉬의 최적 설계 목표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적중률의 극대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액세스 시간의 최소와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실패에 따른 지연시간의 최소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기억장치와 캐쉬간의 데이터 일관성 유지 및 그에 따른 오버헤드의 최소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DAE2ED3-6736-4FBC-B5E9-7B0AE027F4B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의 크기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ache size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용량 증가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적중률 향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용 상승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적 캐쉬의 크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1 ~ 128 Kword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인출 방식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fetch algorith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요구 인출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demand fetch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선인출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prefetch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필요한 정보를 인출할 때 근접한 위치에 있는 정보들을 함께 인출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지역성이 높은 경우에 효율적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적 블록의 크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4 ~ 8 word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D86DFAA-15BF-49E3-AD92-7099067E44B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사상 방식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apping method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직접 사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direct mapping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간단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일한 그룹에 속한 블록들이 빈번히 액세스 될 경우에 캐쉬 실패율이 증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완전 연관 사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fully associative mapping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높은 유연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flexibility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든 캐쉬 슬롯들의 태그 번호들을 고속 검색하기 위한 복잡한 회로 필요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집합 연관 사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set associative mapping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집합의 크기는 캐쉬 적중률에 영향을 주는 요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적 집합 크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2-way, 4-way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1EA4814-7018-4A01-BB5C-53FCCBCF800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4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교체 방식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replacement algorith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LRU (Least Recently Used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장 높은 적중률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FIFO (First In First Out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원형 버퍼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circular buffer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로 구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LFU (Least Frequently Used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수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counter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Random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3D137B7-DE12-4E06-8BF0-F71754809F8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5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쓰기 정책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write policy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Write through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에서 수정된 데이터를 주기억장치에도 갱신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액세스 횟수가 많아져서 병목 현상을 야기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Write back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데이터 수정은 캐쉬에서만 이루어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의 일부 데이터들 무효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돌발적 사고 발생시 데이터 분실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7" name="Picture 4" descr="2-20"/>
          <p:cNvPicPr/>
          <p:nvPr/>
        </p:nvPicPr>
        <p:blipFill>
          <a:blip r:embed="rId1"/>
          <a:stretch/>
        </p:blipFill>
        <p:spPr>
          <a:xfrm>
            <a:off x="1905120" y="3886200"/>
            <a:ext cx="49528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F97FDF1-E5A8-4FDC-BD20-0C570063CD9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ultiprocessor system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서의 데이터 일관성 문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data consistency problem)  </a:t>
            </a: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--- 4.4</a:t>
            </a: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절 참조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2" name="Picture 4" descr="2-21"/>
          <p:cNvPicPr/>
          <p:nvPr/>
        </p:nvPicPr>
        <p:blipFill>
          <a:blip r:embed="rId1"/>
          <a:stretch/>
        </p:blipFill>
        <p:spPr>
          <a:xfrm>
            <a:off x="2590920" y="2286000"/>
            <a:ext cx="43434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2F310E5-8FC2-4006-AE20-95212B20673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947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6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다중 캐쉬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multiple cache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751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계층적 캐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hierarchical cache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2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레벨 혹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3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레벨 캐쉬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3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계층적으로 설치</a:t>
            </a:r>
            <a:br>
              <a:rPr sz="2400"/>
            </a:br>
            <a:r>
              <a:rPr b="1" lang="ko-KR" sz="2000" spc="-1" strike="noStrike">
                <a:solidFill>
                  <a:srgbClr val="000000"/>
                </a:solidFill>
                <a:latin typeface="서울도시"/>
              </a:rPr>
              <a:t>용량</a:t>
            </a:r>
            <a:r>
              <a:rPr b="1" lang="en-US" sz="2000" spc="-1" strike="noStrike">
                <a:solidFill>
                  <a:srgbClr val="000000"/>
                </a:solidFill>
                <a:latin typeface="서울도시"/>
              </a:rPr>
              <a:t>: L1 &lt; L2 &lt; L3 &lt; M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ﵵ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온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칩 캐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on-chip cache):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CPU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칩 내부에 설치되는 캐쉬로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 시간이 가장 짧다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7" name="Picture 4" descr="2-22"/>
          <p:cNvPicPr/>
          <p:nvPr/>
        </p:nvPicPr>
        <p:blipFill>
          <a:blip r:embed="rId1"/>
          <a:stretch/>
        </p:blipFill>
        <p:spPr>
          <a:xfrm>
            <a:off x="5724360" y="2133720"/>
            <a:ext cx="23623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99169F1-3FD7-4336-8DF4-53D6D668FBF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중 캐쉬의 액세스 시간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omic Sans MS"/>
              </a:rPr>
              <a:t>(2003</a:t>
            </a:r>
            <a:r>
              <a:rPr b="0" lang="ko-KR" sz="1800" spc="-1" strike="noStrike" u="sng">
                <a:solidFill>
                  <a:srgbClr val="0000ff"/>
                </a:solidFill>
                <a:uFillTx/>
                <a:latin typeface="Comic Sans MS"/>
              </a:rPr>
              <a:t>년 기준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1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펜티엄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IV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1)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데이터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1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1)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명령어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2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2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3.5 ns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아이테니움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1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2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2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6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3 (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외부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21 ns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97538718-C49F-46EA-ABE5-B1C51A3574E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중 캐쉬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계층적 캐쉬를 가진 기억장치시스템의 액세스 시간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적중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적중률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1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액세스 시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2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액세스 시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m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기억장치의 액세스 시간이라 할 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</a:t>
            </a:r>
            <a:br>
              <a:rPr sz="2400"/>
            </a:br>
            <a:br>
              <a:rPr sz="2400"/>
            </a:br>
            <a:r>
              <a:rPr b="1" lang="ko-KR" sz="2400" spc="-1" strike="noStrike" u="sng">
                <a:solidFill>
                  <a:srgbClr val="009900"/>
                </a:solidFill>
                <a:uFillTx/>
                <a:latin typeface="굴림"/>
              </a:rPr>
              <a:t>평균 기억장치 액세스 시간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a =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x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+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x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+ (1 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x T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3360" indent="-60336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예제 </a:t>
            </a: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2-2] 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참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0F32CA6-846E-4A79-ACE2-B18F353E670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배열 프로세서의 다른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00" name="Picture 5" descr="2-3"/>
          <p:cNvPicPr/>
          <p:nvPr/>
        </p:nvPicPr>
        <p:blipFill>
          <a:blip r:embed="rId1"/>
          <a:stretch/>
        </p:blipFill>
        <p:spPr>
          <a:xfrm>
            <a:off x="1143000" y="1208160"/>
            <a:ext cx="678168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0DED1EF-0AC7-4C04-9ACC-A19A2B33D3A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중 캐쉬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012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분리 캐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plit cache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 캐쉬가 명령어 캐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instruction cache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와 데이터 캐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data cache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로 분리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   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] PowerPC 620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프로세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0" name="Picture 4" descr="2-23"/>
          <p:cNvPicPr/>
          <p:nvPr/>
        </p:nvPicPr>
        <p:blipFill>
          <a:blip r:embed="rId1"/>
          <a:stretch/>
        </p:blipFill>
        <p:spPr>
          <a:xfrm>
            <a:off x="1476360" y="2781360"/>
            <a:ext cx="640872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5A47F7B-C265-42DE-BA42-F1E6C265E80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다중 캐쉬 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3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레벨 캐쉬의 예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아이테니움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Itanium)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프로세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5" name="Picture 4" descr="2-24"/>
          <p:cNvPicPr/>
          <p:nvPr/>
        </p:nvPicPr>
        <p:blipFill>
          <a:blip r:embed="rId1"/>
          <a:stretch/>
        </p:blipFill>
        <p:spPr>
          <a:xfrm>
            <a:off x="971640" y="2205000"/>
            <a:ext cx="67672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FD80B51-8E49-459E-BEF3-BC6C5FB0F03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.3.2 </a:t>
            </a:r>
            <a:r>
              <a:rPr b="1" lang="ko-KR" sz="2800" spc="-1" strike="noStrike">
                <a:solidFill>
                  <a:srgbClr val="0000ff"/>
                </a:solidFill>
                <a:latin typeface="Comic Sans MS"/>
              </a:rPr>
              <a:t>기억장치 인터리빙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(memory interleaving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hared-memory system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emory conflict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 의한 병목 현상을 완화시키기 위한 방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를 여러 개의 독립적인 모듈로 나누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소지정 방식을 적절히 조정함으로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순차적으로 배열된 명령어들 또는 데이터들이 기억장치 모듈들에 분산 저장되도록 함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병렬 액세스 가능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구성 방식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상위 인터리빙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high-order interleaving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하위 인터리빙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low-order interleaving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혼합 인터리빙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high-low-order interleaving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0D10826-DDC8-4A7C-B33A-E29345F66CE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5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가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H</a:t>
            </a:r>
            <a:r>
              <a:rPr b="0" lang="en-US" sz="3100" spc="-1" strike="noStrike">
                <a:solidFill>
                  <a:srgbClr val="0000ff"/>
                </a:solidFill>
                <a:latin typeface="Comic Sans MS"/>
              </a:rPr>
              <a:t>igh-order interleaving</a:t>
            </a:r>
            <a:endParaRPr b="0" lang="en-US" sz="31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000" y="764640"/>
            <a:ext cx="8389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를 모듈들에 순차적으로 지정하는 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설계 방법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주소의 상위 비트들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듈 선택 신호로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주소의 하위 비트들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듈내 기억 장소의 선택에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4" name="Picture 13" descr="fig2-26"/>
          <p:cNvPicPr/>
          <p:nvPr/>
        </p:nvPicPr>
        <p:blipFill>
          <a:blip r:embed="rId1"/>
          <a:stretch/>
        </p:blipFill>
        <p:spPr>
          <a:xfrm>
            <a:off x="2050920" y="3156120"/>
            <a:ext cx="49039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FD21298-BAE1-4F6F-96C0-CE3610A28C0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High-order interleaving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예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4 KByte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1 Kbyte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모듈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4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로구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12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9" name="Picture 4" descr="fig2-27"/>
          <p:cNvPicPr/>
          <p:nvPr/>
        </p:nvPicPr>
        <p:blipFill>
          <a:blip r:embed="rId1"/>
          <a:stretch/>
        </p:blipFill>
        <p:spPr>
          <a:xfrm>
            <a:off x="2340000" y="2276640"/>
            <a:ext cx="51483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6F053A7-114A-4603-92C5-422CA33B53E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나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Low</a:t>
            </a:r>
            <a:r>
              <a:rPr b="0" lang="en-US" sz="3100" spc="-1" strike="noStrike">
                <a:solidFill>
                  <a:srgbClr val="0000ff"/>
                </a:solidFill>
                <a:latin typeface="Comic Sans MS"/>
              </a:rPr>
              <a:t>-order interleaving</a:t>
            </a:r>
            <a:endParaRPr b="0" lang="en-US" sz="31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가 모듈 단위로 인터리빙 되는 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설계 방법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기억장치 주소의 하위 비트들 </a:t>
            </a: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모듈 선택 신호로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기억장치 주소의 상위 비트들 </a:t>
            </a: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모듈내 기억 장소의 선택에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4" name="Picture 9" descr="fig2-24"/>
          <p:cNvPicPr/>
          <p:nvPr/>
        </p:nvPicPr>
        <p:blipFill>
          <a:blip r:embed="rId1"/>
          <a:stretch/>
        </p:blipFill>
        <p:spPr>
          <a:xfrm>
            <a:off x="2195640" y="3141720"/>
            <a:ext cx="42480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2C35FC7-5E53-4067-93EC-13D2D59D4ED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Low-order interleaving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예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1 Kbyte x 4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1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9" name="Picture 4" descr="fig2-25"/>
          <p:cNvPicPr/>
          <p:nvPr/>
        </p:nvPicPr>
        <p:blipFill>
          <a:blip r:embed="rId1"/>
          <a:stretch/>
        </p:blipFill>
        <p:spPr>
          <a:xfrm>
            <a:off x="1619280" y="1773360"/>
            <a:ext cx="57974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A3E3B49-C76B-45AD-A2D1-2741CEE2854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5280" y="380880"/>
            <a:ext cx="8367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다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High-low</a:t>
            </a:r>
            <a:r>
              <a:rPr b="0" lang="en-US" sz="3100" spc="-1" strike="noStrike">
                <a:solidFill>
                  <a:srgbClr val="0000ff"/>
                </a:solidFill>
                <a:latin typeface="Comic Sans MS"/>
              </a:rPr>
              <a:t>-order interleaving</a:t>
            </a:r>
            <a:endParaRPr b="0" lang="en-US" sz="31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8360" y="1066320"/>
            <a:ext cx="770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뱅크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memory bank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내부 모듈들 간에는 상위 인터리빙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외부 모듈 간에는 하위 인터리빙으로 주소지정하는 방식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억장치 뱅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억장치 모듈들로 이루어지는 그룹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4" name="Picture 11" descr="2-29"/>
          <p:cNvPicPr/>
          <p:nvPr/>
        </p:nvPicPr>
        <p:blipFill>
          <a:blip r:embed="rId1"/>
          <a:stretch/>
        </p:blipFill>
        <p:spPr>
          <a:xfrm>
            <a:off x="1619280" y="2637000"/>
            <a:ext cx="532764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638B0C3-8FAD-4A9D-9310-75060B00689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High-low-order interleaving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예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155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 Kbyte x 4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주소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12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뱅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2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9" name="Picture 5" descr="2-30"/>
          <p:cNvPicPr/>
          <p:nvPr/>
        </p:nvPicPr>
        <p:blipFill>
          <a:blip r:embed="rId1"/>
          <a:stretch/>
        </p:blipFill>
        <p:spPr>
          <a:xfrm>
            <a:off x="1619280" y="1773360"/>
            <a:ext cx="57610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F1D686E-103D-4F13-B54F-3D645F02936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(2) C-</a:t>
            </a:r>
            <a:r>
              <a:rPr b="1" lang="ko-KR" sz="2800" spc="-1" strike="noStrike">
                <a:solidFill>
                  <a:srgbClr val="0000ff"/>
                </a:solidFill>
                <a:latin typeface="Comic Sans MS"/>
              </a:rPr>
              <a:t>액세스 및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-</a:t>
            </a:r>
            <a:r>
              <a:rPr b="1" lang="ko-KR" sz="2800" spc="-1" strike="noStrike">
                <a:solidFill>
                  <a:srgbClr val="0000ff"/>
                </a:solidFill>
                <a:latin typeface="Comic Sans MS"/>
              </a:rPr>
              <a:t>액세스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C-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액세스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Concurrent access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각 기억장치 모듈별로 주소가 도착하면 액세스 동작을 시작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액세스 시간 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T = T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굴림"/>
              </a:rPr>
              <a:t>a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 + (M x t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굴림"/>
              </a:rPr>
              <a:t>b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액세스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버스 클럭의 주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M 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모듈의 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4" name="Picture 7" descr="fig2-30"/>
          <p:cNvPicPr/>
          <p:nvPr/>
        </p:nvPicPr>
        <p:blipFill>
          <a:blip r:embed="rId1"/>
          <a:stretch/>
        </p:blipFill>
        <p:spPr>
          <a:xfrm>
            <a:off x="1835280" y="3454560"/>
            <a:ext cx="569268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6BC3672-2BCA-4739-9F7C-00C271A40ED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6600"/>
                </a:solidFill>
                <a:uFillTx/>
                <a:latin typeface="Comic Sans MS"/>
              </a:rPr>
              <a:t>상호연결망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(Interconnection Networks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정적 네트워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tatic network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연결 구조가 고정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원 토폴로지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선형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원 토폴로지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원형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성형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나무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매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시스토릭 배열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원 토폴로지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완전 연결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코달 원형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큐브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동적 네트워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Dynamic network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실행 시간 중에 연결 구조 변경 가능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로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MIMD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시스템에 사용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D0C0C7E-4A7A-434E-B4FF-770B1659E1C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-</a:t>
            </a:r>
            <a:r>
              <a:rPr b="1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액세스 및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-</a:t>
            </a:r>
            <a:r>
              <a:rPr b="1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액세스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1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5341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S-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액세스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imultaneous access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위 인터리빙 방식으로 구성된 기억장치 모듈들에 주소가 동시에 인가하면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모든 모듈들에서 동시에 액세스 동작이 시작되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 된 데이터들은 순차적으로 전송하는 방식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속적인 입력 데이터 흐름이 필요한 파이프라인 컴퓨터에 유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 시간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와 같음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장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동시 액세스 보장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속적 전송 가능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burst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버스 모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33ACAD6-2809-4AF0-A386-3F9E1967791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-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액세스 기억장치 시스템의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352" name="Picture 4" descr="fig2-31"/>
          <p:cNvPicPr/>
          <p:nvPr/>
        </p:nvPicPr>
        <p:blipFill>
          <a:blip r:embed="rId1"/>
          <a:stretch/>
        </p:blipFill>
        <p:spPr>
          <a:xfrm>
            <a:off x="2395440" y="1125360"/>
            <a:ext cx="522468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C45095E-553A-4462-A16F-20F64D82141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S-</a:t>
            </a: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액세스의 시간흐름도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772308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액세스 시간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(M </a:t>
            </a:r>
            <a:r>
              <a:rPr b="1" i="1" lang="en-US" sz="2400" spc="-1" strike="noStrike">
                <a:solidFill>
                  <a:srgbClr val="000000"/>
                </a:solidFill>
                <a:latin typeface="굴림"/>
                <a:ea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7" name="Picture 4" descr="2-33"/>
          <p:cNvPicPr/>
          <p:nvPr/>
        </p:nvPicPr>
        <p:blipFill>
          <a:blip r:embed="rId1"/>
          <a:stretch/>
        </p:blipFill>
        <p:spPr>
          <a:xfrm>
            <a:off x="1619280" y="2276640"/>
            <a:ext cx="612144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AFC8B24-EE85-4744-839E-3096098281B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정적 상호연결 네트워크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08" name="Picture 5" descr="2-4"/>
          <p:cNvPicPr/>
          <p:nvPr/>
        </p:nvPicPr>
        <p:blipFill>
          <a:blip r:embed="rId1"/>
          <a:stretch/>
        </p:blipFill>
        <p:spPr>
          <a:xfrm>
            <a:off x="1979640" y="1052640"/>
            <a:ext cx="49291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34FA968-D8F3-4E09-9970-FB026314F64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굴림"/>
                <a:ea typeface="굴림"/>
              </a:rPr>
              <a:t>2.1.2 </a:t>
            </a:r>
            <a:r>
              <a:rPr b="1" lang="ko-KR" sz="2800" spc="-1" strike="noStrike">
                <a:solidFill>
                  <a:srgbClr val="0000ff"/>
                </a:solidFill>
                <a:latin typeface="굴림"/>
                <a:ea typeface="굴림"/>
              </a:rPr>
              <a:t>다중프로세서시스템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공유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기억장치 시스템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shared-memory system)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밀결합 구조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tightly-coupled system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기억장치가 모든 프로세서들에 의해 공유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분산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기억장치 시스템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distributed-memory system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소결합 시스템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oosely-coupled system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각 프로세서가 기억장치를 공유하지 않고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자신의 지역 기억장치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ocal memory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를 별도로 소유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독립적인 컴퓨터들의 결합 형태이므로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다중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컴퓨터시스템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multiple-computer system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라고도 부름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40034D2-C45B-4A9A-A5A6-C080BC9FE6B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(1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Shared-memory multiprocessor architecture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공유 데이터들이 공유 기억장치에 저장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별도의 프로세서간 통신 메커니즘의 불필요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태스크들을 프로세서들에게 균등 할당이 가능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프로세서 이용률을 극대화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시스템 효율 향상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간 버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혹은 상호연결망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통신량 증가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경합으로 인한 지연 발생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공유자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I/O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장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 충돌 발생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상호연결망의 고속화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기억장치의 사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인터리빙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02:04:40Z</dcterms:created>
  <dc:creator/>
  <dc:description/>
  <dc:language>en-US</dc:language>
  <cp:lastModifiedBy>dwa2007</cp:lastModifiedBy>
  <dcterms:modified xsi:type="dcterms:W3CDTF">2009-06-23T07:33:05Z</dcterms:modified>
  <cp:revision>67</cp:revision>
  <dc:subject/>
  <dc:title>제2장. 병렬처리를 위한 하드웨어 기술</dc:title>
</cp:coreProperties>
</file>