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09E-4C16-4036-B898-2B8BF566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C18-BB62-4B79-B960-D83C9C0C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77A-FC08-4CBE-946C-1DE5AC16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7C3-7433-4763-98C2-3F2601BF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A9DE-2819-400A-928A-9C28551E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61A3-E5BF-4137-955C-3CA036FB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A021-6AB3-4C74-9DDB-AEB79695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3E38-B7F1-46C2-99C7-536C9A0F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0557-2832-4D11-BEAC-2AB01C92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C444-FD15-420A-8F72-A3313D70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E37B-D598-4E11-9752-AB3B27D7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6D9-9C60-4429-B81B-2D8653B8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2813-5560-4E6B-B8AC-5E31AA01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0239-1827-4D88-B830-FA0E0EBA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7297-1C23-46E5-96BC-5ACE944C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092D-ECE4-42A5-A33A-77BEF4DA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AE7A-A3E0-4AFC-9688-AE12649B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3E8-6F2F-444B-AB94-614ADC28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7E2-222C-4F57-A47E-6FC24039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AE6-974B-406B-9B38-4DD7C036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94C-485F-43CA-9D9F-C11DA470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BF4-3A27-492C-B5F1-DD19CD02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8F3-F979-4327-AEE3-E696BC7A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6F4-D3F3-4E22-A913-B954859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5238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A6F0-293B-4969-AECD-0A8157BE2F22}" type="datetime3"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FD61-973D-4AA1-9033-4B4C0BBE67D1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DE00-EA10-40CC-AAA5-5A53BA749118}" type="datetime3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CC85-FE13-4269-9B69-043FFACDC569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2320" y="65530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B718-A60B-4E92-A35A-3C87358CB361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Data Mining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Concepts and Techniqu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— Slides for Textbook —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— Chapter 1 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iawei Han and Micheline Ka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lligent Database Systems Research L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hool of Computing Sci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imon Fraser University, C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4AA-7567-46F6-9F93-75E9D9AAA2C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5923F-2CFE-422F-988B-FCF1F6E04D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ere are the data sources for analys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dit card transactions, loyalty cards, discount coupons, customer complaint calls, plus (public) lifestyle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 clusters of “model” customers who share the same characteristics: interest, income level, spending habit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termine customer purchasing pattern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version of single to a joint bank account: marriag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ross-marke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s/co-relations between product s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 based on the association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610-5A68-42E4-9196-95D4367A3E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0D672-02A7-437D-8D04-0AA9CA96F7C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ustomer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can tell you what types of customers buy what products (clustering or classific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dentifying custom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dentifying the best products for different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prediction to find what factors will attract new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vides summary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various multidimensional summary re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tatistical summary information (data central tendency and vari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629-5351-4587-AF94-9CA878B4B8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6E3B1-3696-47FD-A74F-55029FCD899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rporate Analysis and Risk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nance planning and asset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sh flow analysis and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tingent claim analysis to evaluate asse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oss-sectional and time series analysis (financial-ratio, trend analysi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ource pla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ummarize and compare the resources and spen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mpet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onitor competitors and market direc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roup customers into classes and a class-based pricing 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t pricing strategy in a highly competitiv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AE6-E5A4-477C-88B9-07AB045489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D1A23-AE67-4669-ABF1-E4B250DBB75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idely used in health care, retail, credit card services, telecommunications (phone card fraud)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historical data to build models of fraudulent behavior and use data mining to help identify similar inst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uto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a group of people who stage accidents to collect on insu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ney launde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suspicious money transactions (US Treasury's Financial Crimes Enforcement Network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edical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professional patients and ring of doctors and ring of re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017-D83C-49A0-9496-22AF73D0CD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E4C45-25EB-4FA2-8B36-2F8F6A9C755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inappropriate medical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stralian Health Insurance Commission identifies that in many cases blanket screening tests were requested  (save Australian $1m/yr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telephone frau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lephone call model: destination of the call, duration, time of day or week.  Analyze patterns that deviate from an expected nor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British Telecom identified discrete groups of callers with frequent intra-group calls, especially mobile phones, and broke a multimillion dollar frau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alysts estimate that 38% of retail shrink is due to dishonest employ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6ED-F438-4503-82A8-ACDA4A4F1B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004A4-DC6E-4687-8682-955D1D6A05B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Advanced Scout analyzed NBA game statistics (shots blocked, assists, and fouls) to gain competitive advantage for New York Knicks and Miami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str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JPL and the Palomar Observatory discovered 22 quasars with the help of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net Web Surf-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Surf-Aid applies data mining algorithms to Web access logs for market-related pages to discover customer preference and behavior pages, analyzing effectiveness of Web marketing, improving Web site organization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6CE-11EB-45F4-88B6-A4E9553538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8FC79-AA6F-495B-B7A1-DCC335F88A4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KDD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the core of knowledge discovery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81680" y="15998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05520" y="26668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37335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56272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63868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63244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150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958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760" y="4876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6240" y="54100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6248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11480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572000"/>
            <a:ext cx="685800" cy="6858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429000"/>
            <a:ext cx="457200" cy="4572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981080"/>
            <a:ext cx="75960" cy="609840"/>
          </a:xfrm>
          <a:prstGeom prst="rect">
            <a:avLst/>
          </a:pr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209680"/>
            <a:ext cx="7632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133720"/>
            <a:ext cx="76320" cy="45720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362320"/>
            <a:ext cx="76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685800" cy="7596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362320"/>
            <a:ext cx="152280" cy="22860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086600" y="990720"/>
            <a:ext cx="17431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nowledg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2511000" y="3276720"/>
            <a:ext cx="22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Task-relevant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4052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5280" y="25909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굴림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4560" y="16765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attern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057400"/>
            <a:ext cx="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962160" y="525780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4343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5257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6000" y="60958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05120" y="5409720"/>
            <a:ext cx="38088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54100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657600" y="41911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CB0-78A3-4D6B-A744-2AA056E977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8369D-8CE2-458C-B96F-7FFA9E9FA9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teps of a KDD Proces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Learning the application domai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levant prior knowledge and goals of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ating a target data set: data se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clea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and preprocessing: (may take 60% of effort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reduction and transfor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ind useful features, dimensionality/variable reduction, invariant re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functions of data min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mmarization, classification, regression, association, cluster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the mining algorithm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mi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search for patterns of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Pattern evaluation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visualization, transformation, removing redundant pattern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BDA-081F-4B46-A3D1-9D756B8066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41C3C-97F2-47B1-95C0-BC4E13FF2CC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Business Intellige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5029200"/>
          </a:xfrm>
          <a:prstGeom prst="flowChartExtra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2578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4956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7339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95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352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960" y="1509840"/>
            <a:ext cx="191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Increasing pot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to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0440" y="19558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End 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4400" y="2946240"/>
            <a:ext cx="9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3320" y="3784680"/>
            <a:ext cx="8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03600" y="5689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3960" y="2057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ec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8680" y="299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7440" y="33526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Visualization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1440" y="37720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M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2360" y="40384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nformation Disco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572000"/>
            <a:ext cx="1889280" cy="36828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Expl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7280" y="55627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OLAP, M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1240" y="48006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Statistical Analysis, Querying an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480" y="52578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Warehouses / Data M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1680" y="586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600" y="609588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Paper, Files, Information Providers, Database Systems, OL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477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B29-1B1B-40C3-BA59-FD43BBAD05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37EF2-0C25-49EA-9252-9F41A111ECC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rchitecture of a Typical Data Mining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617220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48640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5334120"/>
            <a:ext cx="1295640" cy="30456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5627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 &amp; 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579132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343400"/>
            <a:ext cx="3504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343400"/>
            <a:ext cx="2667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or data warehous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505320"/>
            <a:ext cx="35053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666880"/>
            <a:ext cx="35049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752480"/>
            <a:ext cx="365760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9718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00400"/>
            <a:ext cx="99072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124080"/>
            <a:ext cx="914400" cy="838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9718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098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nowledge-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E24-FC44-4AA1-A8F5-4675172989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7A58F-A2E1-4ADF-95FE-43CDD450408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is work on this set of slides started with my (Han’s) tutorial for UCLA Extension course in February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r.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Hongjun 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from Hong Kong Univ. of Science and Technology taught jointly with me a Data Mining Summer Course in Shanghai, China in July 1998.  He has contributed many excellent slides to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ome graduate students have contributed many new slides in the following years.  Notable contributors include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Eugene Belchev, Jian Pe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, an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Osmar R. Zaia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now teaching in Univ. of Alber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524-A0B0-4582-808C-319EA1227D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60B31-6A30-4959-ADF4-A65ABE7017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la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ware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ansac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dvanced DB and information repos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-oriented and object-relation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pati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ime-series data and tempor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xt databases and multimedia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Heterogeneous and legacy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782-3A52-42F1-AADF-10D4D810AF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FB24A-8A7C-46C3-82C7-7E27553202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649620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oncept description: Characterization and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eneralize, summarize, and contrast data characteristics, e.g., dry vs. wet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ssoc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rrelation and causa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lti-dimensional vs. single-dimensional assoc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ge(X, “20..29”) ^ income(X, “20..29K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buys(X, “PC”) [support = 2%, confidence = 60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ntains(T, “computer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contains(x, “software”) [1%, 75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7C1-7EF8-47C6-AC70-397455BBA3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AB43F-E7EE-4ABA-8CC4-393F60E84A7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assification and Predi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ing models (functions) that describe and distinguish classes or concepts for future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.g., classify countries based on climate, or classify cars based on gas mile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sentation: decision-tree, classification rule, neural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: Predict some unknown or missing numerical valu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ust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 label is unknown: Group data to form new classes, e.g., cluster houses to find distribution patt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ustering based on the principle: maximizing the intra-class similarity and minimizing the interclass simi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25F-571B-4F64-861E-C290402996C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EEE4B-CA01-4D60-94D6-27C94F4884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utli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Outlier: a data object that does not comply with the general behavior of the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t can be considered as noise or exception but is quite useful in fraud detection, rare events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end and evolution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rend and deviation:  regression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quential pattern mining, periodic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imilarity-based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ther pattern-directed or statistical analy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51A-7DA8-4FCD-AB54-A17D760EDC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55C0F-A5DA-4875-8065-A29E0D01842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re All the “Discovered” Patterns Interest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data mining system/query may generate thousands of patterns, not all of them are interes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ggested approach: Human-centered, query-based, focused m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nterestingness measur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A pattern is 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  <a:ea typeface="굴림"/>
              </a:rPr>
              <a:t>interes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if it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easily underst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by huma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alid on new or test d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with some degree of certaint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otentially usefu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novel, or validates some hypo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at a user seeks to confir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 vs. subjective interestingness measur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statistics and structures of patterns, e.g., support, confid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u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user’s belief in the data, e.g., unexpectedness, novelty, actionability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44A-5E0A-48AB-9F96-80D2328936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B7149-C048-418F-8BDB-0CF5850AF70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an We Find All and Only Interesting Patter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Find all the interesting patterns: Complet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 vs. classification vs. clu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earch for only interesting patterns: Optim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roa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rst general all the patterns and then filter out the uninteresting 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enerate only the interesting patterns—mining query optim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B39-E28A-44BC-A6C6-AA307D34E2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48F00-20A7-4160-A9EE-E404787EC8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4678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onfluence of Multiple Disciplin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3429000"/>
            <a:ext cx="2209680" cy="9144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1905120"/>
            <a:ext cx="198108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257800"/>
            <a:ext cx="198144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198108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666880"/>
            <a:ext cx="12956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666880"/>
            <a:ext cx="114300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464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028840" y="4419720"/>
            <a:ext cx="15238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4419720"/>
            <a:ext cx="16002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153-D85B-44EA-B73B-2029E40D37B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AB433-FF97-4C79-BAB6-9640600EC12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lassification Sche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neral fun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scriptive data m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edictive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ifferent views, different class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databases to be m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knowledge to be discov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techniques u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applications adap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5B7-CB59-40B0-9202-9FFDE91AF6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9686F-329B-44AB-974F-A493D127280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Multi-Dimensional View of Data Mining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s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, transactional, object-oriented, object-relational, active, spatial, time-series, text, multi-media, heterogeneous, legacy, WWW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Knowledge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ation, discrimination, association, classification, clustering, trend, deviation and outlier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ultiple/integrated functions and mining at multipl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chniques uti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-oriented, data warehouse (OLAP), machine learning, statistics, visualization, neural networ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pplications ada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tail, telecommunication, banking, fraud analysis, DNA mining, stock market analysis, Web mining, Weblog analys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9E7-8F91-487D-A2CA-366470B7CA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EFC0A-6250-4707-AE81-2C4CCD52AC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LAP Mining: An Integration of Data Mining and Data Warehou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systems, DBMS, Data warehouse systems coup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o coupling, loose-coupling, semi-tight-coupling, tight-coup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mining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ining and OLAP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multi-level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ecessity of mining knowledge and patterns at different levels of abstraction by drilling/rolling, pivoting, slicing/dicing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ultiple mining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ed classification, first clustering and then assoc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CE9-51DC-4CDD-9AF3-B398D39DD35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4B758-E74C-4692-8BB7-650BD1CB879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1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459-00.3 Course Schedu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. Introduction {W1:L2, 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2. Data warehousing and OLAP technology for data mining {W2:L1-3, W3:L1-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 1 distribution (SQLServer7.0+ DBMiner2.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3. Data preprocessing {W3:L3, W4: L1-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4. Data mining primitives, languages and system architectures  {W4: L3, W5: L1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1 due, homework #2 distribu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5. Concept description: Characterization and comparison  {W5: L2, L3, W6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6:L1 Thanksgiving D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6. Mining association rules in large databases  {W6: L3, W7: L1-3, W8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{W8: L2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7. Classification and prediction {W8:L3, W9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8. Clustering analysis  {W10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0: L3 Homework #2 d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9. Mining complex types of data {W11: L2-L3, W12: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1:L1 Remembrance Day, W12:L3 Course project d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0. Data mining applications and trends in data mining {W13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Final Exam (W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4C6-87F2-4EDF-9BEF-26648A35B6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DA1B3-0947-43C0-8682-D66DAF3E9D9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n OLAM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495680"/>
            <a:ext cx="685800" cy="22860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41148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1911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886200"/>
            <a:ext cx="11430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647712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9132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5638680"/>
            <a:ext cx="1295640" cy="3049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867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648320"/>
            <a:ext cx="13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Meta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MD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24280" y="4343040"/>
            <a:ext cx="83844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16765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5053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362320" y="3657600"/>
            <a:ext cx="9144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360" y="3809880"/>
            <a:ext cx="106668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76920" y="3657600"/>
            <a:ext cx="60948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952880" y="36572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4382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7432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1676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User GU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6680" y="31240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Cub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5181480"/>
            <a:ext cx="5715000" cy="7632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38280" y="464796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495320" y="48006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1814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6248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1722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1480" y="58672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1814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2057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OLAP/OL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3886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D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56272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Reposi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83808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77120" y="1142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&amp;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6095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95880" y="3657600"/>
            <a:ext cx="2286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172-C3E9-4D73-8418-4E304070C88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76204-7B80-4B76-A96B-6A9F578FFDD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ining methodology and user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different kinds of knowledge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at multiple levels of abs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corporation of backgroun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query languages and ad-hoc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ression and visualization of data mining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noise and incomplet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: the interestingness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erformance and sca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fficiency and scalability of data mining algorith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rallel, distributed and incremental mining meth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275-3E1D-43CA-8328-EAA4CECA4E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2BF24-8711-4CD5-B86C-2C208B7A84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ing to the diversity of data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relational and complex type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information from heterogeneous databases and global information systems (WW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ed to applications and social imp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lication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omain-specific data mining to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cess control and decision 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the discovered knowledge with existing knowledge: A knowledge fusion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tection of data security, integrity, and priv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6CE-2951-491F-A0EB-02D0A8EBE9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3A20F-8024-4168-B0B8-BCE9E055607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discovering interesting patterns from large amount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natural evolution of database technology, in great demand, with wid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KDD process includes data cleaning, data integration, data selection, transformation, data mining, pattern evaluation,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can be performed in a variety of information repos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: characterization, discrimination, association, classification, clustering, outlier and trend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E5B-713A-4DAD-8094-DE5781CD3B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20174-5AED-4B82-BE63-E9EB1E8284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Brief History of Data Mining Socie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89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JCAI Workshop on Knowledge Discovery in Databases (Piatetsky-Shapi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 in Databases (G. Piatetsky-Shapiro and W. Frawley, 199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1-1994 Workshops on Knowledge Discovery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Advances in Knowledge Discovery and Data Mining (U. Fayyad, G. Piatetsky-Shapiro, P. Smyth, and R. Uthurusamy, 199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5-1998 International Conferences on Knowledge Discovery in Databases and Data Mining (KDD’95-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ournal of Data Mining and Knowledge Discovery (199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8 ACM SIGKDD, SIGKDD’1999-2001 conferences, and SIGKDD Explo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re conferences o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PAKDD, PKDD, SIAM-Data Mining, (IEEE) ICDM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069-5D6A-43FE-86EA-4006EB9017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3773D-7976-464B-81D8-46677D47C11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Referenc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mining and KDD (SIGKDD member CD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KDD, and others, such as PKDD, PAKDD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: Data Mining and Knowledge Discove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 field (SIGMOD member CD 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ACM-SIGMOD, ACM-PODS, VLDB, ICDE, EDBT, DASFA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CM-TODS, J. ACM, IEEE-TKDE, JI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I and Machine Learn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Machine learning, AAAI, IJCA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Machine Learning, Artificial Intellig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tatistic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Joint Stat. Meeting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nnals of statist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isualiza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CH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IEEE Trans. visualization and computer graph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8A3-C815-4822-A045-AA1035D040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F4FEF-A544-466A-A6E4-D60E73B74A4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99760" y="609480"/>
            <a:ext cx="7155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U. M. Fayyad, G. Piatetsky-Shapiro, P. Smyth, and R. Uthurusamy. Advances in Knowledge Discovery and Data Mining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. Han and M. Kamber. Data Mining: Concepts and Techniques. Morgan Kaufmann, 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T. Imielinski and H. Mannila. A database perspective on knowledge discovery. Communications of ACM, 39:58-64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, U. Fayyad, and P. Smith. From data mining to knowledge discovery: An overview. In U.M. Fayyad, et al. (eds.), Advances in Knowledge Discovery and Data Mining, 1-35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 and W. J. Frawley. Knowledge Discovery in Databases. AAAI/MIT Press, 199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68F-B508-4949-8EB9-2332DA502C6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147DD-5A64-480A-A6D8-7EF06E6F318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  <a:ea typeface="굴림"/>
              </a:rPr>
              <a:t>Thank you 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895-B2D8-4DAF-B496-F67D15DC23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70852-2F29-4B50-ADBC-B8A7CFA3CC4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843 Course Arran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st week: full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2nd to 11th week: 1/2 graduate student + 1/2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2-13th week: full student graduate project pres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Course evalua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esentation (quality of presentation slides 7% + presentation 8%) 1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exam 3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(presentation 5% + report 25%)  total 3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 (2): 2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Deadline for the selection of your work in the semeste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course presentation: at the end of the 1st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the course project: at the end of the 3rd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proposal due date: at the end of the 4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due dates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due date: end of the seme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Your presentation slides due date: one day before the 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date: end of the 8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D02-FB47-4D60-8865-5D07C42E95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374F2-B466-4E04-9B5D-232D16364D4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the Set of Slid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utorial sections (MS PowerPoint fi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/dm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 conference presentation slides (.pp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earch papers, DBMiner system, and other related inform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744-FBAC-48C9-8247-B1E5734758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6A16E-B4A0-414F-BD30-21A1E3FA9B6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Chapter 1.  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otivation: Why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e all the patterns interest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DE4-D949-432F-84AF-C0A5A38F7C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615C4-47BC-467F-8E04-A2C2E0D314D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otivation:  “Necessity is the Mother of Invention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explosion pr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tomated data collection tools and mature database technology lead to tremendous amounts of data stored in databases, data warehouses and other information repositories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e are drowning in data, but starving for knowledge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olution: Data warehousing and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Data warehousing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knowledge (rules, regularities,  patterns, constraints) from data in 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67E-3397-4F65-B4EB-B086BF7FB3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D9C78-CCA1-4A71-8D9F-D2B5004BA12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Evolution of Database Technology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(See Fig. 1.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196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collection, database creation, IMS and network DB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7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 data model, relational DBMS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8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DBMS, advanced data models (extended-relational, OO, deductive, etc.) and application-oriented DBMS (spatial, scientific, engineering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90s—200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data warehousing, multimedia databases, and Web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CED-CF28-41E8-8B5C-D6A7FA29AC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22ECA-4390-4A6C-9645-A73EF877E00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8640" y="699840"/>
            <a:ext cx="75070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(knowledge discovery in databases):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n-trivial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mplici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eviously unknow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otentially useful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formation or patterns from data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ternative names and their “inside stories”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misnom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(mining) in databases (KDD), knowledge extraction, data/pattern analysis, data archeology, data dredging, information harvesting, business intelligenc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not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(Deductive) query processing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ert systems or small ML/statistical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7560" cy="117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8880" y="4932360"/>
            <a:ext cx="19051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443-8DF6-499E-B1CD-82BDF1423A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6BFA7-5E40-422F-B8CC-176A7DE81FA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Data Mining? — Potential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 analysis and decision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, customer relation management,  market basket analysis, cross selling, market se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isk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orecasting, customer retention, improved underwriting, quality control, competitiv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Text mining (news group, email, documents) and Web analy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6D0-BDB9-4A6E-B036-9018536D96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3E10B-0DBB-496E-A28C-70A7D0B64B5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22:01:55Z</dcterms:created>
  <dc:creator>Jiawei Han</dc:creator>
  <dc:description/>
  <dc:language>en-US</dc:language>
  <cp:lastModifiedBy>Jong Soo Park</cp:lastModifiedBy>
  <cp:lastPrinted>2000-06-01T21:00:25Z</cp:lastPrinted>
  <dcterms:modified xsi:type="dcterms:W3CDTF">2002-05-14T02:30:51Z</dcterms:modified>
  <cp:revision>167</cp:revision>
  <dc:subject/>
  <dc:title>Mining Frequent Patterns Without Candidate Generation</dc:title>
</cp:coreProperties>
</file>