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176-792E-4C2F-90E7-EDA14F0C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4CC-00F8-4FC2-BEC9-AAB58052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612-9653-461F-B5A1-E948AF70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73F-805A-48AC-BD66-13000A01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1167-4E60-4A21-8B08-F1299D55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261A-AB86-4BBF-A695-60890837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1521-843F-4DE2-BA8E-EC3DC84F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E368-33E7-4BD6-9458-9BE38E47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A2B0-5C57-4FC5-A114-5708BC2D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4193-1D07-46D6-BB51-4F7F1BB1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BA99-6142-4CE5-A09F-544B7D49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761-6D0A-4A20-96E8-CFD6EF9C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C3C4-A801-4E0C-9A1D-36C57631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4A8D-FD92-4371-8F56-2DC9AA36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5FC3-4825-4C05-8737-BA3D1862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6CDB-7664-443C-9927-64B4C4DE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7963-11A0-4B84-8B9B-5D0E0D57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DCA-85C9-498B-B379-E98DB801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145-CE9D-4929-91A2-612CDC13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015-5E40-4832-B557-9DB7ECAB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C75-466D-4B1A-9276-71E5BA70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9E1-BC12-45F3-A052-6B57D5F5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689-7B38-4797-A138-0913D02C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277-FACE-4476-BE3F-8CE3AA0E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E5E6-2946-41CC-9CE4-F16B07E2AA83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A120-88CD-4576-8E34-5208C62BC8E6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8C1-DDFE-4DF8-9673-7436E918A8C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통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 웨어하우스 도입시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32E-AD4C-4658-91D0-526AFD5993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  <a:ea typeface="굴림"/>
              </a:rPr>
              <a:t>ERP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란 무엇인가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?</a:t>
            </a:r>
            <a:br>
              <a:rPr sz="4400"/>
            </a:b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tp://www.valhae.com/business/erp.html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굴림"/>
                <a:ea typeface="굴림"/>
              </a:rPr>
              <a:t>Enterprise Resource Planning/</a:t>
            </a:r>
            <a:r>
              <a:rPr b="1" lang="ko-KR" sz="3200" spc="-1" strike="noStrike">
                <a:solidFill>
                  <a:srgbClr val="3333cc"/>
                </a:solidFill>
                <a:latin typeface="굴림"/>
                <a:ea typeface="굴림"/>
              </a:rPr>
              <a:t>전사적 자원관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사전체 경영자원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즉 생산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물류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계 등의 기업업무를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전사적인 경영자원으로 활용하기 위하여 최적화하는 시스템으로 주로 통합시스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기업의 경영목적을 가장 효율적으로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기업내의 생산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계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영업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재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물류 등의 업무를 통합적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조직적으로 연계 관리하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사 내 모든 정보를 공유하며 정보를 만들어 제공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기업의 생산성과 경쟁력을 극대화시키는 통합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시스템 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(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OLTP layer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software, 177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페이지 참조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B4D-06EB-4651-A51F-0AF4B542F8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erp_p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90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762120"/>
            <a:ext cx="7391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valhae.com/business/er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440-A76E-4BC1-B804-A6E7EF91902D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구 우수 모범 기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est practic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프로세스를 담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stomi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의 프로세스를 바꾸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려운 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장표를 개발하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ing syste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표준화된 장표와 그 외는 프로그래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하면 정형화된 장표와 비정형화된 장표를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580-9736-4F8E-9E25-CC21BF7DA1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운영계에 해당하는 시스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정보계에 해당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을 처리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의 결과를 분석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하나의 하드웨어에 구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동일한 하드웨어에서 운영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부하를 줄 수 있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하드웨어를 사용하는 것이 바람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순서는 별 문제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BA0-4475-45F2-950D-DE27236B15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어떻게 추출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vendo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제공하는 추출 도구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 데이터 마트의 위험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추출하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부서 단위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목적별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추세는 전사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고급 데이터 분석의 내용을 제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업의 경영 활동에 부가가치를 창조할 수 있는 시스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66E-D909-4CCF-B02C-1BF05AD060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racl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D44-FFA1-4B82-AC9E-D54DE0A47D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A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5F0-1E5B-410A-8F8B-BFDA3FAFE9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8:20:24Z</dcterms:modified>
  <cp:revision>276</cp:revision>
  <dc:subject/>
  <dc:title>제6장 데이터 웨어하우스의 관리</dc:title>
</cp:coreProperties>
</file>