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7ABE-FCCB-4800-A1AF-B75EE74CF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6EF5-BD54-4915-A597-4B1F7AFD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7975-CFFC-4C80-B865-85EB3FC6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331D-8946-41BC-AF51-EA880BB4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6D8D-CCC3-48AC-AE69-06EAB7676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12D1-42A7-4C56-93B5-617BECDB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E378-7DA9-479A-8FD9-CADB5190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6B50-53BA-4302-B4D6-AF42DEB7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4E0A-3F22-4BBF-8E09-05149A9B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5D46-0861-4403-87A5-21BF6FD9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F6ED-60B3-47C8-A0B7-6A35C7CF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210C-98F2-4106-A5B4-14534CCD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D04B-5297-4303-95A5-0A4C2DA2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36DC-52D7-4B79-B5F6-0DB20DD6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F7CB-90E2-4088-BA77-667F4092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B56A-DF1E-46CD-A29D-58AC304B4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D27F-7CD6-4C12-8E53-4990B8F51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7D7F-CAB5-4CB0-AFF9-6A4ABD16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EA98-0879-4D87-9166-3B3EC7DE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1129-7928-4332-A8FE-409B8CA9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35AD-0227-462E-A852-E8708E0E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FD95-0AC6-4A44-B09E-F4AF0903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5E6A-3294-4E74-A566-6C8B569F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219F-0842-4919-AB04-D29A9155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6F8F-7FB0-4988-9DD5-31222F9E3D02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FD43-CFF3-493A-81A3-5C56BB75C570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11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구축 방법론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4193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박 종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신여자대학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컴퓨터정보학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CF2A-97C9-4B1C-AAAB-2139FC7255F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단계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-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정의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시스템의 목적 선언문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ission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D034-9CC5-4963-BB8B-0704B495B10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11 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장 구축 방법론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프로젝트 추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프로젝트 추진의 주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선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방법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다른 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Project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과 시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구축 방법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97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설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천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발견과 발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모든 단계에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문서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2870-F2BA-4A8E-9A9B-06C40E264CE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축 원칙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안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업이 사용하는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현업의 요구 사항이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100%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반영되어야 한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양이 많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강력한 하드웨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섬세한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설계 및 튜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신속한 추출과 로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시스템을 구축해본 경험으로 하면 실패하기 쉽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DF40-C76D-4402-9542-70F30F0C2E8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프로젝트 추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제트 추진 주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업에서 주도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제일 바람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현업에서 원하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구축 가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컴퓨터 비전문가로 인한 신기술 도입에 어려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산실에서 주도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대개의 경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파일럿 시스템 구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외국 컨설팅 업체에서 맡길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국내 기술로도 가능하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FC0C-F669-4296-B093-9D570421FF6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업무 선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Project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안시 가장 고민하는 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제 영역 선정 작업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민감한 부분을 해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국내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제 영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port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만들기 힘든 부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경영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장표 분석 결과가 운영계 시스템과 일치하지 않는 부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을 배치 작업으로 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의 정보 가동 방식으로는 전혀 분석할 수 없는 부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2D2B-862F-4631-9B41-4BA8AEAE486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구축방법이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OLT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다른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사용자 수를 기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데이터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보다 약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ardwar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량 산정에 오류 가능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실제 데이터로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병목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네트워크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서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병목 현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 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현업이 프로젝트의 처음에서 끝까지 참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주인은 현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스템의 주인은 전산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8CCE-A86E-4596-865E-289537029C1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 Projec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시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드웨어 발주와 도착 시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에서 설치까지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월 가량 걸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원시 데이터를 정의하고 초기의 원시 데이터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 내리는 시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생각보다 시간이 많이 걸린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와 기존의 운영계 시스템에서 데이터를 맞추는 시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안 맞을 것이다’라는 자세에서 출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업무를 협의하는 시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많으면 곤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1EAC-BFC0-412A-8601-1E4ECA6C6C8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축 방법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모든 단계를 체계적으로 정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밀 지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회사마다 구축 방법론이 다르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projec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시스템 개발과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다른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cycl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을 갖는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7C2E-927C-47DF-8AE2-D7995FCBCA0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19320" y="762120"/>
            <a:ext cx="5638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685800"/>
            <a:ext cx="779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Oracle 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구축 방법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447920" y="1600200"/>
            <a:ext cx="5333760" cy="5016240"/>
            <a:chOff x="1447920" y="1600200"/>
            <a:chExt cx="5333760" cy="5016240"/>
          </a:xfrm>
        </p:grpSpPr>
        <p:sp>
          <p:nvSpPr>
            <p:cNvPr id="117" name=""/>
            <p:cNvSpPr/>
            <p:nvPr/>
          </p:nvSpPr>
          <p:spPr>
            <a:xfrm>
              <a:off x="1447920" y="1600200"/>
              <a:ext cx="52578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정  의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47920" y="2516040"/>
              <a:ext cx="3124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분  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47920" y="3432240"/>
              <a:ext cx="3124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0000"/>
                  </a:solidFill>
                  <a:latin typeface="Tahoma"/>
                  <a:ea typeface="굴림"/>
                </a:rPr>
                <a:t>설  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47920" y="4348080"/>
              <a:ext cx="3124080" cy="47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0000"/>
                  </a:solidFill>
                  <a:latin typeface="Tahoma"/>
                  <a:ea typeface="굴림"/>
                </a:rPr>
                <a:t>구  축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47920" y="5221440"/>
              <a:ext cx="3124080" cy="47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천  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47920" y="6095880"/>
              <a:ext cx="533376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발견과 발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0000">
              <a:off x="4489560" y="3892680"/>
              <a:ext cx="3124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문 서 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1992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19920" y="5715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71800" y="2133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71800" y="3048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71800" y="3962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71800" y="4800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1800" y="5715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0" y="2819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37339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0" y="4572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54864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BCE2-4066-4F26-9DF7-57BB092811EE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6-03T06:11:41Z</dcterms:modified>
  <cp:revision>288</cp:revision>
  <dc:subject/>
  <dc:title>제6장 데이터 웨어하우스의 관리</dc:title>
</cp:coreProperties>
</file>