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658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726B-E71B-4A8C-B7AD-C1018F0A4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94B5-340A-4341-A2E7-9AD592FED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0E00-25F5-4917-9545-2701F5BCA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1640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4772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1640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4772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A875-1244-4314-AAEA-345AF230B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EDECD-E63B-4445-80EE-15A1D7893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8D668-543B-4546-9189-8F726D330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69E70-7277-4859-9950-4B693E44E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CEE8C-C12C-477A-853B-09E892F18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B825C-A883-4D23-985D-8FE5CF3A7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42640" y="685440"/>
            <a:ext cx="779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639EC-6B1F-4689-A837-3C0AAE207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6FE4E-DF17-47C2-AB7B-8641A7543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121D-DF0A-48C8-83A2-2005CB3F1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B7B4C-B4E0-4361-A032-F8964E92D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81DEB-42F7-495F-9529-03B3F8BAA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1DA78-5804-491A-A050-DCCFDC9F5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3AFAE-B208-46F0-AB09-E0181BC72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41640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14772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44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41640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14772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8C045-8A26-41D1-B25F-4B3729C92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DB68-4BEF-4416-9836-2FB1BA740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AB47-963D-437F-93B5-8A6A9ACE9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0038-2463-49E9-A71C-2E1350FDA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42640" y="685440"/>
            <a:ext cx="779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27D9-49CE-462B-A6F2-F6D73201F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3EDE-C5C3-4239-8C53-421A16B43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4AF2-7357-47D0-871C-73AA00560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2C12-BA25-4C29-9C3B-A75A951DF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33360" y="72072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16040" y="720720"/>
            <a:ext cx="3286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114300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26920" y="1143000"/>
            <a:ext cx="36864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57320" y="12542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77880" y="61272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58920" y="1403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52280" y="6324480"/>
            <a:ext cx="1905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594F0-BE79-461C-A8F8-515278741DBB}" type="datetime3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2026년 7월 31일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200040" y="632448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0379F-2497-4168-ACE4-C54F52CC8BFA}" type="slidenum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0C801-D7DA-47EA-98A8-79B45EE912C4}" type="datetime3"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2026년 7월 31일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34660-5295-42DB-856C-16AEE807B230}" type="slidenum"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440" y="1294920"/>
            <a:ext cx="807732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제 </a:t>
            </a: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6 </a:t>
            </a: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장</a:t>
            </a:r>
            <a:br>
              <a:rPr sz="5400"/>
            </a:b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스의 관리</a:t>
            </a:r>
            <a:r>
              <a:rPr b="0" lang="en-US" sz="5400" spc="-1" strike="noStrike">
                <a:solidFill>
                  <a:srgbClr val="333399"/>
                </a:solidFill>
                <a:latin typeface="Tahoma"/>
                <a:ea typeface="굴림"/>
              </a:rPr>
              <a:t> 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4952520"/>
            <a:ext cx="83059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Jong Soo Pa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jpark@cs.sungshin.ac.k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8772-F926-4052-A9CA-284A1BFFEBB1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D9A760-4C9C-49B1-91C0-687DFFE4E442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W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의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Security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어플리케이션의 최소화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퍼포먼스의 최적화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기능 축소 방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보안 계층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security hierarchy)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의 설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조직별 보안 관리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품목별 보안 관리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D2A5-DB51-4A05-9815-1599DE060AA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D46BD9-6896-40D4-B69F-BC11CB8BCE31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스의 관리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의 추출과 로드의 자동화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요약과정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Summary process)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의 자동화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와 보안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CF4F-8829-49C0-99DB-EFE8BC1CA47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979877-A7BB-4908-BC3D-BBE9AC16E99A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</a:rPr>
              <a:t>1.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의 추출과 로드의 자동화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소스 시스템에서 데이터를 추출하는 과정이 복잡함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여러 문제점이 발생한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일련의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ETT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과정을 자동화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Extraction, Transformation, Transpor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필요 시점에 원하는 데이터를 가져온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가 정확히 반영되어 원하는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performance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의 무결성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ata integrity)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이 보장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DEDE-2750-4A6E-B2D2-177E34ACFC0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C51606-C2B5-47E8-8B1E-EB84D99E3BD0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추출을 자동화하는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aem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추출은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tch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로 장시간의 작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정상적인 작업인지를 통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작업 진행 상화 확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ETT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를 위한 필요 정보를 메타 테이블에 보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CAAF-03AA-40C7-B557-9AFE2FADD4E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4AA723-47B1-4396-AF30-4738198DB5B1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구축 내용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주제 영역별 필요 작업 정의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필요 작업별로 모듈화 하는 것이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ETT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자동화 첫걸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예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수주 사실 테이블에 대한 데이터를 추출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월별 테이블 생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월별 테이블 삭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일별 증분 데이터 반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제약 사항 추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Performance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요인 추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각 모듈별 프로그램 작성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굴림"/>
              </a:rPr>
              <a:t>job queue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에 등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B8D4-BB4B-4410-8DCB-1198171B9A1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FC7BAE-8588-4F10-84F3-03E400438B85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</a:rPr>
              <a:t>2.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Summary process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의 자동화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W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를 구축하는 목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원하는 시점에 원하는 데이터를 빠르게 제공함으로써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의사결정을 지원하는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것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는 시간이 경과함에 따라 데이터 양이 증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현실적으로 대량의 데이터를 온라인으로 처리하는 것은 불가능하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기본적인 데이터 양이 줄어들면 가능하다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처리하는 데이터의 크기를 줄이는 요약기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요약 테이블은 데이터 무결성 문제를 야기한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의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performance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를 위해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요약 테이블을 자동 생성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관리한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1259-CD7F-4951-97EA-6827612FEA4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414BA1-003D-44C8-A37C-DD3B83275129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요약 테이블 관리의 요건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전체 시스템에서 데이터의 정합성을 보장하기는 아주 어렵다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문제점 해결을 위한 기본 개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요약 테이블 생성에 대한 부담 감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요약 테이블 삭제에 대한 부담 감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요약 테이블 생성의 최적화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요약 테이블의 무결성 보장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확장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3CCA-F341-4412-BDF6-1FD67EF954C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ACEA13-8A20-4B61-B758-B36F1EB3DAB1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요약 관리를 위한 메타 데이터 설계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신속 정확한 요약 과정을 위하여 별도의 메타 데이터 설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메타 데이터는 데이터의 일치성 보장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효과적 업데이트 및 확장성 보장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요약 메타 데이터 설계에 대한 가장 기본적인 예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그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요약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maste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정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생성 일자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데이터 반영 일자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요약 생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QL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7BAB-EB85-4F25-9AC5-E75FF7FBEDA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07F811-4220-408F-A6BD-B2D0535DC0D5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</a:rPr>
              <a:t>3.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스와 보안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에서 산출되는 데이터는 의사결정의 토대가 되는 기본 정보이므로 </a:t>
            </a:r>
            <a:r>
              <a:rPr b="0" lang="ko-KR" sz="2800" spc="-1" strike="noStrike">
                <a:solidFill>
                  <a:srgbClr val="ff0000"/>
                </a:solidFill>
                <a:latin typeface="Tahoma"/>
                <a:ea typeface="굴림"/>
              </a:rPr>
              <a:t>누출 방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효과적인 의사결정 정보의 산출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이에 대한 보안도 중요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사용자는 </a:t>
            </a:r>
            <a:r>
              <a:rPr b="0" lang="ko-KR" sz="2800" spc="-1" strike="noStrike">
                <a:solidFill>
                  <a:srgbClr val="ff0000"/>
                </a:solidFill>
                <a:latin typeface="Tahoma"/>
                <a:ea typeface="굴림"/>
              </a:rPr>
              <a:t>한정된 범위 내에서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 데이터를 이용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9BDA-8123-429C-9688-182A0B552A8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C47714-4BD9-4147-8722-94B870C0B793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19T04:38:52Z</dcterms:created>
  <dc:creator>Jong Soo Park</dc:creator>
  <dc:description/>
  <dc:language>en-US</dc:language>
  <cp:lastModifiedBy>Jong Soo Park</cp:lastModifiedBy>
  <cp:lastPrinted>1999-09-10T20:38:56Z</cp:lastPrinted>
  <dcterms:modified xsi:type="dcterms:W3CDTF">2002-05-14T03:38:49Z</dcterms:modified>
  <cp:revision>232</cp:revision>
  <dc:subject/>
  <dc:title>제6장 데이터 웨어하우스의 관리</dc:title>
</cp:coreProperties>
</file>