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BBE4-3562-4F86-99AB-9A4F20C27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B89D-985B-4913-B898-5CBCEF47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1BEE-D397-49A0-952A-4D306340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0878-CD60-43ED-9D06-FFCE7AB0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F435-6003-44C3-9CA9-96ADD3E1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6108-FD08-41D9-A816-B820ABD5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8F04-26A9-4CDE-9B34-16E1F504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F452-84D5-46C0-B83C-6EE9D7DC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62C2-5D45-47C7-8EB7-D97C9FAC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8107-657E-42AB-B746-F58376A9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B3FA-45C8-4BB1-8613-D683ADA9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80BA-04DF-4416-9EBC-9D7B4409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9544-91E3-47BA-90EB-2727E3F2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73BB-6B7B-41A5-8D34-3594722C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70A5-B024-4BBE-8C59-19F62DF2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0505-5888-4968-BA37-0F253327A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E265-9D08-4757-99B5-E6DF6607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A75A-33FC-43C6-941D-1B002169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6B34-0706-42BC-A875-3C4F5805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F166-B33B-4791-9390-ABB114BF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DD52-8277-46E4-AE88-A1F87232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8931-F26F-4308-9E7F-B3B385F9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2501-B2B4-4F17-90BB-DE4E0C34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1123-DFC6-41EB-9A90-8CBCB4D2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9705-7E25-428A-83B2-F4F219CED188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A1E4-A2BA-44AF-BB97-DB2D51B960E9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7940-A40E-4866-A940-B39A000C0E19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66BD-943E-4246-BF36-27709F5C7E30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를 정당화하고 최고 경영진의 지원을 얻는 방법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A3F6-7394-4BDB-8443-5B5B4444447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0BB3ED-F29C-4984-9551-626F13D1B69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능력 발전의 단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상태 보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심 설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보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업무 관계 모델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리에 의한 동적 모델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8A75-C161-41AA-9CFF-4BDFE894A9F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2C7D22-A043-4AEE-A4AE-789B236BE81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8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웨어하우스에 무엇을 어떤 순서로 넣을지 어떻게 판단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모든 데이터는 똑같이 가치있는 것이 아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가치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정의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모델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분석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결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709E-2714-4636-AF3A-B5C8855BC97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8AFD8D-4C99-4743-B886-C899113DDD6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9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람과 자원 면에서 당신의 조직체 내에서 데이터 웨어하우스의 그림자는 얼마나 큰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자 데이터 웨어하우스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=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매번 처음부터 시작하지 않아도 될 수 있도록 분석 조각들을 모으고 반복할 수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42FF-5C2D-4D8A-8EEF-6051B0C882B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011CA6-FE04-43DF-9AFF-283C15F010F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0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그들이 회의를 통제하게 만들 준비가 되어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른 방침을 취하고 당신의 각본을 벗어날 각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상회의에서 발표하는 당신을 비디오 촬영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검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6DD9-10F6-4E26-A63F-D0C69B2BAAB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EF5646-E512-4C84-BED8-5B4D84B25AD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1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언제 수석 경영진을 납득시키기를 끝낼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것이 회사 경영 과정에서 확고히 뿌리를 내린 때이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1190-6FD3-4502-9A89-ADE593A838C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5896FE-414A-4CE1-90CC-439566E8D97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2: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람들이 데이터 웨어하우스를 이용하면서 시간을 얼마나 낭비할 것인지에 대해 중역들이 걱정하는 것은 얼마나 타당성이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몇 가지 역사적인 증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작업 복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요 관계들이 변경시켰을 때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정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경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필요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지능형 에이전트 소프트웨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에 관한 데이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B7AA-1E93-4BA8-B12E-A094F0D6C8E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A705B3-3614-4211-99EB-BE6672380A1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3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데이터 웨어하우스가 단 한 그룹의 필요성에 의해 윤색되지 않도록 폭넓은 충분한 지원 기반을 갖추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근본적으로 많은 기업 노력들을 지원할 잠재력을 가진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기반 설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프로젝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FE0C-8530-4EA7-80F8-6874FDBF711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39B8CD-F2C1-4A4A-9C5D-A884BE6AFC5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4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의사결정에 개입된 중역들의 개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능력 그리고 스타일을 알고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그들이 어떻게 지식을 습득하고 다른 사람과 어떻게 상호작용을 하는지 알고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무엇이 그들을 지루하게 하고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무엇이 그들을 흥미롭게 하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들의 기분을 상하게 할 것인지 알고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만일 대답이 ‘아니오’라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음 사항들을 고려하는 것이 좋을 것이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최소한 일곱 가지의 중요하고도 뚜렷이 구분되는 지능의 종류 – 부분적으로 탁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F6FF-9DC2-448F-B748-5BD53D1CB06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5D642-1410-4172-86EB-829F62BB520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성의 특성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수석 경영진에게 프리젠테이션을 실시하기전에 제시해야 될 두 가지 질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들은 얼마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외향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가 또는 얼마나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내향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들은 얼마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직관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가 또는 얼마나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체계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네 가지 스타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적 스타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혁신적 스타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현적 스타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진적 스타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2D87-A1BF-46EC-B3BB-5F3B382F6F3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6ED03-80BE-4103-ACB1-209373576B1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5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효과적인 데이터 웨어하우스의 구성요소는 무엇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5-9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참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략적 목표와의 연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 측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 측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기반 설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여러 종류의 내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EE14-8A19-4994-BBCC-7503EA030B6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2424C6-511D-40A3-82D9-5727A164DC6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hapter 5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cc3300"/>
                </a:solidFill>
                <a:latin typeface="Tahoma"/>
                <a:ea typeface="굴림"/>
              </a:rPr>
              <a:t>“</a:t>
            </a:r>
            <a:r>
              <a:rPr b="0" lang="ko-KR" sz="2800" spc="-1" strike="noStrike">
                <a:solidFill>
                  <a:srgbClr val="cc3300"/>
                </a:solidFill>
                <a:latin typeface="Tahoma"/>
                <a:ea typeface="굴림"/>
              </a:rPr>
              <a:t>모든 것이 준비에 달려 있다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의 전에 지금 스스로 질문을 던지고 해답을 전개할 기회를 갖는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질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동안 데이터 웨어하우스에 관하여 일해온 많은 사람들의 경험을 반영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263E-F3DB-4800-917F-EECB210BA62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D1EE46-4005-44ED-BE9E-2096C8224B0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6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단 그들이 필요성에 대해 의견 일치를 보일 경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고 경영진은 당신이 그것을 해낼 수 있다는 것을 어떻게 알 수 있을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중대 시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출을 눈에 보이는 대로 수입 이내로 억제하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융통성 있는 제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공식 데이터의 역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초기 성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7F67-CA83-4261-A002-816831AD2AE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5AB33-B86D-4BA9-8095-E7507409AA8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7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하나의 조직체로서 어떻게 사람들로 하여금 이러한 설비를 새롭고 혁신적으로 사용하도록 교육하고 부추길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는 사람들이 그것을 이용해야 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공적인 데이터 웨어하우스는 지속적인 사용자 개입과 학습을 지원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F84B-FD8A-4D81-93C8-28F7B05C756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250D31-67F7-498D-A74C-2A237F3A0B1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8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슨 무엇이 될 수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종반에는 어떻게 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공동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작업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성취하기 위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경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어야 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효과적인 데이터 웨어하우스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잠재력 이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기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파악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업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관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위한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지지구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5-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혁신과 전달이라는 두 가지 근본적인 업무 활동을 조화시키는 경영시스템을 지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5DF2-6245-4D7F-8F2F-84F64C66B14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0864D8-143F-4045-A2DC-7C9054245A1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의 데이터 웨어하우스 노력은 경영진에 의해 “단순히 또다른 형태의 정보 기술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T)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젝트”로 비칠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아니면 “그들의 기업 전략 중 하나 이상의 부분을 성공적으로 시행할 때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핵심적인 지원 요소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”로 비칠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잠재력의 이해와 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실에 근거한 의사 결정으로 전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제품 및 고객 수익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업 재정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C156-0574-4CD3-82F7-E8E820C964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95131-21B9-4BDA-B566-E0A6CCA6AE2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어떤 기업 추진 계획들을 지원할 수 있는지 어떻게 찾아낼 수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략계획가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예산 작성자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중역 보좌관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처리 재정비 계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자문위원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3C36-6AD0-4870-AB33-4ED3C8A059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936497-B8E9-47F5-B9DD-DB973C9F095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3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왜 데이터 웨어하우스와 동일한 문장에서 “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전략적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”이라는 단어를 쓸 때 주의를 기울어야 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d approach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용 절감이나 수입 증대에 연결시킬 방법을 찾을 수 없으면서 투자를 요구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ood approach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체적이고 이미 합의된 전략적 목적을 달성하는 데 필요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핵심적인 지원 요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또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기반 설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BB00-2418-43BA-9710-3E689FCE7A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08C9EF-6C60-4BD3-AE62-036B36AB067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4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경영진은 당신의 프리젠테이션이 있기 전에 데이터 웨어하우스에 관하여 무엇을 알고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착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dea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는 조심해야 할 </a:t>
            </a:r>
            <a:r>
              <a:rPr b="0" lang="ko-KR" sz="2400" spc="-1" strike="noStrike">
                <a:solidFill>
                  <a:srgbClr val="3333cc"/>
                </a:solidFill>
                <a:latin typeface="Tahoma"/>
                <a:ea typeface="굴림"/>
              </a:rPr>
              <a:t>순환 주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란 무엇인가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경쟁사가 가지고 있으니 우리도 하나 갖추어야 해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아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우리에게도 예전에 그런 것이 하나 있었지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그런데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그것이 효과는 없고 시간과 돈만 낭비했지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경영진은 아이디어의 순환 주기 중 어디에 위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BE99-0774-4B19-A279-AE30DC9131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721CE-B287-4D22-8198-FBFD2C4CF67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5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는 왜 납득시키기 어려운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직체 문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부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/T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자원들이 수직적 연통이 될 경향이 있는 세계에서 펼쳐지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수평적 게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술 문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는 힘과 능력을 부여하는 실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양한 업무 문제점들에 영향을 주도록 도입될 수 있는 내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 및 분석학의 여러 능력으로 구성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기반 설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9FDF-900D-47B3-A54F-BF928F0538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0C0DFA-C9E3-45DC-92C9-C175A1A7778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6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른 사람들은 어떤 종류의 정당화를 이용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 노력에 드는 비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과 보고서 수익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경쟁사가 그것을 하고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모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업무에 관한 공통적인 시각과 이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5-1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간단한 도매 금융업 수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손실 모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B258-8457-4B97-B7AD-52CB40AAB3A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EFBA48-FB28-4BC2-B8FE-F9F5C95F4DE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7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데이터 웨어하우스를 무엇이라고 설명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드웨어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소프트웨어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반 설비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리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내용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아니면 그밖의 다른 무엇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것을 여러 가지 기업 노력들을 지원하는 기반 설비로 생각하는 것이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유익할 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5-2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일관성 있는 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규칙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모델을 제공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759E-2643-4EF2-8F4E-8C205BBEA17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66EF8C-A563-45E2-8EB5-9AC43AD5608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iawei Han</dc:creator>
  <dc:description/>
  <dc:language>en-US</dc:language>
  <cp:lastModifiedBy>박종수</cp:lastModifiedBy>
  <cp:lastPrinted>1999-09-10T20:38:56Z</cp:lastPrinted>
  <dcterms:modified xsi:type="dcterms:W3CDTF">2001-04-10T05:36:11Z</dcterms:modified>
  <cp:revision>219</cp:revision>
  <dc:subject/>
  <dc:title>No Slide Title</dc:title>
</cp:coreProperties>
</file>