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8AB-A827-47F2-87EA-E25E5F39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2E4A-51D3-44CC-8769-0ADF8665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E4D-1857-4072-BCED-43756348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1E5-C2CB-4E6E-BAEA-BAD9D358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24A1-3D64-468E-AD72-9E241818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6F8A-5125-42D9-A091-1DA053DA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C5F9-60C4-43C5-BD83-D5D2CAD0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B261-65BF-41AB-ABCE-BF037EA0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2008-5AF6-4F14-B142-45D2FA93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992C-0B18-42F6-81EA-FFD277DE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1170-CBA3-428B-9D96-FBCDFD01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327-C0C8-4CFA-A721-1ABC2F6F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63D6-D371-4328-A0D5-D4415BE5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50D5-2CFD-4AEA-B69B-CBDB275B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D3CB-06C5-458E-8675-BB3F8492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7DBB-6D85-4BC4-B7BF-A05B2101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4232-07D1-4EB0-840D-EEEAB673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384-2112-4963-8483-DAB14D0E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004-EF1F-4D96-9C46-6ADF5731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90E-3E7F-4335-89DD-F6F84FF6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536-1504-436E-B791-1E9CD2BD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B7C-ED9B-4417-A4ED-FF5CBF35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D2C-A3B7-4F56-9F29-ED245662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198-7F47-4B73-8584-73AB218E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C236-095D-4603-9042-7941609B4595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86BA-2504-45DA-8197-073137CD9DA1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8FED-6BAB-414B-8F13-B09D512D01A2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BDAF-8459-4681-B4E2-238E2079D202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0A8-466D-4F93-A102-84EE14D2D3B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41235-1A40-4464-8CEB-8064D2781B6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1582-2D4B-4764-B015-A1FF195945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16227-6D56-40F5-AE4D-CF0A48AA1FE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B757-C823-47D6-BF9C-6C56F316E8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04290-1DEC-43F3-8CC2-9D170662DDA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1C9-C144-4568-B6EC-3715840760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684BB-C466-4E0F-8F39-F0B9294A4C1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885-CBAB-4C30-9107-3BDE245B6B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6421C-4030-4BB3-B383-69C3F6C83BF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07C-E346-4254-9D7B-AFC19FBCB7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4628D-1C27-4E26-994C-B361FB03DA7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E30-6C64-453A-98CC-E9BCA992DA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F4581-DDA8-42C0-9AEB-D6405E40EB2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61D-A999-4807-9E84-D749F1F7F1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98958-8B53-4526-AEF7-AE136832869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0AF-A775-4B33-9BA0-F4122319E9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6986A-8E88-4359-AB7B-ACFD5D28996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BEE-D195-4479-91A6-54ACA1A0E6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120B1-7E41-43FA-9DE4-CCDD06D81AB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5EB-10BC-47EF-8465-6FAE427265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1AE3B-79F4-441F-9F24-0409D7A96F6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9C3-5A6B-4051-96E2-D793A90976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7C01F-83D0-40B1-B3BF-927C0DFC49C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926-828F-4528-922B-37AE8A4964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6373F-E054-4863-81AF-6F32FB5BC0C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69C-B7F7-4BBE-BD6B-77E2B61EB7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133C6-0931-4B91-AD08-112A3DA5CEC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5:22:52Z</dcterms:modified>
  <cp:revision>237</cp:revision>
  <dc:subject/>
  <dc:title>제6장 데이터 웨어하우스의 관리</dc:title>
</cp:coreProperties>
</file>