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408-BD32-4548-BC78-D1B26BE4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422-B83E-4AFD-84BC-4AC9A750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65F-DFA3-4F4F-99B0-69177EE5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BCE-864E-4837-9158-A982D3D0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2A28-D25A-4CB3-AD79-68300A21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9C75-0277-42E3-9CD1-521F54D4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ACC5-ECD5-4811-A421-05994FA3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65DF-E7DE-4CE6-BBAA-8ECC3916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0551-7D52-40DB-BD27-6C46C790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8EC1-DD71-4807-B227-1B757E4C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87A9-59F6-4025-BBFC-D05DFB5D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D58-625F-4BFB-A8A2-2347C0CF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37B5-9ACE-4D4E-85F0-1516876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8F19-E6D2-4121-8DEC-316BA795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1469-F517-4DEA-A12F-3DCB0D2F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5774-DF73-4B13-B182-E5BB887A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834F-89A5-498D-9AF7-8E78BA8F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72D-0BF8-4D31-9770-42483F14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52D-A012-45E6-97D5-EF605DC4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F18-80E3-42C0-B0E9-29100DD5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BF9-D047-4ABD-B1FE-CC475F78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DA6-0BCC-4493-9E93-A56DF436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273-DE60-4568-B0D6-CDA77D9B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02C-BDD9-461B-8419-1B884E3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C095-5732-4BC2-9A0E-DCB829621F8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D80D-8CAC-4008-8BC0-D5EF8601EA06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8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켓팅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5DA-3D3D-4425-BD52-7F3F33AEB18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정제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필수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는 정제된 데이터가 이미 존재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091-DF24-4613-AA2B-1940C5848C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이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도구를 이용해 분석하는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56 – 158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52E-31CB-4204-B3C2-672C333926F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수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 작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트레이닝 셑과 테스트 셑을 결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적용과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ernal evaluation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와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를 적용해보고 그 결과를 분석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125-F016-43B9-A3C3-0F60D18B96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 모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edic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fication: decis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p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관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ociation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C3F-BE65-48DE-8E3F-624AF6250E7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ecision tre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에 의한 데이터 마이닝 분석의 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oot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불만 신고에 의해서 해지자를 먼저 고른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al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체 회수를 가지고 나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결정하는 방법이 중요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결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6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Rul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흰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검정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299-EAE1-4A50-92FB-69F638CFF9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할 때 고려 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험적인 규칙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수많은 시행착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발견 후에도 끊임없이 결과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는 쉬운 것이 아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통계적 분석에 경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장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과 확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 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정 분야를 중심으로 확산 예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손쉬운 도구의 활성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890-31ED-47FA-854B-F757D0CF129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현실화한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M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B37-769D-4A9B-8FD4-259CC772FD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학적인 경영기법을 도입하려는 시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Market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 이미 활용되고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 마케팅 접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고객 개인과의 관계를 중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1:1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fe time valu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최대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 유지 마케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tention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이탈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ction rat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443-AC9B-4ADA-8EC5-D38079542E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의 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적 방식과 프로그램을 개발하는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결과에 오차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시에 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여 다양한 분석을 다차원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는 비정형화된 분석에 매우 강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를 가지므로 즉시 데이터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A90-1181-4B18-83A7-F02A44AFDD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위한 데이터 웨어하우스 기본 구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47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OLAP, MOLAP, 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M, D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 OD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굴림"/>
              </a:rPr>
              <a:t>(feed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화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카드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신 회사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LA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F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귀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세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0/20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ID(Chi-square Automatic Interaction Detector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 수식이 주어지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즉시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358-3F5A-4515-9724-A13937BE7B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에 관한 정보를 체계적으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로부터 원하는 정보를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하여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필요한 데이터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고객과 관련 데이터를 이용하여 효과적인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M/D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실시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케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팅 결과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관리함으로써 장기적인 마케팅 의사결정을 지원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22C-96BA-4992-A5DB-C6B3CADB97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단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위한 최적의 시스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의 요구가 고객 관리에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이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분야에서 데이터의 상관관계를 분석하여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비즈니스에 유용한 법칙을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는 고객 데이터 내용을 잘 알아야 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성향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지 고객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용카드의 위조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ud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9AD-5B1B-4309-A1C1-3A05985D96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M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상관 관계를 분석하여 미래 예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환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가 광범위하게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상에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을 이용하여 복잡한 데이터 분석 요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 난이도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siness Pay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소규모의 투자로도 많고 빠른 효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분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로 데이터베이스 마케팅 분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신회사의 해지자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유통 업체의 장바구니 분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rket baske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용 카드 회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aud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일반 회사의 광고 효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제품 개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고객 성향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3D8-1E46-43E8-8287-512D37A507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에 대한 </a:t>
            </a:r>
            <a:r>
              <a:rPr b="0" lang="ko-KR" sz="3600" spc="-1" strike="noStrike">
                <a:solidFill>
                  <a:srgbClr val="ff0000"/>
                </a:solidFill>
                <a:latin typeface="Tahoma"/>
                <a:ea typeface="굴림"/>
              </a:rPr>
              <a:t>잘못된 인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를 사용하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자동적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비즈니스의 법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ul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발견하고 즉각적으로 활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누구나 데이터 마이닝 도구만 있으면 데이터 마이닝을 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통계와 다른 인공지능 기법을 이용한 새로운 기술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를 변환하지 않고 즉각적으로 분석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에는 별도의 하드웨어가 필요없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만으로도 가능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B0F-9E16-48BB-B4FD-0835EE211D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0T06:03:39Z</dcterms:modified>
  <cp:revision>253</cp:revision>
  <dc:subject/>
  <dc:title>제6장 데이터 웨어하우스의 관리</dc:title>
</cp:coreProperties>
</file>